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80CE-0C75-4CA6-8875-E4141A83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09600"/>
            <a:ext cx="82296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42EB-1B30-4BA4-81C7-F92D4FA2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09600"/>
            <a:ext cx="40158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09600"/>
            <a:ext cx="40158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0558-F939-4DE5-9D4F-4E0D08C72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09600"/>
            <a:ext cx="26496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09600"/>
            <a:ext cx="26496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09600"/>
            <a:ext cx="26496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5673-F87A-4AF0-B76F-F183B40F7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7897-B450-48A6-A6F8-2E408C3B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11AC-46B4-4692-ABEB-06628E30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B4F6-E340-4507-858A-AA61FF85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072A-DEFF-4777-B58D-2C84A670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53CD-8108-4E3E-896D-3C8C0CE0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09600"/>
            <a:ext cx="40158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46DF-3C15-45A3-9C1C-4ECD3696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09600"/>
            <a:ext cx="40158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B40E-9792-4DDB-8259-38ABE618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09600"/>
            <a:ext cx="82296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398E-D81C-4317-9869-1D797FAC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8"/>
          <p:cNvSpPr/>
          <p:nvPr/>
        </p:nvSpPr>
        <p:spPr>
          <a:xfrm>
            <a:off x="0" y="484200"/>
            <a:ext cx="0" cy="6369120"/>
          </a:xfrm>
          <a:prstGeom prst="line">
            <a:avLst/>
          </a:prstGeom>
          <a:ln w="9360">
            <a:solidFill>
              <a:srgbClr val="0e2fa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" name="Line 29"/>
          <p:cNvSpPr/>
          <p:nvPr/>
        </p:nvSpPr>
        <p:spPr>
          <a:xfrm>
            <a:off x="5505480" y="2100240"/>
            <a:ext cx="1440" cy="1440"/>
          </a:xfrm>
          <a:prstGeom prst="line">
            <a:avLst/>
          </a:prstGeom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" name="Line 30"/>
          <p:cNvSpPr/>
          <p:nvPr/>
        </p:nvSpPr>
        <p:spPr>
          <a:xfrm>
            <a:off x="3706920" y="2479680"/>
            <a:ext cx="1440" cy="1440"/>
          </a:xfrm>
          <a:prstGeom prst="line">
            <a:avLst/>
          </a:prstGeom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" name="Line 44"/>
          <p:cNvSpPr/>
          <p:nvPr/>
        </p:nvSpPr>
        <p:spPr>
          <a:xfrm>
            <a:off x="0" y="488880"/>
            <a:ext cx="0" cy="6369120"/>
          </a:xfrm>
          <a:prstGeom prst="line">
            <a:avLst/>
          </a:prstGeom>
          <a:ln w="9360">
            <a:solidFill>
              <a:srgbClr val="0e2fa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" name="Line 45"/>
          <p:cNvSpPr/>
          <p:nvPr/>
        </p:nvSpPr>
        <p:spPr>
          <a:xfrm>
            <a:off x="5505480" y="2104920"/>
            <a:ext cx="1440" cy="1800"/>
          </a:xfrm>
          <a:prstGeom prst="line">
            <a:avLst/>
          </a:prstGeom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" name="Line 46"/>
          <p:cNvSpPr/>
          <p:nvPr/>
        </p:nvSpPr>
        <p:spPr>
          <a:xfrm>
            <a:off x="3706920" y="2484360"/>
            <a:ext cx="1440" cy="1800"/>
          </a:xfrm>
          <a:prstGeom prst="line">
            <a:avLst/>
          </a:prstGeom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" name="Rectangle 4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89fc9"/>
              </a:gs>
              <a:gs pos="100000">
                <a:srgbClr val="2168a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" name="Freeform 48"/>
          <p:cNvSpPr/>
          <p:nvPr/>
        </p:nvSpPr>
        <p:spPr>
          <a:xfrm>
            <a:off x="0" y="0"/>
            <a:ext cx="8618400" cy="6896160"/>
          </a:xfrm>
          <a:custGeom>
            <a:avLst/>
            <a:gdLst>
              <a:gd name="textAreaLeft" fmla="*/ 0 w 8618400"/>
              <a:gd name="textAreaRight" fmla="*/ 8618760 w 8618400"/>
              <a:gd name="textAreaTop" fmla="*/ 0 h 6896160"/>
              <a:gd name="textAreaBottom" fmla="*/ 6896520 h 6896160"/>
            </a:gdLst>
            <a:ahLst/>
            <a:rect l="textAreaLeft" t="textAreaTop" r="textAreaRight" b="textAreaBottom"/>
            <a:pathLst>
              <a:path w="5429" h="4344">
                <a:moveTo>
                  <a:pt x="5429" y="8"/>
                </a:moveTo>
                <a:cubicBezTo>
                  <a:pt x="4724" y="1428"/>
                  <a:pt x="2056" y="3662"/>
                  <a:pt x="7" y="4344"/>
                </a:cubicBezTo>
                <a:cubicBezTo>
                  <a:pt x="0" y="3575"/>
                  <a:pt x="15" y="1203"/>
                  <a:pt x="7" y="3"/>
                </a:cubicBezTo>
                <a:cubicBezTo>
                  <a:pt x="1079" y="3"/>
                  <a:pt x="4559" y="0"/>
                  <a:pt x="5429" y="8"/>
                </a:cubicBezTo>
                <a:close/>
              </a:path>
            </a:pathLst>
          </a:custGeom>
          <a:gradFill rotWithShape="0">
            <a:gsLst>
              <a:gs pos="0">
                <a:srgbClr val="0060b6"/>
              </a:gs>
              <a:gs pos="100000">
                <a:srgbClr val="0037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" name="Freeform 49"/>
          <p:cNvSpPr/>
          <p:nvPr/>
        </p:nvSpPr>
        <p:spPr>
          <a:xfrm>
            <a:off x="3240" y="-33480"/>
            <a:ext cx="9129600" cy="6923160"/>
          </a:xfrm>
          <a:custGeom>
            <a:avLst/>
            <a:gdLst>
              <a:gd name="textAreaLeft" fmla="*/ 0 w 9129600"/>
              <a:gd name="textAreaRight" fmla="*/ 9129960 w 9129600"/>
              <a:gd name="textAreaTop" fmla="*/ 0 h 6923160"/>
              <a:gd name="textAreaBottom" fmla="*/ 6923520 h 6923160"/>
            </a:gdLst>
            <a:ahLst/>
            <a:rect l="textAreaLeft" t="textAreaTop" r="textAreaRight" b="textAreaBottom"/>
            <a:pathLst>
              <a:path w="5751" h="4361">
                <a:moveTo>
                  <a:pt x="7" y="15"/>
                </a:moveTo>
                <a:cubicBezTo>
                  <a:pt x="403" y="15"/>
                  <a:pt x="1330" y="0"/>
                  <a:pt x="2229" y="7"/>
                </a:cubicBezTo>
                <a:cubicBezTo>
                  <a:pt x="3047" y="739"/>
                  <a:pt x="5126" y="3070"/>
                  <a:pt x="5751" y="4353"/>
                </a:cubicBezTo>
                <a:cubicBezTo>
                  <a:pt x="5046" y="4361"/>
                  <a:pt x="1128" y="4345"/>
                  <a:pt x="7" y="4345"/>
                </a:cubicBezTo>
                <a:cubicBezTo>
                  <a:pt x="7" y="3176"/>
                  <a:pt x="0" y="964"/>
                  <a:pt x="7" y="15"/>
                </a:cubicBezTo>
                <a:close/>
              </a:path>
            </a:pathLst>
          </a:custGeom>
          <a:gradFill rotWithShape="0">
            <a:gsLst>
              <a:gs pos="0">
                <a:srgbClr val="0060b6"/>
              </a:gs>
              <a:gs pos="100000">
                <a:srgbClr val="0037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grpSp>
        <p:nvGrpSpPr>
          <p:cNvPr id="9" name="Group 50"/>
          <p:cNvGrpSpPr/>
          <p:nvPr/>
        </p:nvGrpSpPr>
        <p:grpSpPr>
          <a:xfrm>
            <a:off x="0" y="1495440"/>
            <a:ext cx="9143640" cy="4276800"/>
            <a:chOff x="0" y="1495440"/>
            <a:chExt cx="9143640" cy="4276800"/>
          </a:xfrm>
        </p:grpSpPr>
        <p:sp>
          <p:nvSpPr>
            <p:cNvPr id="10" name="Freeform 51"/>
            <p:cNvSpPr/>
            <p:nvPr/>
          </p:nvSpPr>
          <p:spPr>
            <a:xfrm>
              <a:off x="15840" y="1495440"/>
              <a:ext cx="9127800" cy="3133800"/>
            </a:xfrm>
            <a:custGeom>
              <a:avLst/>
              <a:gdLst>
                <a:gd name="textAreaLeft" fmla="*/ 0 w 9127800"/>
                <a:gd name="textAreaRight" fmla="*/ 9128160 w 9127800"/>
                <a:gd name="textAreaTop" fmla="*/ 0 h 3133800"/>
                <a:gd name="textAreaBottom" fmla="*/ 3134160 h 3133800"/>
              </a:gdLst>
              <a:ahLst/>
              <a:rect l="textAreaLeft" t="textAreaTop" r="textAreaRight" b="textAreaBottom"/>
              <a:pathLst>
                <a:path w="6261" h="1974">
                  <a:moveTo>
                    <a:pt x="0" y="1182"/>
                  </a:moveTo>
                  <a:cubicBezTo>
                    <a:pt x="1417" y="0"/>
                    <a:pt x="2288" y="691"/>
                    <a:pt x="3145" y="1190"/>
                  </a:cubicBezTo>
                  <a:cubicBezTo>
                    <a:pt x="4002" y="1689"/>
                    <a:pt x="4824" y="1974"/>
                    <a:pt x="6261" y="465"/>
                  </a:cubicBezTo>
                </a:path>
              </a:pathLst>
            </a:custGeom>
            <a:noFill/>
            <a:ln w="11160">
              <a:solidFill>
                <a:srgbClr val="ffffff">
                  <a:alpha val="41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1" name="Freeform 52"/>
            <p:cNvSpPr/>
            <p:nvPr/>
          </p:nvSpPr>
          <p:spPr>
            <a:xfrm>
              <a:off x="15840" y="1647720"/>
              <a:ext cx="9127800" cy="3133800"/>
            </a:xfrm>
            <a:custGeom>
              <a:avLst/>
              <a:gdLst>
                <a:gd name="textAreaLeft" fmla="*/ 0 w 9127800"/>
                <a:gd name="textAreaRight" fmla="*/ 9128160 w 9127800"/>
                <a:gd name="textAreaTop" fmla="*/ 0 h 3133800"/>
                <a:gd name="textAreaBottom" fmla="*/ 3134160 h 3133800"/>
              </a:gdLst>
              <a:ahLst/>
              <a:rect l="textAreaLeft" t="textAreaTop" r="textAreaRight" b="textAreaBottom"/>
              <a:pathLst>
                <a:path w="6261" h="1974">
                  <a:moveTo>
                    <a:pt x="0" y="1182"/>
                  </a:moveTo>
                  <a:cubicBezTo>
                    <a:pt x="1417" y="0"/>
                    <a:pt x="2288" y="691"/>
                    <a:pt x="3145" y="1190"/>
                  </a:cubicBezTo>
                  <a:cubicBezTo>
                    <a:pt x="4002" y="1689"/>
                    <a:pt x="4824" y="1974"/>
                    <a:pt x="6261" y="465"/>
                  </a:cubicBezTo>
                </a:path>
              </a:pathLst>
            </a:custGeom>
            <a:noFill/>
            <a:ln w="11160">
              <a:solidFill>
                <a:srgbClr val="ffffff">
                  <a:alpha val="41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2" name="Freeform 53"/>
            <p:cNvSpPr/>
            <p:nvPr/>
          </p:nvSpPr>
          <p:spPr>
            <a:xfrm>
              <a:off x="15840" y="1833480"/>
              <a:ext cx="9127800" cy="3133800"/>
            </a:xfrm>
            <a:custGeom>
              <a:avLst/>
              <a:gdLst>
                <a:gd name="textAreaLeft" fmla="*/ 0 w 9127800"/>
                <a:gd name="textAreaRight" fmla="*/ 9128160 w 9127800"/>
                <a:gd name="textAreaTop" fmla="*/ 0 h 3133800"/>
                <a:gd name="textAreaBottom" fmla="*/ 3134160 h 3133800"/>
              </a:gdLst>
              <a:ahLst/>
              <a:rect l="textAreaLeft" t="textAreaTop" r="textAreaRight" b="textAreaBottom"/>
              <a:pathLst>
                <a:path w="6261" h="1974">
                  <a:moveTo>
                    <a:pt x="0" y="1182"/>
                  </a:moveTo>
                  <a:cubicBezTo>
                    <a:pt x="1417" y="0"/>
                    <a:pt x="2288" y="691"/>
                    <a:pt x="3145" y="1190"/>
                  </a:cubicBezTo>
                  <a:cubicBezTo>
                    <a:pt x="4002" y="1689"/>
                    <a:pt x="4824" y="1974"/>
                    <a:pt x="6261" y="465"/>
                  </a:cubicBezTo>
                </a:path>
              </a:pathLst>
            </a:custGeom>
            <a:noFill/>
            <a:ln w="11160">
              <a:solidFill>
                <a:srgbClr val="ffffff">
                  <a:alpha val="41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3" name="Freeform 54"/>
            <p:cNvSpPr/>
            <p:nvPr/>
          </p:nvSpPr>
          <p:spPr>
            <a:xfrm>
              <a:off x="15840" y="2028960"/>
              <a:ext cx="9127800" cy="3133440"/>
            </a:xfrm>
            <a:custGeom>
              <a:avLst/>
              <a:gdLst>
                <a:gd name="textAreaLeft" fmla="*/ 0 w 9127800"/>
                <a:gd name="textAreaRight" fmla="*/ 9128160 w 9127800"/>
                <a:gd name="textAreaTop" fmla="*/ 0 h 3133440"/>
                <a:gd name="textAreaBottom" fmla="*/ 3133800 h 3133440"/>
              </a:gdLst>
              <a:ahLst/>
              <a:rect l="textAreaLeft" t="textAreaTop" r="textAreaRight" b="textAreaBottom"/>
              <a:pathLst>
                <a:path w="6261" h="1974">
                  <a:moveTo>
                    <a:pt x="0" y="1182"/>
                  </a:moveTo>
                  <a:cubicBezTo>
                    <a:pt x="1417" y="0"/>
                    <a:pt x="2288" y="691"/>
                    <a:pt x="3145" y="1190"/>
                  </a:cubicBezTo>
                  <a:cubicBezTo>
                    <a:pt x="4002" y="1689"/>
                    <a:pt x="4824" y="1974"/>
                    <a:pt x="6261" y="465"/>
                  </a:cubicBezTo>
                </a:path>
              </a:pathLst>
            </a:custGeom>
            <a:noFill/>
            <a:ln w="11160">
              <a:solidFill>
                <a:srgbClr val="ffffff">
                  <a:alpha val="41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4" name="Freeform 55"/>
            <p:cNvSpPr/>
            <p:nvPr/>
          </p:nvSpPr>
          <p:spPr>
            <a:xfrm>
              <a:off x="15840" y="2181240"/>
              <a:ext cx="9127800" cy="3133800"/>
            </a:xfrm>
            <a:custGeom>
              <a:avLst/>
              <a:gdLst>
                <a:gd name="textAreaLeft" fmla="*/ 0 w 9127800"/>
                <a:gd name="textAreaRight" fmla="*/ 9128160 w 9127800"/>
                <a:gd name="textAreaTop" fmla="*/ 0 h 3133800"/>
                <a:gd name="textAreaBottom" fmla="*/ 3134160 h 3133800"/>
              </a:gdLst>
              <a:ahLst/>
              <a:rect l="textAreaLeft" t="textAreaTop" r="textAreaRight" b="textAreaBottom"/>
              <a:pathLst>
                <a:path w="6261" h="1974">
                  <a:moveTo>
                    <a:pt x="0" y="1182"/>
                  </a:moveTo>
                  <a:cubicBezTo>
                    <a:pt x="1417" y="0"/>
                    <a:pt x="2288" y="691"/>
                    <a:pt x="3145" y="1190"/>
                  </a:cubicBezTo>
                  <a:cubicBezTo>
                    <a:pt x="4002" y="1689"/>
                    <a:pt x="4824" y="1974"/>
                    <a:pt x="6261" y="465"/>
                  </a:cubicBezTo>
                </a:path>
              </a:pathLst>
            </a:custGeom>
            <a:noFill/>
            <a:ln w="11160">
              <a:solidFill>
                <a:srgbClr val="ffffff">
                  <a:alpha val="41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5" name="Freeform 56"/>
            <p:cNvSpPr/>
            <p:nvPr/>
          </p:nvSpPr>
          <p:spPr>
            <a:xfrm>
              <a:off x="15840" y="2333520"/>
              <a:ext cx="9127800" cy="3133800"/>
            </a:xfrm>
            <a:custGeom>
              <a:avLst/>
              <a:gdLst>
                <a:gd name="textAreaLeft" fmla="*/ 0 w 9127800"/>
                <a:gd name="textAreaRight" fmla="*/ 9128160 w 9127800"/>
                <a:gd name="textAreaTop" fmla="*/ 0 h 3133800"/>
                <a:gd name="textAreaBottom" fmla="*/ 3134160 h 3133800"/>
              </a:gdLst>
              <a:ahLst/>
              <a:rect l="textAreaLeft" t="textAreaTop" r="textAreaRight" b="textAreaBottom"/>
              <a:pathLst>
                <a:path w="6261" h="1974">
                  <a:moveTo>
                    <a:pt x="0" y="1182"/>
                  </a:moveTo>
                  <a:cubicBezTo>
                    <a:pt x="1417" y="0"/>
                    <a:pt x="2288" y="691"/>
                    <a:pt x="3145" y="1190"/>
                  </a:cubicBezTo>
                  <a:cubicBezTo>
                    <a:pt x="4002" y="1689"/>
                    <a:pt x="4824" y="1974"/>
                    <a:pt x="6261" y="465"/>
                  </a:cubicBezTo>
                </a:path>
              </a:pathLst>
            </a:custGeom>
            <a:noFill/>
            <a:ln w="11160">
              <a:solidFill>
                <a:srgbClr val="ffffff">
                  <a:alpha val="41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6" name="Freeform 57"/>
            <p:cNvSpPr/>
            <p:nvPr/>
          </p:nvSpPr>
          <p:spPr>
            <a:xfrm>
              <a:off x="0" y="2486160"/>
              <a:ext cx="9127800" cy="3133440"/>
            </a:xfrm>
            <a:custGeom>
              <a:avLst/>
              <a:gdLst>
                <a:gd name="textAreaLeft" fmla="*/ 0 w 9127800"/>
                <a:gd name="textAreaRight" fmla="*/ 9128160 w 9127800"/>
                <a:gd name="textAreaTop" fmla="*/ 0 h 3133440"/>
                <a:gd name="textAreaBottom" fmla="*/ 3133800 h 3133440"/>
              </a:gdLst>
              <a:ahLst/>
              <a:rect l="textAreaLeft" t="textAreaTop" r="textAreaRight" b="textAreaBottom"/>
              <a:pathLst>
                <a:path w="6261" h="1974">
                  <a:moveTo>
                    <a:pt x="0" y="1182"/>
                  </a:moveTo>
                  <a:cubicBezTo>
                    <a:pt x="1417" y="0"/>
                    <a:pt x="2288" y="691"/>
                    <a:pt x="3145" y="1190"/>
                  </a:cubicBezTo>
                  <a:cubicBezTo>
                    <a:pt x="4002" y="1689"/>
                    <a:pt x="4824" y="1974"/>
                    <a:pt x="6261" y="465"/>
                  </a:cubicBezTo>
                </a:path>
              </a:pathLst>
            </a:custGeom>
            <a:noFill/>
            <a:ln w="11160">
              <a:solidFill>
                <a:srgbClr val="ffffff">
                  <a:alpha val="41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7" name="Freeform 58"/>
            <p:cNvSpPr/>
            <p:nvPr/>
          </p:nvSpPr>
          <p:spPr>
            <a:xfrm>
              <a:off x="0" y="2638440"/>
              <a:ext cx="9127800" cy="3133800"/>
            </a:xfrm>
            <a:custGeom>
              <a:avLst/>
              <a:gdLst>
                <a:gd name="textAreaLeft" fmla="*/ 0 w 9127800"/>
                <a:gd name="textAreaRight" fmla="*/ 9128160 w 9127800"/>
                <a:gd name="textAreaTop" fmla="*/ 0 h 3133800"/>
                <a:gd name="textAreaBottom" fmla="*/ 3134160 h 3133800"/>
              </a:gdLst>
              <a:ahLst/>
              <a:rect l="textAreaLeft" t="textAreaTop" r="textAreaRight" b="textAreaBottom"/>
              <a:pathLst>
                <a:path w="6261" h="1974">
                  <a:moveTo>
                    <a:pt x="0" y="1182"/>
                  </a:moveTo>
                  <a:cubicBezTo>
                    <a:pt x="1417" y="0"/>
                    <a:pt x="2288" y="691"/>
                    <a:pt x="3145" y="1190"/>
                  </a:cubicBezTo>
                  <a:cubicBezTo>
                    <a:pt x="4002" y="1689"/>
                    <a:pt x="4824" y="1974"/>
                    <a:pt x="6261" y="465"/>
                  </a:cubicBezTo>
                </a:path>
              </a:pathLst>
            </a:custGeom>
            <a:noFill/>
            <a:ln w="11160">
              <a:solidFill>
                <a:srgbClr val="ffffff">
                  <a:alpha val="41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sp>
        <p:nvSpPr>
          <p:cNvPr id="18" name="Rectangle 5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3cce6"/>
              </a:gs>
              <a:gs pos="100000">
                <a:srgbClr val="ecf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e2fa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e2fad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e2fad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e2fad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e2fad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e2fad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e2fad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e2fad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e2fa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BE63-A584-4D07-9521-7A883644E05F}" type="slidenum">
              <a:rPr b="0" lang="zh-CN" sz="1400" spc="-1" strike="noStrike">
                <a:solidFill>
                  <a:srgbClr val="0e2fa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66"/>
          <p:cNvGrpSpPr/>
          <p:nvPr/>
        </p:nvGrpSpPr>
        <p:grpSpPr>
          <a:xfrm>
            <a:off x="0" y="-33480"/>
            <a:ext cx="9144000" cy="6929280"/>
            <a:chOff x="0" y="-33480"/>
            <a:chExt cx="9144000" cy="6929280"/>
          </a:xfrm>
        </p:grpSpPr>
        <p:sp>
          <p:nvSpPr>
            <p:cNvPr id="61" name="Line 43"/>
            <p:cNvSpPr/>
            <p:nvPr/>
          </p:nvSpPr>
          <p:spPr>
            <a:xfrm>
              <a:off x="0" y="488880"/>
              <a:ext cx="1440" cy="6369120"/>
            </a:xfrm>
            <a:prstGeom prst="line">
              <a:avLst/>
            </a:prstGeom>
            <a:ln w="9360">
              <a:solidFill>
                <a:srgbClr val="0e2fa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62" name="Line 46"/>
            <p:cNvSpPr/>
            <p:nvPr/>
          </p:nvSpPr>
          <p:spPr>
            <a:xfrm>
              <a:off x="5505480" y="21049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63" name="Line 47"/>
            <p:cNvSpPr/>
            <p:nvPr/>
          </p:nvSpPr>
          <p:spPr>
            <a:xfrm>
              <a:off x="3706920" y="24843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64" name="Rectangle 5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389fc9"/>
                </a:gs>
                <a:gs pos="100000">
                  <a:srgbClr val="2168a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65" name="Freeform 55"/>
            <p:cNvSpPr/>
            <p:nvPr/>
          </p:nvSpPr>
          <p:spPr>
            <a:xfrm>
              <a:off x="0" y="0"/>
              <a:ext cx="8618400" cy="6895800"/>
            </a:xfrm>
            <a:custGeom>
              <a:avLst/>
              <a:gdLst>
                <a:gd name="textAreaLeft" fmla="*/ 0 w 8618400"/>
                <a:gd name="textAreaRight" fmla="*/ 8618760 w 8618400"/>
                <a:gd name="textAreaTop" fmla="*/ 0 h 6895800"/>
                <a:gd name="textAreaBottom" fmla="*/ 6896160 h 6895800"/>
              </a:gdLst>
              <a:ahLst/>
              <a:rect l="textAreaLeft" t="textAreaTop" r="textAreaRight" b="textAreaBottom"/>
              <a:pathLst>
                <a:path w="5429" h="4344">
                  <a:moveTo>
                    <a:pt x="5429" y="8"/>
                  </a:moveTo>
                  <a:cubicBezTo>
                    <a:pt x="4724" y="1428"/>
                    <a:pt x="2056" y="3662"/>
                    <a:pt x="7" y="4344"/>
                  </a:cubicBezTo>
                  <a:cubicBezTo>
                    <a:pt x="0" y="3575"/>
                    <a:pt x="15" y="1203"/>
                    <a:pt x="7" y="3"/>
                  </a:cubicBezTo>
                  <a:cubicBezTo>
                    <a:pt x="1079" y="3"/>
                    <a:pt x="4559" y="0"/>
                    <a:pt x="5429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0b6"/>
                </a:gs>
                <a:gs pos="100000">
                  <a:srgbClr val="0037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66" name="Freeform 56"/>
            <p:cNvSpPr/>
            <p:nvPr/>
          </p:nvSpPr>
          <p:spPr>
            <a:xfrm>
              <a:off x="3240" y="-33480"/>
              <a:ext cx="9129600" cy="6923160"/>
            </a:xfrm>
            <a:custGeom>
              <a:avLst/>
              <a:gdLst>
                <a:gd name="textAreaLeft" fmla="*/ 0 w 9129600"/>
                <a:gd name="textAreaRight" fmla="*/ 9129960 w 9129600"/>
                <a:gd name="textAreaTop" fmla="*/ 0 h 6923160"/>
                <a:gd name="textAreaBottom" fmla="*/ 6923520 h 6923160"/>
              </a:gdLst>
              <a:ahLst/>
              <a:rect l="textAreaLeft" t="textAreaTop" r="textAreaRight" b="textAreaBottom"/>
              <a:pathLst>
                <a:path w="5751" h="4361">
                  <a:moveTo>
                    <a:pt x="7" y="15"/>
                  </a:moveTo>
                  <a:cubicBezTo>
                    <a:pt x="403" y="15"/>
                    <a:pt x="1330" y="0"/>
                    <a:pt x="2229" y="7"/>
                  </a:cubicBezTo>
                  <a:cubicBezTo>
                    <a:pt x="3047" y="739"/>
                    <a:pt x="5126" y="3070"/>
                    <a:pt x="5751" y="4353"/>
                  </a:cubicBezTo>
                  <a:cubicBezTo>
                    <a:pt x="5046" y="4361"/>
                    <a:pt x="1128" y="4345"/>
                    <a:pt x="7" y="4345"/>
                  </a:cubicBezTo>
                  <a:cubicBezTo>
                    <a:pt x="7" y="3176"/>
                    <a:pt x="0" y="964"/>
                    <a:pt x="7" y="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0b6"/>
                </a:gs>
                <a:gs pos="100000">
                  <a:srgbClr val="0037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grpSp>
          <p:nvGrpSpPr>
            <p:cNvPr id="67" name="Group 57"/>
            <p:cNvGrpSpPr/>
            <p:nvPr/>
          </p:nvGrpSpPr>
          <p:grpSpPr>
            <a:xfrm>
              <a:off x="19080" y="1495440"/>
              <a:ext cx="9124560" cy="4276080"/>
              <a:chOff x="19080" y="1495440"/>
              <a:chExt cx="9124560" cy="4276080"/>
            </a:xfrm>
          </p:grpSpPr>
          <p:sp>
            <p:nvSpPr>
              <p:cNvPr id="68" name="Freeform 58"/>
              <p:cNvSpPr/>
              <p:nvPr/>
            </p:nvSpPr>
            <p:spPr>
              <a:xfrm>
                <a:off x="34920" y="1495440"/>
                <a:ext cx="9108720" cy="3133440"/>
              </a:xfrm>
              <a:custGeom>
                <a:avLst/>
                <a:gdLst>
                  <a:gd name="textAreaLeft" fmla="*/ 0 w 9108720"/>
                  <a:gd name="textAreaRight" fmla="*/ 9109080 w 9108720"/>
                  <a:gd name="textAreaTop" fmla="*/ 0 h 3133440"/>
                  <a:gd name="textAreaBottom" fmla="*/ 3133800 h 3133440"/>
                </a:gdLst>
                <a:ahLst/>
                <a:rect l="textAreaLeft" t="textAreaTop" r="textAreaRight" b="textAreaBottom"/>
                <a:pathLst>
                  <a:path w="6261" h="1974">
                    <a:moveTo>
                      <a:pt x="0" y="1182"/>
                    </a:moveTo>
                    <a:cubicBezTo>
                      <a:pt x="1417" y="0"/>
                      <a:pt x="2288" y="691"/>
                      <a:pt x="3145" y="1190"/>
                    </a:cubicBezTo>
                    <a:cubicBezTo>
                      <a:pt x="4002" y="1689"/>
                      <a:pt x="4824" y="1974"/>
                      <a:pt x="6261" y="465"/>
                    </a:cubicBezTo>
                  </a:path>
                </a:pathLst>
              </a:custGeom>
              <a:noFill/>
              <a:ln w="11160">
                <a:solidFill>
                  <a:srgbClr val="ffffff">
                    <a:alpha val="41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69" name="Freeform 59"/>
              <p:cNvSpPr/>
              <p:nvPr/>
            </p:nvSpPr>
            <p:spPr>
              <a:xfrm>
                <a:off x="34920" y="1647360"/>
                <a:ext cx="9108720" cy="3133440"/>
              </a:xfrm>
              <a:custGeom>
                <a:avLst/>
                <a:gdLst>
                  <a:gd name="textAreaLeft" fmla="*/ 0 w 9108720"/>
                  <a:gd name="textAreaRight" fmla="*/ 9109080 w 9108720"/>
                  <a:gd name="textAreaTop" fmla="*/ 0 h 3133440"/>
                  <a:gd name="textAreaBottom" fmla="*/ 3133800 h 3133440"/>
                </a:gdLst>
                <a:ahLst/>
                <a:rect l="textAreaLeft" t="textAreaTop" r="textAreaRight" b="textAreaBottom"/>
                <a:pathLst>
                  <a:path w="6261" h="1974">
                    <a:moveTo>
                      <a:pt x="0" y="1182"/>
                    </a:moveTo>
                    <a:cubicBezTo>
                      <a:pt x="1417" y="0"/>
                      <a:pt x="2288" y="691"/>
                      <a:pt x="3145" y="1190"/>
                    </a:cubicBezTo>
                    <a:cubicBezTo>
                      <a:pt x="4002" y="1689"/>
                      <a:pt x="4824" y="1974"/>
                      <a:pt x="6261" y="465"/>
                    </a:cubicBezTo>
                  </a:path>
                </a:pathLst>
              </a:custGeom>
              <a:noFill/>
              <a:ln w="11160">
                <a:solidFill>
                  <a:srgbClr val="ffffff">
                    <a:alpha val="41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70" name="Freeform 60"/>
              <p:cNvSpPr/>
              <p:nvPr/>
            </p:nvSpPr>
            <p:spPr>
              <a:xfrm>
                <a:off x="34920" y="1833120"/>
                <a:ext cx="9108720" cy="3133440"/>
              </a:xfrm>
              <a:custGeom>
                <a:avLst/>
                <a:gdLst>
                  <a:gd name="textAreaLeft" fmla="*/ 0 w 9108720"/>
                  <a:gd name="textAreaRight" fmla="*/ 9109080 w 9108720"/>
                  <a:gd name="textAreaTop" fmla="*/ 0 h 3133440"/>
                  <a:gd name="textAreaBottom" fmla="*/ 3133800 h 3133440"/>
                </a:gdLst>
                <a:ahLst/>
                <a:rect l="textAreaLeft" t="textAreaTop" r="textAreaRight" b="textAreaBottom"/>
                <a:pathLst>
                  <a:path w="6261" h="1974">
                    <a:moveTo>
                      <a:pt x="0" y="1182"/>
                    </a:moveTo>
                    <a:cubicBezTo>
                      <a:pt x="1417" y="0"/>
                      <a:pt x="2288" y="691"/>
                      <a:pt x="3145" y="1190"/>
                    </a:cubicBezTo>
                    <a:cubicBezTo>
                      <a:pt x="4002" y="1689"/>
                      <a:pt x="4824" y="1974"/>
                      <a:pt x="6261" y="465"/>
                    </a:cubicBezTo>
                  </a:path>
                </a:pathLst>
              </a:custGeom>
              <a:noFill/>
              <a:ln w="11160">
                <a:solidFill>
                  <a:srgbClr val="ffffff">
                    <a:alpha val="41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71" name="Freeform 61"/>
              <p:cNvSpPr/>
              <p:nvPr/>
            </p:nvSpPr>
            <p:spPr>
              <a:xfrm>
                <a:off x="34920" y="2028600"/>
                <a:ext cx="9108720" cy="3133080"/>
              </a:xfrm>
              <a:custGeom>
                <a:avLst/>
                <a:gdLst>
                  <a:gd name="textAreaLeft" fmla="*/ 0 w 9108720"/>
                  <a:gd name="textAreaRight" fmla="*/ 9109080 w 9108720"/>
                  <a:gd name="textAreaTop" fmla="*/ 0 h 3133080"/>
                  <a:gd name="textAreaBottom" fmla="*/ 3133440 h 3133080"/>
                </a:gdLst>
                <a:ahLst/>
                <a:rect l="textAreaLeft" t="textAreaTop" r="textAreaRight" b="textAreaBottom"/>
                <a:pathLst>
                  <a:path w="6261" h="1974">
                    <a:moveTo>
                      <a:pt x="0" y="1182"/>
                    </a:moveTo>
                    <a:cubicBezTo>
                      <a:pt x="1417" y="0"/>
                      <a:pt x="2288" y="691"/>
                      <a:pt x="3145" y="1190"/>
                    </a:cubicBezTo>
                    <a:cubicBezTo>
                      <a:pt x="4002" y="1689"/>
                      <a:pt x="4824" y="1974"/>
                      <a:pt x="6261" y="465"/>
                    </a:cubicBezTo>
                  </a:path>
                </a:pathLst>
              </a:custGeom>
              <a:noFill/>
              <a:ln w="11160">
                <a:solidFill>
                  <a:srgbClr val="ffffff">
                    <a:alpha val="41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72" name="Freeform 62"/>
              <p:cNvSpPr/>
              <p:nvPr/>
            </p:nvSpPr>
            <p:spPr>
              <a:xfrm>
                <a:off x="34920" y="2180880"/>
                <a:ext cx="9108720" cy="3133440"/>
              </a:xfrm>
              <a:custGeom>
                <a:avLst/>
                <a:gdLst>
                  <a:gd name="textAreaLeft" fmla="*/ 0 w 9108720"/>
                  <a:gd name="textAreaRight" fmla="*/ 9109080 w 9108720"/>
                  <a:gd name="textAreaTop" fmla="*/ 0 h 3133440"/>
                  <a:gd name="textAreaBottom" fmla="*/ 3133800 h 3133440"/>
                </a:gdLst>
                <a:ahLst/>
                <a:rect l="textAreaLeft" t="textAreaTop" r="textAreaRight" b="textAreaBottom"/>
                <a:pathLst>
                  <a:path w="6261" h="1974">
                    <a:moveTo>
                      <a:pt x="0" y="1182"/>
                    </a:moveTo>
                    <a:cubicBezTo>
                      <a:pt x="1417" y="0"/>
                      <a:pt x="2288" y="691"/>
                      <a:pt x="3145" y="1190"/>
                    </a:cubicBezTo>
                    <a:cubicBezTo>
                      <a:pt x="4002" y="1689"/>
                      <a:pt x="4824" y="1974"/>
                      <a:pt x="6261" y="465"/>
                    </a:cubicBezTo>
                  </a:path>
                </a:pathLst>
              </a:custGeom>
              <a:noFill/>
              <a:ln w="11160">
                <a:solidFill>
                  <a:srgbClr val="ffffff">
                    <a:alpha val="41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73" name="Freeform 63"/>
              <p:cNvSpPr/>
              <p:nvPr/>
            </p:nvSpPr>
            <p:spPr>
              <a:xfrm>
                <a:off x="34920" y="2333160"/>
                <a:ext cx="9108720" cy="3133440"/>
              </a:xfrm>
              <a:custGeom>
                <a:avLst/>
                <a:gdLst>
                  <a:gd name="textAreaLeft" fmla="*/ 0 w 9108720"/>
                  <a:gd name="textAreaRight" fmla="*/ 9109080 w 9108720"/>
                  <a:gd name="textAreaTop" fmla="*/ 0 h 3133440"/>
                  <a:gd name="textAreaBottom" fmla="*/ 3133800 h 3133440"/>
                </a:gdLst>
                <a:ahLst/>
                <a:rect l="textAreaLeft" t="textAreaTop" r="textAreaRight" b="textAreaBottom"/>
                <a:pathLst>
                  <a:path w="6261" h="1974">
                    <a:moveTo>
                      <a:pt x="0" y="1182"/>
                    </a:moveTo>
                    <a:cubicBezTo>
                      <a:pt x="1417" y="0"/>
                      <a:pt x="2288" y="691"/>
                      <a:pt x="3145" y="1190"/>
                    </a:cubicBezTo>
                    <a:cubicBezTo>
                      <a:pt x="4002" y="1689"/>
                      <a:pt x="4824" y="1974"/>
                      <a:pt x="6261" y="465"/>
                    </a:cubicBezTo>
                  </a:path>
                </a:pathLst>
              </a:custGeom>
              <a:noFill/>
              <a:ln w="11160">
                <a:solidFill>
                  <a:srgbClr val="ffffff">
                    <a:alpha val="41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74" name="Freeform 64"/>
              <p:cNvSpPr/>
              <p:nvPr/>
            </p:nvSpPr>
            <p:spPr>
              <a:xfrm>
                <a:off x="19080" y="2485800"/>
                <a:ext cx="9108720" cy="3133080"/>
              </a:xfrm>
              <a:custGeom>
                <a:avLst/>
                <a:gdLst>
                  <a:gd name="textAreaLeft" fmla="*/ 0 w 9108720"/>
                  <a:gd name="textAreaRight" fmla="*/ 9109080 w 9108720"/>
                  <a:gd name="textAreaTop" fmla="*/ 0 h 3133080"/>
                  <a:gd name="textAreaBottom" fmla="*/ 3133440 h 3133080"/>
                </a:gdLst>
                <a:ahLst/>
                <a:rect l="textAreaLeft" t="textAreaTop" r="textAreaRight" b="textAreaBottom"/>
                <a:pathLst>
                  <a:path w="6261" h="1974">
                    <a:moveTo>
                      <a:pt x="0" y="1182"/>
                    </a:moveTo>
                    <a:cubicBezTo>
                      <a:pt x="1417" y="0"/>
                      <a:pt x="2288" y="691"/>
                      <a:pt x="3145" y="1190"/>
                    </a:cubicBezTo>
                    <a:cubicBezTo>
                      <a:pt x="4002" y="1689"/>
                      <a:pt x="4824" y="1974"/>
                      <a:pt x="6261" y="465"/>
                    </a:cubicBezTo>
                  </a:path>
                </a:pathLst>
              </a:custGeom>
              <a:noFill/>
              <a:ln w="11160">
                <a:solidFill>
                  <a:srgbClr val="ffffff">
                    <a:alpha val="41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75" name="Freeform 65"/>
              <p:cNvSpPr/>
              <p:nvPr/>
            </p:nvSpPr>
            <p:spPr>
              <a:xfrm>
                <a:off x="19080" y="2638080"/>
                <a:ext cx="9108720" cy="3133440"/>
              </a:xfrm>
              <a:custGeom>
                <a:avLst/>
                <a:gdLst>
                  <a:gd name="textAreaLeft" fmla="*/ 0 w 9108720"/>
                  <a:gd name="textAreaRight" fmla="*/ 9109080 w 9108720"/>
                  <a:gd name="textAreaTop" fmla="*/ 0 h 3133440"/>
                  <a:gd name="textAreaBottom" fmla="*/ 3133800 h 3133440"/>
                </a:gdLst>
                <a:ahLst/>
                <a:rect l="textAreaLeft" t="textAreaTop" r="textAreaRight" b="textAreaBottom"/>
                <a:pathLst>
                  <a:path w="6261" h="1974">
                    <a:moveTo>
                      <a:pt x="0" y="1182"/>
                    </a:moveTo>
                    <a:cubicBezTo>
                      <a:pt x="1417" y="0"/>
                      <a:pt x="2288" y="691"/>
                      <a:pt x="3145" y="1190"/>
                    </a:cubicBezTo>
                    <a:cubicBezTo>
                      <a:pt x="4002" y="1689"/>
                      <a:pt x="4824" y="1974"/>
                      <a:pt x="6261" y="465"/>
                    </a:cubicBezTo>
                  </a:path>
                </a:pathLst>
              </a:custGeom>
              <a:noFill/>
              <a:ln w="11160">
                <a:solidFill>
                  <a:srgbClr val="ffffff">
                    <a:alpha val="41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蓝色简约商务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22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Your name</a:t>
            </a:r>
            <a:endParaRPr b="0" lang="en-US" sz="4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2AFC-177B-4C41-9329-A3BD590729AF}" type="slidenum">
              <a:rPr b="0" lang="zh-CN" sz="1400" spc="-1" strike="noStrike">
                <a:solidFill>
                  <a:srgbClr val="0e2fad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e2fad"/>
                </a:solidFill>
                <a:latin typeface="Arial"/>
                <a:ea typeface="宋体"/>
              </a:rPr>
              <a:t>Example Bullet Point Slide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e2fad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  <a:ea typeface="宋体"/>
              </a:rPr>
              <a:t>Bullet point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e2fad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  <a:ea typeface="宋体"/>
              </a:rPr>
              <a:t>Bullet point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e2fad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e2fad"/>
                </a:solidFill>
                <a:latin typeface="Arial"/>
                <a:ea typeface="宋体"/>
              </a:rPr>
              <a:t>Sub Bullet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F611-CD68-4809-8BCE-47B239D02415}" type="slidenum">
              <a:rPr b="0" lang="zh-CN" sz="1400" spc="-1" strike="noStrike">
                <a:solidFill>
                  <a:srgbClr val="0e2fad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e2fad"/>
                </a:solidFill>
                <a:latin typeface="Arial"/>
                <a:ea typeface="宋体"/>
              </a:rPr>
              <a:t>Colour scheme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3686040" y="2787480"/>
            <a:ext cx="827280" cy="611280"/>
          </a:xfrm>
          <a:prstGeom prst="rect">
            <a:avLst/>
          </a:prstGeom>
          <a:solidFill>
            <a:srgbClr val="0e2fad"/>
          </a:solidFill>
          <a:ln w="9360">
            <a:solidFill>
              <a:srgbClr val="0e2f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4762440" y="2787480"/>
            <a:ext cx="827280" cy="611280"/>
          </a:xfrm>
          <a:prstGeom prst="rect">
            <a:avLst/>
          </a:prstGeom>
          <a:solidFill>
            <a:srgbClr val="b3cce6"/>
          </a:solidFill>
          <a:ln w="9360">
            <a:solidFill>
              <a:srgbClr val="0e2f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2633760" y="4402080"/>
            <a:ext cx="826920" cy="611280"/>
          </a:xfrm>
          <a:prstGeom prst="rect">
            <a:avLst/>
          </a:prstGeom>
          <a:solidFill>
            <a:srgbClr val="7fd7fc"/>
          </a:solidFill>
          <a:ln w="9360">
            <a:solidFill>
              <a:srgbClr val="0e2f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3701880" y="4402080"/>
            <a:ext cx="827280" cy="611280"/>
          </a:xfrm>
          <a:prstGeom prst="rect">
            <a:avLst/>
          </a:prstGeom>
          <a:solidFill>
            <a:srgbClr val="6ba7f8"/>
          </a:solidFill>
          <a:ln w="9360">
            <a:solidFill>
              <a:srgbClr val="0e2f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4770360" y="4402080"/>
            <a:ext cx="827280" cy="611280"/>
          </a:xfrm>
          <a:prstGeom prst="rect">
            <a:avLst/>
          </a:prstGeom>
          <a:solidFill>
            <a:srgbClr val="ff9d3b"/>
          </a:solidFill>
          <a:ln w="9360">
            <a:solidFill>
              <a:srgbClr val="0e2f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5840280" y="4402080"/>
            <a:ext cx="827280" cy="611280"/>
          </a:xfrm>
          <a:prstGeom prst="rect">
            <a:avLst/>
          </a:prstGeom>
          <a:solidFill>
            <a:srgbClr val="007b7e"/>
          </a:solidFill>
          <a:ln w="9360">
            <a:solidFill>
              <a:srgbClr val="0e2f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823000" y="2787480"/>
            <a:ext cx="826920" cy="611280"/>
          </a:xfrm>
          <a:prstGeom prst="rect">
            <a:avLst/>
          </a:prstGeom>
          <a:solidFill>
            <a:srgbClr val="0e2fad"/>
          </a:solidFill>
          <a:ln w="9360">
            <a:solidFill>
              <a:srgbClr val="0e2f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2617920" y="2787480"/>
            <a:ext cx="826920" cy="6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e2f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2400480" y="214776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e2fad"/>
                </a:solidFill>
                <a:latin typeface="Arial"/>
                <a:ea typeface="宋体"/>
              </a:rPr>
              <a:t>Background</a:t>
            </a:r>
            <a:endParaRPr b="0" lang="en-US" sz="16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3718080" y="2025720"/>
            <a:ext cx="76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e2fad"/>
                </a:solidFill>
                <a:latin typeface="Arial"/>
                <a:ea typeface="宋体"/>
              </a:rPr>
              <a:t>Text &amp;</a:t>
            </a:r>
            <a:endParaRPr b="0" lang="en-US" sz="1600" spc="-1" strike="noStrike">
              <a:solidFill>
                <a:srgbClr val="0e2f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e2fad"/>
                </a:solidFill>
                <a:latin typeface="Arial"/>
                <a:ea typeface="宋体"/>
              </a:rPr>
              <a:t>Lines</a:t>
            </a:r>
            <a:endParaRPr b="0" lang="en-US" sz="16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4668120" y="214776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e2fad"/>
                </a:solidFill>
                <a:latin typeface="Arial"/>
                <a:ea typeface="宋体"/>
              </a:rPr>
              <a:t>Shadows</a:t>
            </a:r>
            <a:endParaRPr b="0" lang="en-US" sz="16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5948640" y="2025720"/>
            <a:ext cx="57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e2fad"/>
                </a:solidFill>
                <a:latin typeface="Arial"/>
                <a:ea typeface="宋体"/>
              </a:rPr>
              <a:t>Title</a:t>
            </a:r>
            <a:br>
              <a:rPr sz="1600"/>
            </a:br>
            <a:r>
              <a:rPr b="0" lang="zh-CN" sz="1600" spc="-1" strike="noStrike">
                <a:solidFill>
                  <a:srgbClr val="0e2fad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2787120" y="376236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e2fad"/>
                </a:solidFill>
                <a:latin typeface="Arial"/>
                <a:ea typeface="宋体"/>
              </a:rPr>
              <a:t>Fills</a:t>
            </a:r>
            <a:endParaRPr b="0" lang="en-US" sz="16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3723840" y="376236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e2fad"/>
                </a:solidFill>
                <a:latin typeface="Arial"/>
                <a:ea typeface="宋体"/>
              </a:rPr>
              <a:t>Accent</a:t>
            </a:r>
            <a:endParaRPr b="0" lang="en-US" sz="16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4669200" y="363996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e2fad"/>
                </a:solidFill>
                <a:latin typeface="Arial"/>
                <a:ea typeface="宋体"/>
              </a:rPr>
              <a:t>Accent &amp;</a:t>
            </a:r>
            <a:endParaRPr b="0" lang="en-US" sz="1600" spc="-1" strike="noStrike">
              <a:solidFill>
                <a:srgbClr val="0e2f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e2fad"/>
                </a:solidFill>
                <a:latin typeface="Arial"/>
                <a:ea typeface="宋体"/>
              </a:rPr>
              <a:t>Hyperlink</a:t>
            </a:r>
            <a:endParaRPr b="0" lang="en-US" sz="16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5750280" y="363852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e2fad"/>
                </a:solidFill>
                <a:latin typeface="Arial"/>
                <a:ea typeface="宋体"/>
              </a:rPr>
              <a:t>Followed</a:t>
            </a:r>
            <a:endParaRPr b="0" lang="en-US" sz="1600" spc="-1" strike="noStrike">
              <a:solidFill>
                <a:srgbClr val="0e2f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e2fad"/>
                </a:solidFill>
                <a:latin typeface="Arial"/>
                <a:ea typeface="宋体"/>
              </a:rPr>
              <a:t>Hyperlink</a:t>
            </a:r>
            <a:endParaRPr b="0" lang="en-US" sz="16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ABC8-55B7-41B4-9301-4EBFFC3512E0}" type="slidenum">
              <a:rPr b="0" lang="zh-CN" sz="1400" spc="-1" strike="noStrike">
                <a:solidFill>
                  <a:srgbClr val="0e2fad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e2fad"/>
                </a:solidFill>
                <a:latin typeface="Arial"/>
                <a:ea typeface="宋体"/>
              </a:rPr>
              <a:t>Sample Graph (3 colours)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pic>
        <p:nvPicPr>
          <p:cNvPr id="102" name="Object 3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6732720" cy="374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60E4-D077-4BFC-8034-C056F8096926}" type="slidenum">
              <a:rPr b="0" lang="zh-CN" sz="1400" spc="-1" strike="noStrike">
                <a:solidFill>
                  <a:srgbClr val="0e2fad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e2fad"/>
                </a:solidFill>
                <a:latin typeface="Arial"/>
                <a:ea typeface="宋体"/>
              </a:rPr>
              <a:t>Picture slide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1599840"/>
            <a:ext cx="402732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e2fad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e2fad"/>
                </a:solidFill>
                <a:latin typeface="Arial"/>
                <a:ea typeface="宋体"/>
              </a:rPr>
              <a:t>Bullet 1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e2fad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e2fad"/>
                </a:solidFill>
                <a:latin typeface="Arial"/>
                <a:ea typeface="宋体"/>
              </a:rPr>
              <a:t>Bullet 2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</p:txBody>
      </p:sp>
      <p:pic>
        <p:nvPicPr>
          <p:cNvPr id="106" name="Picture 4" descr="IMG_9271"/>
          <p:cNvPicPr/>
          <p:nvPr/>
        </p:nvPicPr>
        <p:blipFill>
          <a:blip r:embed="rId1"/>
          <a:stretch/>
        </p:blipFill>
        <p:spPr>
          <a:xfrm>
            <a:off x="5256360" y="2205000"/>
            <a:ext cx="3097080" cy="3853080"/>
          </a:xfrm>
          <a:prstGeom prst="rect">
            <a:avLst/>
          </a:prstGeom>
          <a:ln w="57240">
            <a:solidFill>
              <a:srgbClr val="0e2fad"/>
            </a:solidFill>
            <a:miter/>
          </a:ln>
        </p:spPr>
      </p:pic>
      <p:sp>
        <p:nvSpPr>
          <p:cNvPr id="107" name="Text Box 8"/>
          <p:cNvSpPr/>
          <p:nvPr/>
        </p:nvSpPr>
        <p:spPr>
          <a:xfrm>
            <a:off x="457200" y="62038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9d3b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ff9d3b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zh-CN" sz="1600" spc="-1" strike="noStrike">
                <a:solidFill>
                  <a:srgbClr val="0e2fad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161E-D734-4951-AF4A-068C5251ACBF}" type="slidenum">
              <a:rPr b="0" lang="zh-CN" sz="1400" spc="-1" strike="noStrike">
                <a:solidFill>
                  <a:srgbClr val="0e2fad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e2fad"/>
                </a:solidFill>
                <a:latin typeface="Arial"/>
                <a:ea typeface="宋体"/>
              </a:rPr>
              <a:t>Example of a table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144440" y="1800360"/>
          <a:ext cx="7402680" cy="3219480"/>
        </p:xfrm>
        <a:graphic>
          <a:graphicData uri="http://schemas.openxmlformats.org/drawingml/2006/table">
            <a:tbl>
              <a:tblPr/>
              <a:tblGrid>
                <a:gridCol w="3702240"/>
                <a:gridCol w="3700440"/>
              </a:tblGrid>
              <a:tr h="460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r>
                        <a:rPr b="1" i="1" lang="zh-CN" sz="24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2fad"/>
                      </a:solidFill>
                    </a:lnL>
                    <a:lnR w="5760">
                      <a:solidFill>
                        <a:srgbClr val="0e2fad"/>
                      </a:solidFill>
                    </a:lnR>
                    <a:lnT w="5760">
                      <a:solidFill>
                        <a:srgbClr val="0e2fad"/>
                      </a:solidFill>
                    </a:lnT>
                    <a:lnB w="5760">
                      <a:solidFill>
                        <a:srgbClr val="0e2fad"/>
                      </a:solidFill>
                    </a:lnB>
                    <a:solidFill>
                      <a:srgbClr val="7fd7f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r>
                        <a:rPr b="1" i="1" lang="zh-CN" sz="24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2fad"/>
                      </a:solidFill>
                    </a:lnL>
                    <a:lnR w="5760">
                      <a:solidFill>
                        <a:srgbClr val="0e2fad"/>
                      </a:solidFill>
                    </a:lnR>
                    <a:lnT w="5760">
                      <a:solidFill>
                        <a:srgbClr val="0e2fad"/>
                      </a:solidFill>
                    </a:lnT>
                    <a:lnB w="5760">
                      <a:solidFill>
                        <a:srgbClr val="0e2fad"/>
                      </a:solidFill>
                    </a:lnB>
                    <a:solidFill>
                      <a:srgbClr val="7fd7f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r>
                        <a:rPr b="1" i="1" lang="zh-CN" sz="24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Data</a:t>
                      </a:r>
                      <a:endParaRPr b="0" lang="en-US" sz="24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2fad"/>
                      </a:solidFill>
                    </a:lnL>
                    <a:lnR w="5760">
                      <a:solidFill>
                        <a:srgbClr val="0e2fad"/>
                      </a:solidFill>
                    </a:lnR>
                    <a:lnT w="5760">
                      <a:solidFill>
                        <a:srgbClr val="0e2fad"/>
                      </a:solidFill>
                    </a:lnT>
                    <a:lnB w="5760">
                      <a:solidFill>
                        <a:srgbClr val="0e2f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r>
                        <a:rPr b="1" i="1" lang="zh-CN" sz="2400" spc="-1" strike="noStrike">
                          <a:solidFill>
                            <a:srgbClr val="0e2fad"/>
                          </a:solidFill>
                          <a:latin typeface="Arial"/>
                        </a:rPr>
                        <a:t>Data</a:t>
                      </a:r>
                      <a:endParaRPr b="0" lang="en-US" sz="24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2fad"/>
                      </a:solidFill>
                    </a:lnL>
                    <a:lnR w="5760">
                      <a:solidFill>
                        <a:srgbClr val="0e2fad"/>
                      </a:solidFill>
                    </a:lnR>
                    <a:lnT w="5760">
                      <a:solidFill>
                        <a:srgbClr val="0e2fad"/>
                      </a:solidFill>
                    </a:lnT>
                    <a:lnB w="5760">
                      <a:solidFill>
                        <a:srgbClr val="0e2fad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2fad"/>
                      </a:solidFill>
                    </a:lnL>
                    <a:lnR w="5760">
                      <a:solidFill>
                        <a:srgbClr val="0e2fad"/>
                      </a:solidFill>
                    </a:lnR>
                    <a:lnT w="5760">
                      <a:solidFill>
                        <a:srgbClr val="0e2fad"/>
                      </a:solidFill>
                    </a:lnT>
                    <a:lnB w="5760">
                      <a:solidFill>
                        <a:srgbClr val="0e2f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2fad"/>
                      </a:solidFill>
                    </a:lnL>
                    <a:lnR w="5760">
                      <a:solidFill>
                        <a:srgbClr val="0e2fad"/>
                      </a:solidFill>
                    </a:lnR>
                    <a:lnT w="5760">
                      <a:solidFill>
                        <a:srgbClr val="0e2fad"/>
                      </a:solidFill>
                    </a:lnT>
                    <a:lnB w="5760">
                      <a:solidFill>
                        <a:srgbClr val="0e2fad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2fad"/>
                      </a:solidFill>
                    </a:lnL>
                    <a:lnR w="5760">
                      <a:solidFill>
                        <a:srgbClr val="0e2fad"/>
                      </a:solidFill>
                    </a:lnR>
                    <a:lnT w="5760">
                      <a:solidFill>
                        <a:srgbClr val="0e2fad"/>
                      </a:solidFill>
                    </a:lnT>
                    <a:lnB w="5760">
                      <a:solidFill>
                        <a:srgbClr val="0e2f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2fad"/>
                      </a:solidFill>
                    </a:lnL>
                    <a:lnR w="5760">
                      <a:solidFill>
                        <a:srgbClr val="0e2fad"/>
                      </a:solidFill>
                    </a:lnR>
                    <a:lnT w="5760">
                      <a:solidFill>
                        <a:srgbClr val="0e2fad"/>
                      </a:solidFill>
                    </a:lnT>
                    <a:lnB w="5760">
                      <a:solidFill>
                        <a:srgbClr val="0e2fad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2fad"/>
                      </a:solidFill>
                    </a:lnL>
                    <a:lnR w="5760">
                      <a:solidFill>
                        <a:srgbClr val="0e2fad"/>
                      </a:solidFill>
                    </a:lnR>
                    <a:lnT w="5760">
                      <a:solidFill>
                        <a:srgbClr val="0e2fad"/>
                      </a:solidFill>
                    </a:lnT>
                    <a:lnB w="5760">
                      <a:solidFill>
                        <a:srgbClr val="0e2f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2fad"/>
                      </a:solidFill>
                    </a:lnL>
                    <a:lnR w="5760">
                      <a:solidFill>
                        <a:srgbClr val="0e2fad"/>
                      </a:solidFill>
                    </a:lnR>
                    <a:lnT w="5760">
                      <a:solidFill>
                        <a:srgbClr val="0e2fad"/>
                      </a:solidFill>
                    </a:lnT>
                    <a:lnB w="5760">
                      <a:solidFill>
                        <a:srgbClr val="0e2fad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2fad"/>
                      </a:solidFill>
                    </a:lnL>
                    <a:lnR w="5760">
                      <a:solidFill>
                        <a:srgbClr val="0e2fad"/>
                      </a:solidFill>
                    </a:lnR>
                    <a:lnT w="5760">
                      <a:solidFill>
                        <a:srgbClr val="0e2fad"/>
                      </a:solidFill>
                    </a:lnT>
                    <a:lnB w="5760">
                      <a:solidFill>
                        <a:srgbClr val="0e2f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2fad"/>
                      </a:solidFill>
                    </a:lnL>
                    <a:lnR w="5760">
                      <a:solidFill>
                        <a:srgbClr val="0e2fad"/>
                      </a:solidFill>
                    </a:lnR>
                    <a:lnT w="5760">
                      <a:solidFill>
                        <a:srgbClr val="0e2fad"/>
                      </a:solidFill>
                    </a:lnT>
                    <a:lnB w="5760">
                      <a:solidFill>
                        <a:srgbClr val="0e2fa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2fad"/>
                      </a:solidFill>
                    </a:lnL>
                    <a:lnR w="5760">
                      <a:solidFill>
                        <a:srgbClr val="0e2fad"/>
                      </a:solidFill>
                    </a:lnR>
                    <a:lnT w="5760">
                      <a:solidFill>
                        <a:srgbClr val="0e2fad"/>
                      </a:solidFill>
                    </a:lnT>
                    <a:lnB w="5760">
                      <a:solidFill>
                        <a:srgbClr val="0e2f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2fad"/>
                      </a:solidFill>
                    </a:lnL>
                    <a:lnR w="5760">
                      <a:solidFill>
                        <a:srgbClr val="0e2fad"/>
                      </a:solidFill>
                    </a:lnR>
                    <a:lnT w="5760">
                      <a:solidFill>
                        <a:srgbClr val="0e2fad"/>
                      </a:solidFill>
                    </a:lnT>
                    <a:lnB w="5760">
                      <a:solidFill>
                        <a:srgbClr val="0e2f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29"/>
          <p:cNvSpPr/>
          <p:nvPr/>
        </p:nvSpPr>
        <p:spPr>
          <a:xfrm>
            <a:off x="2630520" y="5397480"/>
            <a:ext cx="411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e2fad"/>
                </a:solidFill>
                <a:latin typeface="Arial"/>
                <a:ea typeface="宋体"/>
              </a:rPr>
              <a:t>Note:  </a:t>
            </a:r>
            <a:r>
              <a:rPr b="0" lang="zh-CN" sz="1800" spc="-1" strike="noStrike">
                <a:solidFill>
                  <a:srgbClr val="0e2fad"/>
                </a:solidFill>
                <a:latin typeface="Arial"/>
                <a:ea typeface="宋体"/>
              </a:rPr>
              <a:t>PowerPoint does not allow you to have nice default tables - but you can cut and paste this one</a:t>
            </a: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D572-1B2D-4EA3-839C-3B40C176F1E2}" type="slidenum">
              <a:rPr b="0" lang="zh-CN" sz="1400" spc="-1" strike="noStrike">
                <a:solidFill>
                  <a:srgbClr val="0e2fad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539640" y="1268280"/>
            <a:ext cx="820908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e2fad"/>
                </a:solidFill>
                <a:latin typeface="Arial"/>
                <a:ea typeface="宋体"/>
              </a:rPr>
              <a:t>Use of templates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150920" y="1711440"/>
            <a:ext cx="695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e2fad"/>
                </a:solidFill>
                <a:latin typeface="Arial"/>
                <a:ea typeface="宋体"/>
              </a:rPr>
              <a:t>You are free to use these templates for your personal and business presentations.</a:t>
            </a:r>
            <a:endParaRPr b="0" lang="en-US" sz="2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150920" y="3139920"/>
            <a:ext cx="340992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e2fad"/>
                </a:solidFill>
                <a:uFillTx/>
                <a:latin typeface="Arial"/>
                <a:ea typeface="宋体"/>
              </a:rPr>
              <a:t>Do</a:t>
            </a:r>
            <a:endParaRPr b="0" lang="en-US" sz="1600" spc="-1" strike="noStrike">
              <a:solidFill>
                <a:srgbClr val="0e2fad"/>
              </a:solidFill>
              <a:latin typeface="Arial"/>
            </a:endParaRPr>
          </a:p>
          <a:p>
            <a:pPr marL="264960" indent="-264960">
              <a:buClr>
                <a:srgbClr val="0e2f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e2fad"/>
                </a:solidFill>
                <a:latin typeface="Arial"/>
                <a:ea typeface="宋体"/>
              </a:rPr>
              <a:t>Use these templates for your presentations</a:t>
            </a: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  <a:p>
            <a:pPr marL="264960" indent="-264960">
              <a:buClr>
                <a:srgbClr val="0e2f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e2fad"/>
                </a:solidFill>
                <a:latin typeface="Arial"/>
                <a:ea typeface="宋体"/>
              </a:rPr>
              <a:t>Display your presentation on a web site provided that it is not for the purpose of downloading the template.</a:t>
            </a: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  <a:p>
            <a:pPr marL="264960" indent="-264960">
              <a:buClr>
                <a:srgbClr val="0e2f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e2fad"/>
                </a:solidFill>
                <a:latin typeface="Arial"/>
                <a:ea typeface="宋体"/>
              </a:rPr>
              <a:t>If you like these templates, we would always appreciate a link back to our website.  Many thanks.</a:t>
            </a: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  <a:p>
            <a:pPr marL="264960" indent="-264960">
              <a:buClr>
                <a:srgbClr val="0e2f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4495680" y="3139920"/>
            <a:ext cx="364032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e2fad"/>
                </a:solidFill>
                <a:uFillTx/>
                <a:latin typeface="Arial"/>
                <a:ea typeface="宋体"/>
              </a:rPr>
              <a:t>Don’t</a:t>
            </a:r>
            <a:endParaRPr b="0" lang="en-US" sz="1600" spc="-1" strike="noStrike">
              <a:solidFill>
                <a:srgbClr val="0e2fad"/>
              </a:solidFill>
              <a:latin typeface="Arial"/>
            </a:endParaRPr>
          </a:p>
          <a:p>
            <a:pPr marL="264960" indent="-264960">
              <a:buClr>
                <a:srgbClr val="0e2fad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e2fad"/>
                </a:solidFill>
                <a:latin typeface="Arial"/>
                <a:ea typeface="宋体"/>
              </a:rPr>
              <a:t>Resell or distribute these templates</a:t>
            </a: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  <a:p>
            <a:pPr marL="264960" indent="-264960">
              <a:buClr>
                <a:srgbClr val="0e2fad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e2fad"/>
                </a:solidFill>
                <a:latin typeface="Arial"/>
                <a:ea typeface="宋体"/>
              </a:rPr>
              <a:t>Put these templates on a website for download.  This includes uploading them onto file sharing networks like Slideshare, Myspace, Facebook, bit torrent etc</a:t>
            </a: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  <a:p>
            <a:pPr marL="264960" indent="-264960">
              <a:buClr>
                <a:srgbClr val="0e2fad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e2fad"/>
                </a:solidFill>
                <a:latin typeface="Arial"/>
                <a:ea typeface="宋体"/>
              </a:rPr>
              <a:t>Pass off any of our created content as your own work</a:t>
            </a: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1150920" y="2608200"/>
            <a:ext cx="692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e2fad"/>
                </a:solidFill>
                <a:latin typeface="Arial"/>
                <a:ea typeface="宋体"/>
              </a:rPr>
              <a:t>We have put a lot of work into developing all these templates and retain the copyright in them.  You can use them freely providing that you do not redistribute or sell them.</a:t>
            </a: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3:35:00Z</dcterms:created>
  <dc:creator>Presentation Magazine</dc:creator>
  <dc:description/>
  <dc:language>en-US</dc:language>
  <cp:lastModifiedBy>a</cp:lastModifiedBy>
  <dcterms:modified xsi:type="dcterms:W3CDTF">2015-07-25T10:11:09Z</dcterms:modified>
  <cp:revision>16</cp:revision>
  <dc:subject/>
  <dc:title>Swoosh 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87</vt:lpwstr>
  </property>
</Properties>
</file>