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871-8E37-48E8-ADEC-CA7758E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9E5-8C95-4F38-A598-A3CF024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AAE-8792-46B6-B88E-FAC84626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77C-F310-4A6B-A4C4-2A7DFAC1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087-E54B-4502-9209-B24E595D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963-FAAC-435D-864F-C20B351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EE9-7D39-4B56-A017-9541236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77F-D902-4F60-8FC8-96BCFEB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4B8-AC3D-4627-9BBB-045581AB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355-499E-4B10-B235-0C96048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093-6A70-4A53-9A8C-A0B60F2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171-6783-4749-B595-816E09D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722969-5204-405B-93B8-CB8C8D0D71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11560" y="336168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蓝色简约商务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558360" y="5305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​​ 8"/>
          <p:cNvSpPr/>
          <p:nvPr/>
        </p:nvSpPr>
        <p:spPr>
          <a:xfrm>
            <a:off x="899640" y="3777120"/>
            <a:ext cx="1079640" cy="353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椭圆​​ 9"/>
          <p:cNvSpPr/>
          <p:nvPr/>
        </p:nvSpPr>
        <p:spPr>
          <a:xfrm>
            <a:off x="7236360" y="3790440"/>
            <a:ext cx="1079640" cy="353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​​ 10"/>
          <p:cNvSpPr/>
          <p:nvPr/>
        </p:nvSpPr>
        <p:spPr>
          <a:xfrm>
            <a:off x="3924000" y="4145400"/>
            <a:ext cx="1511640" cy="4953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​​ 5"/>
          <p:cNvSpPr/>
          <p:nvPr/>
        </p:nvSpPr>
        <p:spPr>
          <a:xfrm>
            <a:off x="1187280" y="2734200"/>
            <a:ext cx="7021080" cy="7156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​​ 2"/>
          <p:cNvSpPr/>
          <p:nvPr/>
        </p:nvSpPr>
        <p:spPr>
          <a:xfrm>
            <a:off x="684360" y="2337480"/>
            <a:ext cx="1510920" cy="151092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9" name="椭圆​​ 3"/>
          <p:cNvSpPr/>
          <p:nvPr/>
        </p:nvSpPr>
        <p:spPr>
          <a:xfrm>
            <a:off x="3726000" y="2346840"/>
            <a:ext cx="1944360" cy="1942920"/>
          </a:xfrm>
          <a:prstGeom prst="ellipse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0" name="椭圆​​ 4"/>
          <p:cNvSpPr/>
          <p:nvPr/>
        </p:nvSpPr>
        <p:spPr>
          <a:xfrm>
            <a:off x="7020000" y="2337480"/>
            <a:ext cx="1512360" cy="151092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1" name="燕尾形 10"/>
          <p:cNvSpPr/>
          <p:nvPr/>
        </p:nvSpPr>
        <p:spPr>
          <a:xfrm>
            <a:off x="2808360" y="2842200"/>
            <a:ext cx="431280" cy="542520"/>
          </a:xfrm>
          <a:prstGeom prst="chevron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燕尾形 11"/>
          <p:cNvSpPr/>
          <p:nvPr/>
        </p:nvSpPr>
        <p:spPr>
          <a:xfrm rot="10800000">
            <a:off x="5975640" y="2842560"/>
            <a:ext cx="433080" cy="542520"/>
          </a:xfrm>
          <a:prstGeom prst="chevron">
            <a:avLst>
              <a:gd name="adj" fmla="val 50000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​​ 11"/>
          <p:cNvSpPr/>
          <p:nvPr/>
        </p:nvSpPr>
        <p:spPr>
          <a:xfrm>
            <a:off x="936720" y="288972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2"/>
          <p:cNvSpPr/>
          <p:nvPr/>
        </p:nvSpPr>
        <p:spPr>
          <a:xfrm>
            <a:off x="4170240" y="312480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​​ 13"/>
          <p:cNvSpPr/>
          <p:nvPr/>
        </p:nvSpPr>
        <p:spPr>
          <a:xfrm>
            <a:off x="7302600" y="29088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新月形 15"/>
          <p:cNvSpPr/>
          <p:nvPr/>
        </p:nvSpPr>
        <p:spPr>
          <a:xfrm rot="3501600">
            <a:off x="4024080" y="1969200"/>
            <a:ext cx="716040" cy="171324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429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新月形 16"/>
          <p:cNvSpPr/>
          <p:nvPr/>
        </p:nvSpPr>
        <p:spPr>
          <a:xfrm rot="3811800">
            <a:off x="939960" y="2001240"/>
            <a:ext cx="618480" cy="143820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01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新月形 17"/>
          <p:cNvSpPr/>
          <p:nvPr/>
        </p:nvSpPr>
        <p:spPr>
          <a:xfrm rot="3811800">
            <a:off x="7276680" y="2015280"/>
            <a:ext cx="618480" cy="143820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01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​​ 6"/>
          <p:cNvSpPr/>
          <p:nvPr/>
        </p:nvSpPr>
        <p:spPr>
          <a:xfrm>
            <a:off x="571320" y="1571760"/>
            <a:ext cx="3600000" cy="1800000"/>
          </a:xfrm>
          <a:prstGeom prst="roundRect">
            <a:avLst>
              <a:gd name="adj" fmla="val 9948"/>
            </a:avLst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61" name="同侧圆角矩形 19"/>
          <p:cNvSpPr/>
          <p:nvPr/>
        </p:nvSpPr>
        <p:spPr>
          <a:xfrm>
            <a:off x="604800" y="1571760"/>
            <a:ext cx="3600000" cy="79164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14117"/>
                </a:srgbClr>
              </a:gs>
            </a:gsLst>
            <a:lin ang="468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圆角矩形​​ 8"/>
          <p:cNvSpPr/>
          <p:nvPr/>
        </p:nvSpPr>
        <p:spPr>
          <a:xfrm>
            <a:off x="571320" y="3444840"/>
            <a:ext cx="3600000" cy="41868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​​ 10"/>
          <p:cNvSpPr/>
          <p:nvPr/>
        </p:nvSpPr>
        <p:spPr>
          <a:xfrm>
            <a:off x="571320" y="39546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​​ 12"/>
          <p:cNvSpPr/>
          <p:nvPr/>
        </p:nvSpPr>
        <p:spPr>
          <a:xfrm>
            <a:off x="571320" y="44640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​​ 14"/>
          <p:cNvSpPr/>
          <p:nvPr/>
        </p:nvSpPr>
        <p:spPr>
          <a:xfrm>
            <a:off x="4887720" y="1571760"/>
            <a:ext cx="3600000" cy="1800000"/>
          </a:xfrm>
          <a:prstGeom prst="roundRect">
            <a:avLst>
              <a:gd name="adj" fmla="val 9948"/>
            </a:avLst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66" name="图片 2" descr="http://www.iconpng.com/png/vistasoftware/plus__orange.png"/>
          <p:cNvPicPr/>
          <p:nvPr/>
        </p:nvPicPr>
        <p:blipFill>
          <a:blip r:embed="rId1"/>
          <a:stretch/>
        </p:blipFill>
        <p:spPr>
          <a:xfrm>
            <a:off x="3884760" y="2004840"/>
            <a:ext cx="1294920" cy="12949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​​ 17"/>
          <p:cNvSpPr/>
          <p:nvPr/>
        </p:nvSpPr>
        <p:spPr>
          <a:xfrm>
            <a:off x="4887720" y="3444840"/>
            <a:ext cx="3600000" cy="41868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​​ 18"/>
          <p:cNvSpPr/>
          <p:nvPr/>
        </p:nvSpPr>
        <p:spPr>
          <a:xfrm>
            <a:off x="4887720" y="39546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​​ 19"/>
          <p:cNvSpPr/>
          <p:nvPr/>
        </p:nvSpPr>
        <p:spPr>
          <a:xfrm>
            <a:off x="4887720" y="4464000"/>
            <a:ext cx="3600000" cy="4204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​​ 20"/>
          <p:cNvSpPr/>
          <p:nvPr/>
        </p:nvSpPr>
        <p:spPr>
          <a:xfrm>
            <a:off x="1870200" y="29145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​​ 21"/>
          <p:cNvSpPr/>
          <p:nvPr/>
        </p:nvSpPr>
        <p:spPr>
          <a:xfrm>
            <a:off x="6185160" y="29145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​​ 22"/>
          <p:cNvSpPr/>
          <p:nvPr/>
        </p:nvSpPr>
        <p:spPr>
          <a:xfrm>
            <a:off x="1640880" y="22114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侧圆角矩形 31"/>
          <p:cNvSpPr/>
          <p:nvPr/>
        </p:nvSpPr>
        <p:spPr>
          <a:xfrm>
            <a:off x="4887720" y="1571760"/>
            <a:ext cx="3600000" cy="79164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14117"/>
                </a:srgbClr>
              </a:gs>
            </a:gsLst>
            <a:lin ang="468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​​ 23"/>
          <p:cNvSpPr/>
          <p:nvPr/>
        </p:nvSpPr>
        <p:spPr>
          <a:xfrm>
            <a:off x="5957280" y="22114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​​ 27"/>
          <p:cNvSpPr/>
          <p:nvPr/>
        </p:nvSpPr>
        <p:spPr>
          <a:xfrm>
            <a:off x="1476360" y="1500120"/>
            <a:ext cx="6264000" cy="2376000"/>
          </a:xfrm>
          <a:prstGeom prst="rect">
            <a:avLst/>
          </a:prstGeom>
          <a:solidFill>
            <a:schemeClr val="bg1">
              <a:lumMod val="95000"/>
            </a:schemeClr>
          </a:solidFill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矩形​​ 6"/>
          <p:cNvSpPr/>
          <p:nvPr/>
        </p:nvSpPr>
        <p:spPr>
          <a:xfrm>
            <a:off x="0" y="4740120"/>
            <a:ext cx="9143640" cy="144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​​ 7"/>
          <p:cNvSpPr/>
          <p:nvPr/>
        </p:nvSpPr>
        <p:spPr>
          <a:xfrm>
            <a:off x="2963880" y="4740120"/>
            <a:ext cx="936360" cy="144000"/>
          </a:xfrm>
          <a:prstGeom prst="rect">
            <a:avLst/>
          </a:prstGeom>
          <a:gradFill rotWithShape="0">
            <a:gsLst>
              <a:gs pos="0">
                <a:srgbClr val="ee9012"/>
              </a:gs>
              <a:gs pos="100000">
                <a:srgbClr val="ffd03b"/>
              </a:gs>
            </a:gsLst>
            <a:lin ang="5400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79" name="直接连接符​​ 9"/>
          <p:cNvCxnSpPr/>
          <p:nvPr/>
        </p:nvCxnSpPr>
        <p:spPr>
          <a:xfrm>
            <a:off x="205092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0" name="直接连接符​​ 10"/>
          <p:cNvCxnSpPr/>
          <p:nvPr/>
        </p:nvCxnSpPr>
        <p:spPr>
          <a:xfrm>
            <a:off x="389556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1" name="直接连接符​​ 11"/>
          <p:cNvCxnSpPr/>
          <p:nvPr/>
        </p:nvCxnSpPr>
        <p:spPr>
          <a:xfrm>
            <a:off x="297324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" name="直接连接符​​ 12"/>
          <p:cNvCxnSpPr/>
          <p:nvPr/>
        </p:nvCxnSpPr>
        <p:spPr>
          <a:xfrm>
            <a:off x="481644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3" name="直接连接符​​ 13"/>
          <p:cNvCxnSpPr/>
          <p:nvPr/>
        </p:nvCxnSpPr>
        <p:spPr>
          <a:xfrm>
            <a:off x="573876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4" name="直接连接符​​ 14"/>
          <p:cNvCxnSpPr/>
          <p:nvPr/>
        </p:nvCxnSpPr>
        <p:spPr>
          <a:xfrm>
            <a:off x="6659280" y="4560840"/>
            <a:ext cx="360" cy="17964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85" name="TextBox 41"/>
          <p:cNvSpPr/>
          <p:nvPr/>
        </p:nvSpPr>
        <p:spPr>
          <a:xfrm>
            <a:off x="230328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22380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ee9012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3"/>
          <p:cNvSpPr/>
          <p:nvPr/>
        </p:nvSpPr>
        <p:spPr>
          <a:xfrm>
            <a:off x="414612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506844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5989320" y="4462560"/>
            <a:ext cx="44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0" descr=""/>
          <p:cNvPicPr/>
          <p:nvPr/>
        </p:nvPicPr>
        <p:blipFill>
          <a:blip r:embed="rId1"/>
          <a:srcRect l="0" t="7602" r="0" b="8468"/>
          <a:stretch/>
        </p:blipFill>
        <p:spPr>
          <a:xfrm>
            <a:off x="1569960" y="1644480"/>
            <a:ext cx="1609200" cy="2031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1"/>
          <p:cNvSpPr/>
          <p:nvPr/>
        </p:nvSpPr>
        <p:spPr>
          <a:xfrm>
            <a:off x="4114080" y="214776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章节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8"/>
          <p:cNvSpPr/>
          <p:nvPr/>
        </p:nvSpPr>
        <p:spPr>
          <a:xfrm>
            <a:off x="4287600" y="2868480"/>
            <a:ext cx="246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章节内容的简单介绍或者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0" y="537768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34"/>
          <p:cNvSpPr/>
          <p:nvPr/>
        </p:nvSpPr>
        <p:spPr>
          <a:xfrm>
            <a:off x="642960" y="1428840"/>
            <a:ext cx="3887280" cy="2241360"/>
          </a:xfrm>
          <a:prstGeom prst="roundRect">
            <a:avLst>
              <a:gd name="adj" fmla="val 8586"/>
            </a:avLst>
          </a:prstGeom>
          <a:noFill/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6" name="组合 28"/>
          <p:cNvGrpSpPr/>
          <p:nvPr/>
        </p:nvGrpSpPr>
        <p:grpSpPr>
          <a:xfrm>
            <a:off x="930240" y="3083040"/>
            <a:ext cx="313920" cy="315720"/>
            <a:chOff x="930240" y="3083040"/>
            <a:chExt cx="313920" cy="315720"/>
          </a:xfrm>
        </p:grpSpPr>
        <p:sp>
          <p:nvSpPr>
            <p:cNvPr id="97" name="泪滴形 21"/>
            <p:cNvSpPr/>
            <p:nvPr/>
          </p:nvSpPr>
          <p:spPr>
            <a:xfrm>
              <a:off x="930240" y="3083040"/>
              <a:ext cx="313920" cy="315720"/>
            </a:xfrm>
            <a:prstGeom prst="teardrop">
              <a:avLst>
                <a:gd name="adj" fmla="val 100000"/>
              </a:avLst>
            </a:prstGeom>
            <a:solidFill>
              <a:srgbClr val="57d3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椭圆​​ 16"/>
            <p:cNvSpPr/>
            <p:nvPr/>
          </p:nvSpPr>
          <p:spPr>
            <a:xfrm>
              <a:off x="1011240" y="3168720"/>
              <a:ext cx="147240" cy="1490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" name="组合 29"/>
          <p:cNvGrpSpPr/>
          <p:nvPr/>
        </p:nvGrpSpPr>
        <p:grpSpPr>
          <a:xfrm>
            <a:off x="930240" y="2606760"/>
            <a:ext cx="313920" cy="313920"/>
            <a:chOff x="930240" y="2606760"/>
            <a:chExt cx="313920" cy="313920"/>
          </a:xfrm>
        </p:grpSpPr>
        <p:sp>
          <p:nvSpPr>
            <p:cNvPr id="100" name="泪滴形 24"/>
            <p:cNvSpPr/>
            <p:nvPr/>
          </p:nvSpPr>
          <p:spPr>
            <a:xfrm flipH="1">
              <a:off x="930240" y="260676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​​ 19"/>
            <p:cNvSpPr/>
            <p:nvPr/>
          </p:nvSpPr>
          <p:spPr>
            <a:xfrm flipH="1">
              <a:off x="1009080" y="269244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2" name="组合 26"/>
          <p:cNvGrpSpPr/>
          <p:nvPr/>
        </p:nvGrpSpPr>
        <p:grpSpPr>
          <a:xfrm>
            <a:off x="930600" y="1651320"/>
            <a:ext cx="313920" cy="313920"/>
            <a:chOff x="930600" y="1651320"/>
            <a:chExt cx="313920" cy="313920"/>
          </a:xfrm>
        </p:grpSpPr>
        <p:sp>
          <p:nvSpPr>
            <p:cNvPr id="103" name="泪滴形 27"/>
            <p:cNvSpPr/>
            <p:nvPr/>
          </p:nvSpPr>
          <p:spPr>
            <a:xfrm flipH="1" rot="10800000">
              <a:off x="930600" y="165132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椭圆​​ 22"/>
            <p:cNvSpPr/>
            <p:nvPr/>
          </p:nvSpPr>
          <p:spPr>
            <a:xfrm flipH="1" rot="10800000">
              <a:off x="1010880" y="173880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5" name="组合 27"/>
          <p:cNvGrpSpPr/>
          <p:nvPr/>
        </p:nvGrpSpPr>
        <p:grpSpPr>
          <a:xfrm>
            <a:off x="930600" y="2128680"/>
            <a:ext cx="313920" cy="313920"/>
            <a:chOff x="930600" y="2128680"/>
            <a:chExt cx="313920" cy="313920"/>
          </a:xfrm>
        </p:grpSpPr>
        <p:sp>
          <p:nvSpPr>
            <p:cNvPr id="106" name="泪滴形 30"/>
            <p:cNvSpPr/>
            <p:nvPr/>
          </p:nvSpPr>
          <p:spPr>
            <a:xfrm flipH="1" rot="16200000">
              <a:off x="930600" y="212868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椭圆​​ 25"/>
            <p:cNvSpPr/>
            <p:nvPr/>
          </p:nvSpPr>
          <p:spPr>
            <a:xfrm flipH="1" rot="16200000">
              <a:off x="1009440" y="221616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矩形​​ 30"/>
          <p:cNvSpPr/>
          <p:nvPr/>
        </p:nvSpPr>
        <p:spPr>
          <a:xfrm>
            <a:off x="1833120" y="16225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​​ 31"/>
          <p:cNvSpPr/>
          <p:nvPr/>
        </p:nvSpPr>
        <p:spPr>
          <a:xfrm>
            <a:off x="1833120" y="21049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​​ 32"/>
          <p:cNvSpPr/>
          <p:nvPr/>
        </p:nvSpPr>
        <p:spPr>
          <a:xfrm>
            <a:off x="1833120" y="255276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​​ 33"/>
          <p:cNvSpPr/>
          <p:nvPr/>
        </p:nvSpPr>
        <p:spPr>
          <a:xfrm>
            <a:off x="1833120" y="302580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3919680" y="3156120"/>
            <a:ext cx="676080" cy="8474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4" descr=""/>
          <p:cNvPicPr/>
          <p:nvPr/>
        </p:nvPicPr>
        <p:blipFill>
          <a:blip r:embed="rId2"/>
          <a:stretch/>
        </p:blipFill>
        <p:spPr>
          <a:xfrm>
            <a:off x="2502000" y="4138560"/>
            <a:ext cx="780840" cy="6472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3"/>
          <a:stretch/>
        </p:blipFill>
        <p:spPr>
          <a:xfrm>
            <a:off x="687240" y="3917880"/>
            <a:ext cx="942480" cy="86652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55"/>
          <p:cNvGrpSpPr/>
          <p:nvPr/>
        </p:nvGrpSpPr>
        <p:grpSpPr>
          <a:xfrm>
            <a:off x="4615200" y="1583280"/>
            <a:ext cx="3983400" cy="3743640"/>
            <a:chOff x="4615200" y="1583280"/>
            <a:chExt cx="3983400" cy="3743640"/>
          </a:xfrm>
        </p:grpSpPr>
        <p:grpSp>
          <p:nvGrpSpPr>
            <p:cNvPr id="116" name="组合 4"/>
            <p:cNvGrpSpPr/>
            <p:nvPr/>
          </p:nvGrpSpPr>
          <p:grpSpPr>
            <a:xfrm>
              <a:off x="4852800" y="3591360"/>
              <a:ext cx="1520280" cy="1520280"/>
              <a:chOff x="4852800" y="3591360"/>
              <a:chExt cx="1520280" cy="1520280"/>
            </a:xfrm>
          </p:grpSpPr>
          <p:sp>
            <p:nvSpPr>
              <p:cNvPr id="117" name="泪滴形 72"/>
              <p:cNvSpPr/>
              <p:nvPr/>
            </p:nvSpPr>
            <p:spPr>
              <a:xfrm>
                <a:off x="4852800" y="3591360"/>
                <a:ext cx="1520280" cy="1520280"/>
              </a:xfrm>
              <a:prstGeom prst="teardrop">
                <a:avLst>
                  <a:gd name="adj" fmla="val 100000"/>
                </a:avLst>
              </a:prstGeom>
              <a:solidFill>
                <a:srgbClr val="57d3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椭圆​​ 3"/>
              <p:cNvSpPr/>
              <p:nvPr/>
            </p:nvSpPr>
            <p:spPr>
              <a:xfrm>
                <a:off x="5013000" y="3959640"/>
                <a:ext cx="991440" cy="99144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" name="组合 5"/>
            <p:cNvGrpSpPr/>
            <p:nvPr/>
          </p:nvGrpSpPr>
          <p:grpSpPr>
            <a:xfrm>
              <a:off x="6466680" y="3591360"/>
              <a:ext cx="1735560" cy="1735560"/>
              <a:chOff x="6466680" y="3591360"/>
              <a:chExt cx="1735560" cy="1735560"/>
            </a:xfrm>
          </p:grpSpPr>
          <p:sp>
            <p:nvSpPr>
              <p:cNvPr id="120" name="泪滴形 70"/>
              <p:cNvSpPr/>
              <p:nvPr/>
            </p:nvSpPr>
            <p:spPr>
              <a:xfrm flipH="1">
                <a:off x="6466320" y="3591360"/>
                <a:ext cx="1735560" cy="1735560"/>
              </a:xfrm>
              <a:prstGeom prst="teardrop">
                <a:avLst>
                  <a:gd name="adj" fmla="val 100000"/>
                </a:avLst>
              </a:prstGeom>
              <a:solidFill>
                <a:srgbClr val="09b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椭圆​​ 7"/>
              <p:cNvSpPr/>
              <p:nvPr/>
            </p:nvSpPr>
            <p:spPr>
              <a:xfrm flipH="1">
                <a:off x="6969960" y="4094280"/>
                <a:ext cx="1049760" cy="104976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2" name="泪滴形 58"/>
            <p:cNvSpPr/>
            <p:nvPr/>
          </p:nvSpPr>
          <p:spPr>
            <a:xfrm flipH="1" rot="10800000">
              <a:off x="4989600" y="2176560"/>
              <a:ext cx="1358640" cy="135864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3" name="组合 11"/>
            <p:cNvGrpSpPr/>
            <p:nvPr/>
          </p:nvGrpSpPr>
          <p:grpSpPr>
            <a:xfrm>
              <a:off x="6458760" y="1931040"/>
              <a:ext cx="1574280" cy="1574280"/>
              <a:chOff x="6458760" y="1931040"/>
              <a:chExt cx="1574280" cy="1574280"/>
            </a:xfrm>
          </p:grpSpPr>
          <p:sp>
            <p:nvSpPr>
              <p:cNvPr id="124" name="泪滴形 68"/>
              <p:cNvSpPr/>
              <p:nvPr/>
            </p:nvSpPr>
            <p:spPr>
              <a:xfrm flipV="1" rot="5400000">
                <a:off x="6458760" y="1930680"/>
                <a:ext cx="1574280" cy="1574280"/>
              </a:xfrm>
              <a:prstGeom prst="teardrop">
                <a:avLst>
                  <a:gd name="adj" fmla="val 100000"/>
                </a:avLst>
              </a:prstGeom>
              <a:solidFill>
                <a:srgbClr val="ffd03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椭圆​​ 13"/>
              <p:cNvSpPr/>
              <p:nvPr/>
            </p:nvSpPr>
            <p:spPr>
              <a:xfrm flipV="1" rot="5400000">
                <a:off x="6905160" y="2097360"/>
                <a:ext cx="961920" cy="96192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9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6" name="矩形​​ 44"/>
            <p:cNvSpPr/>
            <p:nvPr/>
          </p:nvSpPr>
          <p:spPr>
            <a:xfrm>
              <a:off x="7106400" y="229392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​​ 45"/>
            <p:cNvSpPr/>
            <p:nvPr/>
          </p:nvSpPr>
          <p:spPr>
            <a:xfrm>
              <a:off x="5258520" y="416700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​​ 46"/>
            <p:cNvSpPr/>
            <p:nvPr/>
          </p:nvSpPr>
          <p:spPr>
            <a:xfrm>
              <a:off x="7193880" y="434484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新月形 63"/>
            <p:cNvSpPr/>
            <p:nvPr/>
          </p:nvSpPr>
          <p:spPr>
            <a:xfrm rot="3501600">
              <a:off x="5174280" y="1729440"/>
              <a:ext cx="716040" cy="171324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椭圆​​ 10"/>
            <p:cNvSpPr/>
            <p:nvPr/>
          </p:nvSpPr>
          <p:spPr>
            <a:xfrm flipH="1" rot="10800000">
              <a:off x="5131800" y="2319480"/>
              <a:ext cx="812520" cy="81252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​​ 43"/>
            <p:cNvSpPr/>
            <p:nvPr/>
          </p:nvSpPr>
          <p:spPr>
            <a:xfrm>
              <a:off x="5281560" y="2500200"/>
              <a:ext cx="5011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新月形 66"/>
            <p:cNvSpPr/>
            <p:nvPr/>
          </p:nvSpPr>
          <p:spPr>
            <a:xfrm rot="3501600">
              <a:off x="6593040" y="148536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新月形 67"/>
            <p:cNvSpPr/>
            <p:nvPr/>
          </p:nvSpPr>
          <p:spPr>
            <a:xfrm rot="8052600">
              <a:off x="7383960" y="326988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88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4" name="新月形 74"/>
          <p:cNvSpPr/>
          <p:nvPr/>
        </p:nvSpPr>
        <p:spPr>
          <a:xfrm rot="2512200">
            <a:off x="4957560" y="3315240"/>
            <a:ext cx="716040" cy="151308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330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94200" y="609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​​ 22"/>
          <p:cNvSpPr/>
          <p:nvPr/>
        </p:nvSpPr>
        <p:spPr>
          <a:xfrm>
            <a:off x="0" y="3774960"/>
            <a:ext cx="9143640" cy="125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>
                  <a:alpha val="76078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​​ 13"/>
          <p:cNvSpPr/>
          <p:nvPr/>
        </p:nvSpPr>
        <p:spPr>
          <a:xfrm>
            <a:off x="1733400" y="3689640"/>
            <a:ext cx="5955840" cy="15764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​​ 8"/>
          <p:cNvSpPr/>
          <p:nvPr/>
        </p:nvSpPr>
        <p:spPr>
          <a:xfrm>
            <a:off x="2018880" y="3457080"/>
            <a:ext cx="5367960" cy="142056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​​ 9"/>
          <p:cNvSpPr/>
          <p:nvPr/>
        </p:nvSpPr>
        <p:spPr>
          <a:xfrm>
            <a:off x="2547360" y="3497760"/>
            <a:ext cx="4425120" cy="1169640"/>
          </a:xfrm>
          <a:prstGeom prst="ellipse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​​ 2"/>
          <p:cNvSpPr/>
          <p:nvPr/>
        </p:nvSpPr>
        <p:spPr>
          <a:xfrm rot="3835800">
            <a:off x="2406600" y="1994040"/>
            <a:ext cx="3188160" cy="181692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1816920"/>
              <a:gd name="textAreaBottom" fmla="*/ 1817280 h 1816920"/>
            </a:gdLst>
            <a:ahLst/>
            <a:rect l="textAreaLeft" t="textAreaTop" r="textAreaRight" b="textAreaBottom"/>
            <a:pathLst>
              <a:path w="3744416" h="2134150">
                <a:moveTo>
                  <a:pt x="84171" y="639414"/>
                </a:moveTo>
                <a:cubicBezTo>
                  <a:pt x="197779" y="414638"/>
                  <a:pt x="420227" y="219371"/>
                  <a:pt x="714046" y="77920"/>
                </a:cubicBezTo>
                <a:cubicBezTo>
                  <a:pt x="474787" y="243624"/>
                  <a:pt x="329830" y="463502"/>
                  <a:pt x="329830" y="704482"/>
                </a:cubicBezTo>
                <a:cubicBezTo>
                  <a:pt x="329830" y="1225515"/>
                  <a:pt x="1007482" y="1647896"/>
                  <a:pt x="1843407" y="1647896"/>
                </a:cubicBezTo>
                <a:cubicBezTo>
                  <a:pt x="2679332" y="1647897"/>
                  <a:pt x="3356984" y="1225515"/>
                  <a:pt x="3356984" y="704483"/>
                </a:cubicBezTo>
                <a:cubicBezTo>
                  <a:pt x="3356984" y="423811"/>
                  <a:pt x="3160343" y="171766"/>
                  <a:pt x="2847667" y="0"/>
                </a:cubicBezTo>
                <a:cubicBezTo>
                  <a:pt x="3385726" y="201094"/>
                  <a:pt x="3744416" y="565780"/>
                  <a:pt x="3744416" y="982022"/>
                </a:cubicBezTo>
                <a:cubicBezTo>
                  <a:pt x="3744416" y="1618325"/>
                  <a:pt x="2906200" y="2134150"/>
                  <a:pt x="1872208" y="2134150"/>
                </a:cubicBezTo>
                <a:cubicBezTo>
                  <a:pt x="838216" y="2134150"/>
                  <a:pt x="0" y="1618325"/>
                  <a:pt x="0" y="982022"/>
                </a:cubicBezTo>
                <a:cubicBezTo>
                  <a:pt x="0" y="862715"/>
                  <a:pt x="29468" y="747644"/>
                  <a:pt x="84171" y="639414"/>
                </a:cubicBezTo>
                <a:close/>
              </a:path>
            </a:pathLst>
          </a:cu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20034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1" name="椭圆​​ 4"/>
          <p:cNvSpPr/>
          <p:nvPr/>
        </p:nvSpPr>
        <p:spPr>
          <a:xfrm rot="14453400">
            <a:off x="4055040" y="1997280"/>
            <a:ext cx="2546640" cy="1821240"/>
          </a:xfrm>
          <a:custGeom>
            <a:avLst/>
            <a:gdLst>
              <a:gd name="textAreaLeft" fmla="*/ 0 w 2546640"/>
              <a:gd name="textAreaRight" fmla="*/ 2547000 w 2546640"/>
              <a:gd name="textAreaTop" fmla="*/ 0 h 1821240"/>
              <a:gd name="textAreaBottom" fmla="*/ 1821600 h 1821240"/>
            </a:gdLst>
            <a:ahLst/>
            <a:rect l="textAreaLeft" t="textAreaTop" r="textAreaRight" b="textAreaBottom"/>
            <a:pathLst>
              <a:path w="3329483" h="2048912">
                <a:moveTo>
                  <a:pt x="3254639" y="1329098"/>
                </a:moveTo>
                <a:cubicBezTo>
                  <a:pt x="3043864" y="1746122"/>
                  <a:pt x="2411763" y="2048912"/>
                  <a:pt x="1664742" y="2048912"/>
                </a:cubicBezTo>
                <a:cubicBezTo>
                  <a:pt x="745331" y="2048912"/>
                  <a:pt x="0" y="1590247"/>
                  <a:pt x="0" y="1024456"/>
                </a:cubicBezTo>
                <a:cubicBezTo>
                  <a:pt x="0" y="688506"/>
                  <a:pt x="262776" y="390325"/>
                  <a:pt x="669301" y="204720"/>
                </a:cubicBezTo>
                <a:cubicBezTo>
                  <a:pt x="380839" y="357953"/>
                  <a:pt x="198258" y="586400"/>
                  <a:pt x="198259" y="841427"/>
                </a:cubicBezTo>
                <a:cubicBezTo>
                  <a:pt x="198258" y="1304722"/>
                  <a:pt x="800816" y="1680297"/>
                  <a:pt x="1544110" y="1680297"/>
                </a:cubicBezTo>
                <a:cubicBezTo>
                  <a:pt x="2287403" y="1680297"/>
                  <a:pt x="2889961" y="1304722"/>
                  <a:pt x="2889961" y="841427"/>
                </a:cubicBezTo>
                <a:cubicBezTo>
                  <a:pt x="2889961" y="382098"/>
                  <a:pt x="2297677" y="8995"/>
                  <a:pt x="1563167" y="3156"/>
                </a:cubicBezTo>
                <a:cubicBezTo>
                  <a:pt x="1596734" y="632"/>
                  <a:pt x="1630618" y="0"/>
                  <a:pt x="1664742" y="0"/>
                </a:cubicBezTo>
                <a:cubicBezTo>
                  <a:pt x="2584153" y="0"/>
                  <a:pt x="3329483" y="458665"/>
                  <a:pt x="3329483" y="1024456"/>
                </a:cubicBezTo>
                <a:cubicBezTo>
                  <a:pt x="3329483" y="1130542"/>
                  <a:pt x="3303280" y="1232862"/>
                  <a:pt x="3254639" y="1329098"/>
                </a:cubicBezTo>
                <a:close/>
              </a:path>
            </a:pathLst>
          </a:cu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904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2" name="流程图: 摘录 48"/>
          <p:cNvSpPr/>
          <p:nvPr/>
        </p:nvSpPr>
        <p:spPr>
          <a:xfrm flipH="1" flipV="1" rot="19330800">
            <a:off x="4068720" y="1524600"/>
            <a:ext cx="363600" cy="177120"/>
          </a:xfrm>
          <a:prstGeom prst="flowChartExtract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3126000"/>
          </a:gra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3" name="流程图: 摘录 55"/>
          <p:cNvSpPr/>
          <p:nvPr/>
        </p:nvSpPr>
        <p:spPr>
          <a:xfrm flipH="1" flipV="1" rot="8127000">
            <a:off x="5028840" y="3887640"/>
            <a:ext cx="363600" cy="177840"/>
          </a:xfrm>
          <a:prstGeom prst="flowChartExtract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35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4" name="椭圆​​ 11"/>
          <p:cNvSpPr/>
          <p:nvPr/>
        </p:nvSpPr>
        <p:spPr>
          <a:xfrm>
            <a:off x="3743280" y="4455360"/>
            <a:ext cx="135396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椭圆​​ 10"/>
          <p:cNvSpPr/>
          <p:nvPr/>
        </p:nvSpPr>
        <p:spPr>
          <a:xfrm>
            <a:off x="4833360" y="4082760"/>
            <a:ext cx="1596240" cy="1216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2f2f2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TextBox 59"/>
          <p:cNvSpPr/>
          <p:nvPr/>
        </p:nvSpPr>
        <p:spPr>
          <a:xfrm>
            <a:off x="345240" y="2513880"/>
            <a:ext cx="2492280" cy="9432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6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​​ 24"/>
          <p:cNvSpPr/>
          <p:nvPr/>
        </p:nvSpPr>
        <p:spPr>
          <a:xfrm>
            <a:off x="581760" y="2226960"/>
            <a:ext cx="539640" cy="539640"/>
          </a:xfrm>
          <a:prstGeom prst="ellipse">
            <a:avLst/>
          </a:prstGeom>
          <a:gradFill rotWithShape="0">
            <a:gsLst>
              <a:gs pos="0">
                <a:srgbClr val="009ad0"/>
              </a:gs>
              <a:gs pos="100000">
                <a:srgbClr val="57d3ff"/>
              </a:gs>
            </a:gsLst>
            <a:lin ang="16200000"/>
          </a:gradFill>
          <a:ln w="1905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6"/>
          <p:cNvSpPr/>
          <p:nvPr/>
        </p:nvSpPr>
        <p:spPr>
          <a:xfrm>
            <a:off x="6548760" y="2513880"/>
            <a:ext cx="2492280" cy="9432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9525">
            <a:solidFill>
              <a:srgbClr val="ffffff">
                <a:lumMod val="6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​​ 26"/>
          <p:cNvSpPr/>
          <p:nvPr/>
        </p:nvSpPr>
        <p:spPr>
          <a:xfrm>
            <a:off x="6764760" y="2226960"/>
            <a:ext cx="539640" cy="539640"/>
          </a:xfrm>
          <a:prstGeom prst="ellipse">
            <a:avLst/>
          </a:prstGeom>
          <a:gradFill rotWithShape="0">
            <a:gsLst>
              <a:gs pos="0">
                <a:srgbClr val="ee9012"/>
              </a:gs>
              <a:gs pos="100000">
                <a:srgbClr val="ffc000"/>
              </a:gs>
            </a:gsLst>
            <a:lin ang="162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Arial Unicode MS"/>
                <a:ea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8"/>
          <p:cNvSpPr/>
          <p:nvPr/>
        </p:nvSpPr>
        <p:spPr>
          <a:xfrm>
            <a:off x="3474360" y="1978200"/>
            <a:ext cx="877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9"/>
          <p:cNvSpPr/>
          <p:nvPr/>
        </p:nvSpPr>
        <p:spPr>
          <a:xfrm>
            <a:off x="4947840" y="2248920"/>
            <a:ext cx="761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新月形 80"/>
          <p:cNvSpPr/>
          <p:nvPr/>
        </p:nvSpPr>
        <p:spPr>
          <a:xfrm rot="17490000">
            <a:off x="3857760" y="3135960"/>
            <a:ext cx="716040" cy="1700640"/>
          </a:xfrm>
          <a:prstGeom prst="moon">
            <a:avLst>
              <a:gd name="adj" fmla="val 4327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668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新月形 81"/>
          <p:cNvSpPr/>
          <p:nvPr/>
        </p:nvSpPr>
        <p:spPr>
          <a:xfrm rot="6728400">
            <a:off x="4971240" y="1212120"/>
            <a:ext cx="716040" cy="177552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752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63840" y="51771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4259160" y="3467520"/>
            <a:ext cx="2238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谢谢观看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  <Words>234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08:34:50Z</dcterms:created>
  <dc:creator>lidan</dc:creator>
  <dc:description/>
  <dc:language>en-US</dc:language>
  <cp:lastModifiedBy>a</cp:lastModifiedBy>
  <dcterms:modified xsi:type="dcterms:W3CDTF">2015-07-25T09:53:5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