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FFE53-E288-4462-AADA-9435C07450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7640" y="332640"/>
            <a:ext cx="3744000" cy="23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31E80-17EA-4D59-BEFB-98BD4B2214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7640" y="332640"/>
            <a:ext cx="3744000" cy="23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25F72-6118-4AC4-8A36-1BDCD1FE57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7640" y="332640"/>
            <a:ext cx="3744000" cy="23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60D57-0CFF-404E-8FA5-A0CF31F913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7640" y="332640"/>
            <a:ext cx="3744000" cy="23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0B766-098F-4E9E-8A99-D40B5B26AE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7640" y="332640"/>
            <a:ext cx="3744000" cy="23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20226-031E-4806-8D86-AA01D745A4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7640" y="332640"/>
            <a:ext cx="3744000" cy="23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9BF27-C446-431D-A46E-01F005D9FF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7640" y="332640"/>
            <a:ext cx="3744000" cy="23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5AA17-C11A-4B7D-BC65-1D6745E449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7640" y="332640"/>
            <a:ext cx="3744000" cy="106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FA1E6-7721-4305-A293-753B8DBCB7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7640" y="332640"/>
            <a:ext cx="3744000" cy="23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01861-7321-48AE-BECC-55C04F2179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7640" y="332640"/>
            <a:ext cx="3744000" cy="23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0AD9B-999B-46B8-A340-0FCDFE3099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7640" y="332640"/>
            <a:ext cx="3744000" cy="23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DAA05-CFDE-424E-A364-D4B49C8220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bfbf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 hidden="1"/>
          <p:cNvSpPr/>
          <p:nvPr/>
        </p:nvSpPr>
        <p:spPr>
          <a:xfrm>
            <a:off x="0" y="0"/>
            <a:ext cx="9143640" cy="1556280"/>
          </a:xfrm>
          <a:prstGeom prst="rect">
            <a:avLst/>
          </a:prstGeom>
          <a:gradFill rotWithShape="0">
            <a:gsLst>
              <a:gs pos="0">
                <a:srgbClr val="434343">
                  <a:alpha val="40000"/>
                </a:srgbClr>
              </a:gs>
              <a:gs pos="100000">
                <a:srgbClr val="5d5d5d">
                  <a:alpha val="50196"/>
                </a:srgbClr>
              </a:gs>
            </a:gsLst>
            <a:lin ang="16200000"/>
          </a:gradFill>
          <a:ln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  <a:reflection algn="bl" blurRad="6350" dir="5400000" endA="300" endPos="35000" rotWithShape="0" stA="52000" sy="-100000"/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  <a:ea typeface="宋体"/>
            </a:endParaRPr>
          </a:p>
        </p:txBody>
      </p:sp>
      <p:pic>
        <p:nvPicPr>
          <p:cNvPr id="1" name="Picture 2" descr="C:\Users\Shai Schwartz\Work\VisualBee\Public\Photos\legal1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7640" y="332640"/>
            <a:ext cx="3744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Candara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68B3BF-3FCA-453A-90C8-A3CEBE8863F6}" type="slidenum">
              <a:rPr b="0" lang="en-US" sz="1200" spc="-1" strike="noStrike">
                <a:solidFill>
                  <a:srgbClr val="8b8b8b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文字方塊 1"/>
          <p:cNvSpPr/>
          <p:nvPr/>
        </p:nvSpPr>
        <p:spPr>
          <a:xfrm>
            <a:off x="12600" y="12600"/>
            <a:ext cx="12240" cy="1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ndara"/>
              <a:ea typeface="宋体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487640" cy="2303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000000"/>
                </a:solidFill>
                <a:latin typeface="Candara"/>
                <a:ea typeface="PMingLiU"/>
              </a:rPr>
              <a:t>链锁商务</a:t>
            </a:r>
            <a:r>
              <a:rPr b="1" lang="en-US" sz="4000" spc="-1" strike="noStrike">
                <a:solidFill>
                  <a:srgbClr val="000000"/>
                </a:solidFill>
                <a:latin typeface="Candara"/>
                <a:ea typeface="PMingLiU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Candara"/>
                <a:ea typeface="PMingLiU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7640" y="2637000"/>
            <a:ext cx="37440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theme/theme1.xml><?xml version="1.0" encoding="utf-8"?>
<a:theme xmlns:a="http://schemas.openxmlformats.org/drawingml/2006/main" name="T219">
  <a:themeElements>
    <a:clrScheme name="VB_Gray">
      <a:dk1>
        <a:srgbClr val="000000"/>
      </a:dk1>
      <a:lt1>
        <a:srgbClr val="ffffff"/>
      </a:lt1>
      <a:dk2>
        <a:srgbClr val="292929"/>
      </a:dk2>
      <a:lt2>
        <a:srgbClr val="f8f8f8"/>
      </a:lt2>
      <a:accent1>
        <a:srgbClr val="3b3b3b"/>
      </a:accent1>
      <a:accent2>
        <a:srgbClr val="606060"/>
      </a:accent2>
      <a:accent3>
        <a:srgbClr val="6c6c6c"/>
      </a:accent3>
      <a:accent4>
        <a:srgbClr val="808080"/>
      </a:accent4>
      <a:accent5>
        <a:srgbClr val="5f5f5f"/>
      </a:accent5>
      <a:accent6>
        <a:srgbClr val="4d4d4d"/>
      </a:accent6>
      <a:hlink>
        <a:srgbClr val="5f5f5f"/>
      </a:hlink>
      <a:folHlink>
        <a:srgbClr val="9191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  <Words>14</Words>
  <Paragraphs>2</Paragraphs>
  <Company>Your Company Na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3:01:22Z</dcterms:created>
  <dc:creator>Your User Name</dc:creator>
  <dc:description/>
  <dc:language>en-US</dc:language>
  <cp:lastModifiedBy>a</cp:lastModifiedBy>
  <dcterms:modified xsi:type="dcterms:W3CDTF">2015-07-25T07:43:35Z</dcterms:modified>
  <cp:revision>5</cp:revision>
  <dc:subject/>
  <dc:title>投影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</vt:r8>
  </property>
</Properties>
</file>