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B85-9155-498F-9ED1-65AAFE0EB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34E-6466-411A-AEA8-7AE17C32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121-8276-44A4-90C6-7BD7E06D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980-717B-405D-92E7-D290C030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0AD-5EBF-4CFA-BFD1-38AA394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4F2-947F-4D24-AED3-006FFE59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54D-BF49-4B5E-8E60-3B424223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3559-0DAC-47E0-89D9-0E9696E5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303-A9FD-40BD-8555-DE557FF8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3D2-5B4B-4412-81CE-FAC0641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489-63FB-4A6E-B66D-670F3BA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A9C-054D-44E6-B0A7-7507360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  <a:ea typeface="PMingLiU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63D-ACE4-4642-9002-1A196BD3EECA}" type="slidenum">
              <a:rPr b="0" lang="zh-TW" sz="1200" spc="-1" strike="noStrike">
                <a:solidFill>
                  <a:srgbClr val="898989"/>
                </a:solidFill>
                <a:latin typeface="Calibri"/>
                <a:ea typeface="PMingLiU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02120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蓝色商务人才</a:t>
            </a:r>
            <a:r>
              <a:rPr b="0" lang="en-US" sz="40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粗黑体"/>
              </a:rPr>
              <a:t>点击此处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71320" y="2071800"/>
            <a:ext cx="7715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99840" y="2743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81bd"/>
                </a:solidFill>
                <a:latin typeface="Calibri"/>
                <a:ea typeface="粗黑体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43120" y="1500120"/>
            <a:ext cx="6043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粗黑体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粗黑体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402120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彩云简体"/>
                <a:ea typeface="方正彩云简体"/>
              </a:rPr>
              <a:t>谢谢您的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06:28:19Z</dcterms:created>
  <dc:creator>ppt宝藏</dc:creator>
  <dc:description/>
  <dc:language>en-US</dc:language>
  <cp:lastModifiedBy>a</cp:lastModifiedBy>
  <cp:lastPrinted>1899-12-30T00:00:00Z</cp:lastPrinted>
  <dcterms:modified xsi:type="dcterms:W3CDTF">2015-07-25T06:21:45Z</dcterms:modified>
  <cp:revision>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