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1180-2E6E-4B22-B8CE-91C1E6628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CC52-04C5-4AE7-BDD6-76A9D95C9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A4F0-2E00-4430-A222-7C2687A20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78A6-7EB3-4795-97E2-1FD14A2DB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7F91-521A-4911-BCB4-56C759D89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ACBF-3AA2-481D-A33F-051774973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43E8-155D-43C5-992E-04E2AE300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B1FC-7777-4041-A33C-E56C4B033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3640" y="4437000"/>
            <a:ext cx="7776360" cy="56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99EE-D53A-4793-B8DF-283F1DED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A0FC-2480-4BB8-8C9C-E8EF88FAE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AD7B-B30C-46A5-896E-4A271F189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979D-F8D7-4CA6-A236-705744DA9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Shai Schwartz\Work\VisualBee\Public\Photos\sketch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17" hidden="1"/>
          <p:cNvSpPr/>
          <p:nvPr/>
        </p:nvSpPr>
        <p:spPr>
          <a:xfrm>
            <a:off x="0" y="0"/>
            <a:ext cx="9143640" cy="1483920"/>
          </a:xfrm>
          <a:prstGeom prst="rect">
            <a:avLst/>
          </a:prstGeom>
          <a:solidFill>
            <a:schemeClr val="tx2">
              <a:alpha val="80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  <a:ea typeface="宋体"/>
            </a:endParaRPr>
          </a:p>
        </p:txBody>
      </p:sp>
      <p:pic>
        <p:nvPicPr>
          <p:cNvPr id="2" name="Picture 8" descr="C:\Users\Shai Schwartz\Work\VisualBee\Public\Photos\tech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3640" y="4437000"/>
            <a:ext cx="7776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9306C7-CCBF-45B3-819B-E8B8FB1D63C9}" type="slidenum">
              <a:rPr b="0" lang="en-US" sz="1200" spc="-1" strike="noStrike">
                <a:solidFill>
                  <a:srgbClr val="8b8b8b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1"/>
          <p:cNvSpPr/>
          <p:nvPr/>
        </p:nvSpPr>
        <p:spPr>
          <a:xfrm>
            <a:off x="12600" y="12600"/>
            <a:ext cx="12240" cy="1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ndara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528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立体齿轮通用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  <a:ea typeface="PMingLiU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ndara"/>
                <a:ea typeface="PMingLiU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T211">
  <a:themeElements>
    <a:clrScheme name="VB_Gray">
      <a:dk1>
        <a:srgbClr val="000000"/>
      </a:dk1>
      <a:lt1>
        <a:srgbClr val="ffffff"/>
      </a:lt1>
      <a:dk2>
        <a:srgbClr val="292929"/>
      </a:dk2>
      <a:lt2>
        <a:srgbClr val="f8f8f8"/>
      </a:lt2>
      <a:accent1>
        <a:srgbClr val="3b3b3b"/>
      </a:accent1>
      <a:accent2>
        <a:srgbClr val="606060"/>
      </a:accent2>
      <a:accent3>
        <a:srgbClr val="6c6c6c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3</Words>
  <Paragraphs>2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5:58:34Z</dcterms:created>
  <dc:creator>Your User Name</dc:creator>
  <dc:description/>
  <dc:language>en-US</dc:language>
  <cp:lastModifiedBy>王玉清</cp:lastModifiedBy>
  <dcterms:modified xsi:type="dcterms:W3CDTF">2016-02-24T04:06:31Z</dcterms:modified>
  <cp:revision>5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