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E098-B1C2-4EB3-B73B-EE93CF6C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63C5-60DB-4B7F-810A-F2597898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CF72-0E54-47DD-B578-7EC5E7E7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7476-CC38-4483-B24B-AEF3BE20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B8D3-C5AA-4F8D-8632-34EBB7A1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9E8A-FAA2-43A6-AE53-599406EC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6FF5-075D-4B0D-9599-99CCB963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B3D0-1DF7-480F-B053-4E748401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B0BD-F70A-47E4-B146-079F6C3A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E5D7-B4AC-4453-B1FB-6F246BB1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0F4E-5871-44E7-B970-AC18D616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DA5-C85F-4539-B6A6-5A8C4C96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A439-15FD-4A08-8A5E-C986AE8D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DCA6-5986-4F34-8F30-3C94A3B6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E79E-8F43-4D49-8E59-8536D58F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0BFF-CAE5-471B-9DD4-70D6FB06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944B-883C-45E1-B202-1D97D6F4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C439-F3AA-4B2C-8F1A-7A8EFBAC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DA80-A810-43DC-AA92-6ADC8FCE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EED2-3FAC-424B-A697-7AAC7136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69CE-7DE6-4B4A-AB11-F7674456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3EA2-0C94-46ED-AB9B-CD2DC204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530D-73B8-4668-8AD5-E5E96E18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3D86-A22D-4FEE-BE28-C5627AA7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43F7-FF71-404A-A441-37339E932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华文行楷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行楷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F7AB-C900-4E2B-ADA8-3C9E7F52A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342880"/>
            <a:ext cx="723888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</a:rPr>
              <a:t>梅花通用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511200" y="4824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华文行楷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行楷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华文行楷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内页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首页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行楷"/>
              </a:rPr>
              <a:t>字体格式的设置：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行楷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3198960" y="2457360"/>
            <a:ext cx="32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PPT模板 </cp:keywords>
  <dc:language>en-US</dc:language>
  <cp:lastModifiedBy>王玉清</cp:lastModifiedBy>
  <dcterms:modified xsi:type="dcterms:W3CDTF">2016-02-22T03:01:46Z</dcterms:modified>
  <cp:revision>15</cp:revision>
  <dc:subject/>
  <dc:title>中国风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