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DFB4-D13F-4976-B8B3-B5C80BFE8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4A0E-DB33-458C-89D0-9A29797D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6788-0FE9-4DA5-B53D-6DF349DC9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63BB-4B67-430F-B27C-5879BCE3D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CA56-C748-4A18-98CD-12462790E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2544-6C93-4E1F-9419-8CFE4201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09C7-DF92-40E5-9B02-C1288B0B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7D14-E329-4969-AE2F-05E1D4EA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01C9-4ACD-486E-B8FB-EE16B09F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1BC3-82F7-427B-90F4-B8193A01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BB65-0586-4911-AD21-3B18F796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093A-D56E-451A-AAB4-4C07CE04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C199-F024-4057-BACC-3DA018B3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3F0A-EB63-4FA0-A98E-2B435E20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EBAC-BDDC-4D1F-9270-00BF2F86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83F3-3743-4B9F-9D7E-42AA7E638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6304-08D5-4E6E-8EC7-B3E8ED8A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73E3-1A69-46DC-BC94-B52A800E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A887-1886-4249-A67C-5DF1DD95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3587-CA47-423B-9782-F732BEDB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0519-1AB5-4D40-8719-F4575843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27A3-0043-40C9-9A53-F92E6A41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0C05-BD78-4F68-AE23-FFF6E346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80B1-847E-4B1B-9521-3FE0FC94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99AD42-7CA6-4949-8330-17329FDE138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403428-C59F-40BF-A4C0-BB16E0EC356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4"/>
          <p:cNvSpPr/>
          <p:nvPr/>
        </p:nvSpPr>
        <p:spPr>
          <a:xfrm>
            <a:off x="821520" y="116640"/>
            <a:ext cx="1079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4" name="矩形 7"/>
          <p:cNvSpPr/>
          <p:nvPr/>
        </p:nvSpPr>
        <p:spPr>
          <a:xfrm>
            <a:off x="7153560" y="328320"/>
            <a:ext cx="522720" cy="44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模板适合用于制作与爱情有关的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"/>
          <p:cNvSpPr/>
          <p:nvPr/>
        </p:nvSpPr>
        <p:spPr>
          <a:xfrm>
            <a:off x="1847880" y="232200"/>
            <a:ext cx="5156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梦想与爱情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  <Words>108</Words>
  <Paragraphs>1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6T00:32:00Z</dcterms:created>
  <dc:creator>lenovo</dc:creator>
  <dc:description/>
  <dc:language>en-US</dc:language>
  <cp:lastModifiedBy>王玉清</cp:lastModifiedBy>
  <dcterms:modified xsi:type="dcterms:W3CDTF">2016-02-20T03:25:07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</vt:r8>
  </property>
</Properties>
</file>