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8D4-1B03-4FF3-BE80-971B8671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94B-0B4E-4387-8E01-A28BE881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04E-4AF8-4252-ACB6-FAE9F01C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231-81F7-4D1F-B30F-EB5307FE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473-5010-4379-9884-319DAECA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BAE-7D95-46F3-8BBC-503EF25E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004-0EDD-430B-B09E-311B7046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916-EF43-4A5D-AE66-B0538B06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3F7-5F03-4DAF-8A04-D3E30480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43C-E828-443F-BD51-F5E9454A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BCD-CF06-4AE2-B1F1-BFDBE586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FEE-51B0-41C6-BFE5-B9261294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7843-53F0-46DF-AE6C-7BF90CFC5B5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1953360" y="260280"/>
            <a:ext cx="596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柠檬片特写通用</a:t>
            </a:r>
            <a:r>
              <a:rPr b="0" lang="en-US" sz="4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4"/>
          <p:cNvSpPr/>
          <p:nvPr/>
        </p:nvSpPr>
        <p:spPr>
          <a:xfrm>
            <a:off x="179280" y="6618240"/>
            <a:ext cx="936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8:41:59Z</dcterms:created>
  <dc:creator>Mariajose</dc:creator>
  <dc:description/>
  <dc:language>en-US</dc:language>
  <cp:lastModifiedBy>王玉清</cp:lastModifiedBy>
  <dcterms:modified xsi:type="dcterms:W3CDTF">2016-02-21T03:35:18Z</dcterms:modified>
  <cp:revision>1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