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F407-099B-4C4A-91AB-31E61FE27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4EF1-2D84-4C48-822D-47FACC80A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4371-2F08-415C-95C1-4CBD668C3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3310-2479-4948-8D6D-46AE66C3E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7401-8915-4FFE-ACC3-2E7A00C16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87A6-84C7-4D2A-B861-7AE9F1E04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FB13-FB0A-4CC2-8883-4B6E25912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D944-6039-4141-BE9D-8F7B70CF0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D2AA-B196-428A-BD85-C5E309644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184A-5395-408D-AB7C-CF78B20FE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3E3E-3338-4566-AB65-BDF305817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HY견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B72E-0993-45C8-A4D2-F6F8A45FB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ptline_10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355640" y="6600600"/>
            <a:ext cx="4050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1D2-79BA-46C8-B469-7A79FE8BAAC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ptline_1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1"/>
          <p:cNvSpPr/>
          <p:nvPr/>
        </p:nvSpPr>
        <p:spPr>
          <a:xfrm>
            <a:off x="1633320" y="14875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蒲公英飞翔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2"/>
          <p:cNvSpPr/>
          <p:nvPr/>
        </p:nvSpPr>
        <p:spPr>
          <a:xfrm>
            <a:off x="4356000" y="6600960"/>
            <a:ext cx="40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8D0-AB99-4AEA-9822-83F19703C0D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0:02:27Z</dcterms:created>
  <dc:creator>user</dc:creator>
  <dc:description/>
  <dc:language>en-US</dc:language>
  <cp:lastModifiedBy>王玉清</cp:lastModifiedBy>
  <dcterms:modified xsi:type="dcterms:W3CDTF">2016-02-22T03:41:31Z</dcterms:modified>
  <cp:revision>6</cp:revision>
  <dc:subject/>
  <dc:title>幻灯片 1</dc:title>
</cp:coreProperties>
</file>