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8AF-F528-441E-8C07-42953FE6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A2E-0C94-4FEE-87E7-CC87E226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DD5-2BAD-4EF7-8D59-87B2E1EC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657-465F-42DE-8019-3259E447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6F7-AD87-4598-BE82-6B01A98D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004-9DB8-4768-A216-37D7941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EE8-FA9A-4478-9986-12B2DF3F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339-0C56-4ABE-98C6-A4454391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63E-9836-4A24-8A93-F06B4C77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578-5A1A-44A0-9E9E-D90C1B5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A22-80AC-4977-925D-B2C5F78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B42-C35F-42E7-AD9A-78E694F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07AA46-1FA1-4F5C-A5B7-F786366522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5200">
            <a:off x="-3308760" y="3026880"/>
            <a:ext cx="15662520" cy="67906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矩形 10"/>
          <p:cNvSpPr/>
          <p:nvPr/>
        </p:nvSpPr>
        <p:spPr>
          <a:xfrm rot="1765200">
            <a:off x="-12960" y="-2554200"/>
            <a:ext cx="15662520" cy="67906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1041480" dir="21010842" dist="37996" rotWithShape="0" sx="101000" sy="101000">
              <a:srgbClr val="000000">
                <a:alpha val="2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" name="组合 17"/>
          <p:cNvGrpSpPr/>
          <p:nvPr/>
        </p:nvGrpSpPr>
        <p:grpSpPr>
          <a:xfrm>
            <a:off x="5083560" y="3328200"/>
            <a:ext cx="2574000" cy="653040"/>
            <a:chOff x="5083560" y="3328200"/>
            <a:chExt cx="2574000" cy="653040"/>
          </a:xfrm>
        </p:grpSpPr>
        <p:sp>
          <p:nvSpPr>
            <p:cNvPr id="44" name="矩形 13"/>
            <p:cNvSpPr/>
            <p:nvPr/>
          </p:nvSpPr>
          <p:spPr>
            <a:xfrm>
              <a:off x="5083560" y="3333600"/>
              <a:ext cx="2574000" cy="64728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51" strike="noStrike">
                  <a:solidFill>
                    <a:srgbClr val="d9d9d9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240" y="3328200"/>
              <a:ext cx="85320" cy="6530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6" name="组合 20"/>
          <p:cNvGrpSpPr/>
          <p:nvPr/>
        </p:nvGrpSpPr>
        <p:grpSpPr>
          <a:xfrm>
            <a:off x="4552920" y="1847880"/>
            <a:ext cx="3104640" cy="837720"/>
            <a:chOff x="4552920" y="1847880"/>
            <a:chExt cx="3104640" cy="83772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4640" cy="8377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600" spc="-15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240" y="1882440"/>
              <a:ext cx="85320" cy="76860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9" name="组合 22"/>
          <p:cNvGrpSpPr/>
          <p:nvPr/>
        </p:nvGrpSpPr>
        <p:grpSpPr>
          <a:xfrm>
            <a:off x="3951360" y="2685960"/>
            <a:ext cx="3706200" cy="647280"/>
            <a:chOff x="3951360" y="2685960"/>
            <a:chExt cx="3706200" cy="64728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200" cy="64728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5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240" y="2720520"/>
              <a:ext cx="85320" cy="578160"/>
            </a:xfrm>
            <a:prstGeom prst="rect">
              <a:avLst/>
            </a:prstGeom>
            <a:solidFill>
              <a:srgbClr val="1b2371"/>
            </a:solidFill>
            <a:ln>
              <a:noFill/>
            </a:ln>
            <a:effectLst>
              <a:outerShdw algn="t" blurRad="1041480" dir="21010842" dist="37996" rotWithShape="0" sx="101000" sy="101000">
                <a:srgbClr val="000000">
                  <a:alpha val="2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3280"/>
            <a:ext cx="3104640" cy="83772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040" cy="64728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椭圆 29"/>
          <p:cNvSpPr/>
          <p:nvPr/>
        </p:nvSpPr>
        <p:spPr>
          <a:xfrm>
            <a:off x="292104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椭圆 30"/>
          <p:cNvSpPr/>
          <p:nvPr/>
        </p:nvSpPr>
        <p:spPr>
          <a:xfrm>
            <a:off x="461628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椭圆 31"/>
          <p:cNvSpPr/>
          <p:nvPr/>
        </p:nvSpPr>
        <p:spPr>
          <a:xfrm>
            <a:off x="629280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椭圆 32"/>
          <p:cNvSpPr/>
          <p:nvPr/>
        </p:nvSpPr>
        <p:spPr>
          <a:xfrm>
            <a:off x="7933680" y="61848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3944520" y="123048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漂亮简洁大气动态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fade/>
      </p:transition>
    </mc:Choice>
    <mc:Fallback>
      <p:transition spd="slow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137760" y="2623680"/>
            <a:ext cx="1158120" cy="2097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328640" y="2623680"/>
            <a:ext cx="1158120" cy="16052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514480" y="2623680"/>
            <a:ext cx="1158120" cy="28245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695640" y="2623680"/>
            <a:ext cx="1158120" cy="2097360"/>
          </a:xfrm>
          <a:prstGeom prst="rect">
            <a:avLst/>
          </a:prstGeom>
          <a:solidFill>
            <a:srgbClr val="1b23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d9d9d9"/>
                </a:solidFill>
                <a:latin typeface="HelveticaNeue LT 97 BlackCn"/>
              </a:rPr>
              <a:t>PH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876440" y="2623680"/>
            <a:ext cx="1158120" cy="39484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3137760" y="2623680"/>
            <a:ext cx="5887440" cy="45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101520" dir="5400000" dist="38160" rotWithShape="0">
              <a:srgbClr val="000000">
                <a:alpha val="31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292104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61628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29280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7933680" y="-673200"/>
            <a:ext cx="1250640" cy="125064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3762360" y="1242360"/>
            <a:ext cx="4646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d9d9d9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748680" y="937800"/>
            <a:ext cx="466452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4000"/>
              </a:lnSpc>
            </a:pPr>
            <a:r>
              <a:rPr b="0" lang="en-US" sz="5400" spc="-151" strike="noStrike">
                <a:solidFill>
                  <a:srgbClr val="d9d9d9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4000"/>
              </a:lnSpc>
            </a:pPr>
            <a:r>
              <a:rPr b="0" lang="en-US" sz="4000" spc="-151" strike="noStrike">
                <a:solidFill>
                  <a:srgbClr val="d9d9d9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36592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236592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36592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07996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07996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7996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7778160" y="2583360"/>
            <a:ext cx="2017080" cy="1610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778160" y="4194720"/>
            <a:ext cx="2017080" cy="85608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7778160" y="5050800"/>
            <a:ext cx="2017080" cy="623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2691720" y="522612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589560" y="522612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520" y="522036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20360"/>
            <a:ext cx="284760" cy="284760"/>
          </a:xfrm>
          <a:prstGeom prst="rect">
            <a:avLst/>
          </a:prstGeom>
          <a:ln w="0">
            <a:noFill/>
          </a:ln>
        </p:spPr>
      </p:pic>
      <p:sp>
        <p:nvSpPr>
          <p:cNvPr id="85" name="矩形 20"/>
          <p:cNvSpPr/>
          <p:nvPr/>
        </p:nvSpPr>
        <p:spPr>
          <a:xfrm>
            <a:off x="5416200" y="522036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313680" y="522036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640" y="521496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920" y="5214960"/>
            <a:ext cx="284760" cy="284760"/>
          </a:xfrm>
          <a:prstGeom prst="rect">
            <a:avLst/>
          </a:prstGeom>
          <a:ln w="0">
            <a:noFill/>
          </a:ln>
        </p:spPr>
      </p:pic>
      <p:sp>
        <p:nvSpPr>
          <p:cNvPr id="89" name="矩形 24"/>
          <p:cNvSpPr/>
          <p:nvPr/>
        </p:nvSpPr>
        <p:spPr>
          <a:xfrm>
            <a:off x="8125200" y="5214960"/>
            <a:ext cx="71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9022680" y="5214960"/>
            <a:ext cx="752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2640" y="520920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2920" y="5209200"/>
            <a:ext cx="284760" cy="28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600" y="2729880"/>
            <a:ext cx="1326600" cy="139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9640" y="2758680"/>
            <a:ext cx="126792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9160" y="2786040"/>
            <a:ext cx="9684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5068080" y="601200"/>
            <a:ext cx="2055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276120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281232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281232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522936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28048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28048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9"/>
          <p:cNvSpPr/>
          <p:nvPr/>
        </p:nvSpPr>
        <p:spPr>
          <a:xfrm>
            <a:off x="7686000" y="2266560"/>
            <a:ext cx="1710000" cy="1710000"/>
          </a:xfrm>
          <a:prstGeom prst="ellipse">
            <a:avLst/>
          </a:prstGeom>
          <a:solidFill>
            <a:srgbClr val="1b2371"/>
          </a:solidFill>
          <a:ln w="101600">
            <a:solidFill>
              <a:srgbClr val="ffffff">
                <a:lumMod val="95000"/>
              </a:srgbClr>
            </a:solidFill>
          </a:ln>
          <a:effectLst>
            <a:innerShdw blurRad="114300" dir="17040000" dist="139700">
              <a:srgbClr val="000000">
                <a:alpha val="31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chemeClr val="lt1"/>
                </a:solidFill>
                <a:latin typeface="HelveticaNeue LT 107 XBlkCn"/>
              </a:rPr>
              <a:t>F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7737120" y="4285440"/>
            <a:ext cx="1607760" cy="758160"/>
          </a:xfrm>
          <a:prstGeom prst="rect">
            <a:avLst/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7737120" y="5043960"/>
            <a:ext cx="1607760" cy="7581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等腰三角形 12"/>
          <p:cNvSpPr/>
          <p:nvPr/>
        </p:nvSpPr>
        <p:spPr>
          <a:xfrm>
            <a:off x="348012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等腰三角形 13"/>
          <p:cNvSpPr/>
          <p:nvPr/>
        </p:nvSpPr>
        <p:spPr>
          <a:xfrm>
            <a:off x="595944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等腰三角形 14"/>
          <p:cNvSpPr/>
          <p:nvPr/>
        </p:nvSpPr>
        <p:spPr>
          <a:xfrm>
            <a:off x="8404920" y="4122000"/>
            <a:ext cx="27252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92840" y="1336680"/>
            <a:ext cx="5806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圆角矩形 8"/>
          <p:cNvSpPr/>
          <p:nvPr/>
        </p:nvSpPr>
        <p:spPr>
          <a:xfrm>
            <a:off x="247032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9"/>
          <p:cNvSpPr/>
          <p:nvPr/>
        </p:nvSpPr>
        <p:spPr>
          <a:xfrm flipV="1">
            <a:off x="335628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圆角矩形 15"/>
          <p:cNvSpPr/>
          <p:nvPr/>
        </p:nvSpPr>
        <p:spPr>
          <a:xfrm>
            <a:off x="507240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16"/>
          <p:cNvSpPr/>
          <p:nvPr/>
        </p:nvSpPr>
        <p:spPr>
          <a:xfrm flipV="1">
            <a:off x="595836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圆角矩形 22"/>
          <p:cNvSpPr/>
          <p:nvPr/>
        </p:nvSpPr>
        <p:spPr>
          <a:xfrm>
            <a:off x="7707240" y="49388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等腰三角形 23"/>
          <p:cNvSpPr/>
          <p:nvPr/>
        </p:nvSpPr>
        <p:spPr>
          <a:xfrm flipV="1">
            <a:off x="8593200" y="5706360"/>
            <a:ext cx="274680" cy="23688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4481280" y="856080"/>
            <a:ext cx="3229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51" strike="noStrike">
                <a:solidFill>
                  <a:srgbClr val="d9d9d9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3464640" y="1696680"/>
            <a:ext cx="526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</a:pPr>
            <a:r>
              <a:rPr b="0" lang="en-US" sz="1800" spc="-1" strike="noStrike">
                <a:solidFill>
                  <a:srgbClr val="d9d9d9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圆角矩形 3"/>
          <p:cNvSpPr/>
          <p:nvPr/>
        </p:nvSpPr>
        <p:spPr>
          <a:xfrm>
            <a:off x="247032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247032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247032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47032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247032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圆角矩形 10"/>
          <p:cNvSpPr/>
          <p:nvPr/>
        </p:nvSpPr>
        <p:spPr>
          <a:xfrm>
            <a:off x="507240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507240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507240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07240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507240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圆角矩形 17"/>
          <p:cNvSpPr/>
          <p:nvPr/>
        </p:nvSpPr>
        <p:spPr>
          <a:xfrm>
            <a:off x="7707240" y="2552040"/>
            <a:ext cx="2046960" cy="862920"/>
          </a:xfrm>
          <a:prstGeom prst="roundRect">
            <a:avLst>
              <a:gd name="adj" fmla="val 16667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7707240" y="32788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7707240" y="37530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7707240" y="4227480"/>
            <a:ext cx="2046960" cy="473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7707240" y="4701600"/>
            <a:ext cx="2046960" cy="473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3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4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64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2400" y="336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2400" y="4324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2400" y="3845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2400" y="4788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040" y="4325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040" y="4802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040" y="3851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040" y="33634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966240" y="2295360"/>
            <a:ext cx="1025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223960" y="5522760"/>
            <a:ext cx="1735920" cy="6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  <Words>102</Words>
  <Paragraphs>65</Paragraphs>
  <Company>uniquePP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9Z</dcterms:created>
  <dc:creator>DEMONCHAN</dc:creator>
  <dc:description/>
  <dc:language>en-US</dc:language>
  <cp:lastModifiedBy>a</cp:lastModifiedBy>
  <dcterms:modified xsi:type="dcterms:W3CDTF">2015-07-25T08:21:27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