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0E5-B3CF-4058-AE50-E80FA4A5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F3B-5A71-4841-804A-F5E4A9D5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BA058-FD9D-4286-A69F-17C93082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B6F44-BE91-4060-A935-8DAEA6E0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0BBCE-2096-4B8C-9150-A8F32D98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49A0F-4CAA-42B4-BC2D-6F33A5D1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B18B5-5976-4056-A427-9EA94B2F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5D7B1-DF5E-4B64-A4C2-BAD53E00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8C10F-A059-4C20-B986-F2E43D66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5A8D4-9CF6-4B8A-8B6D-F824D11B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F6DC3-2827-4617-9EF3-3F19E04D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27038-C20B-4477-878E-81392114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5B6-2453-4302-A255-DB5FC311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1AF85-6315-4614-B4D3-6CADB0C5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031B0-F576-4574-BAD6-8E3C958F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710DC-087A-4E1E-AEEB-19B27C53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BB6BF-AC72-4AFB-B58B-12A61067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96B78-AE50-4716-B4FE-36C14F4B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8AF88-69F5-4FDE-9E72-0666C28C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60989-A93C-42AE-A5BA-C41DA2B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7358E-18AC-4141-AD44-205C74FD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A1E67-1BC3-45DC-9F08-8FE04FF6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FB25C-F6B9-4356-BD78-6186B937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72B-CB28-41D3-BD30-8497613F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DDE31-B092-4A17-9935-D04202C6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54856-468B-4DB7-A4F4-86F19A65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64AE7-6E87-4D1C-BA35-69FEA9F1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1BD26-893A-4598-8100-2BF1530F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E22D3-BF4F-4FA8-B28E-BD4D165E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9E2EF-FD8F-4CF7-8F6F-41A51949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9E22A-2601-4AC4-ABF8-5DDE602D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0DA70-8B7B-4890-9F95-70D4F639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C6557-F4D4-47F7-9B32-42E3D12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83567-82CE-4300-A244-7FD64381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F897-934D-4A9C-846E-00BBD1AA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0146A-8A51-42CF-85DD-614752EE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4CB35-2FF1-47DE-9DB0-4A8B25A0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899E5-F4FF-44FA-99B7-64763EE6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5E08D-218A-4246-A2E5-4D628C69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38568-A96C-448F-A834-DBF70049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8953F-FC82-4B08-89EE-5CAE1777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D34BD-3B96-43E3-A536-1B019E8D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2162C-43D3-4441-BBE9-21B5C812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742F5-3363-4B73-B0F7-02FAE9CB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05576-891C-4698-BE35-1836E962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96A7-7C41-41C1-AC3D-B8FD218F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2D16E-C577-4472-8ABB-ADE3FF54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8AF1A-DA3D-4C58-B7CD-3C937EB5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52AD1-0861-40BB-A9BD-4EC1C870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60309-167C-4C6C-AC85-F4F66E8F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FDEC9-1A1E-402B-A5A6-80CFF356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2250-1939-46EC-9BBC-C7BC297C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4DC3-DDCC-48F6-8D9D-564DD53C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2CBC-0AD4-4E10-8271-F6A943DB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8232-26C8-4CB0-BC57-F519D8BB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E14D-5EA8-4C24-80C0-09C070BE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4D3-F36F-4D0E-A299-AB1F50E0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1677-A8A5-418D-8412-E70B5EA5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86D2-68B1-4E2D-9DD0-E0A0FEF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B92C-B626-4176-A8BE-C14104C7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6E5B-320D-4DCE-B3EB-A96A9FE2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3277-527F-4F04-8797-C975EC8A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75C7-E93C-4808-B1E9-69088F6C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35E0-533A-44A3-ACFD-EC8D2C3F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7AF3-C62F-495D-8743-363BA56F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7A0D-4E24-4B8F-96FD-30CA11B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4CB9-60DA-408A-A33B-50073ADA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1F6-F604-450F-A0F8-29AAA32A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7144-24F7-4379-8AA6-F4EFDF0C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6FF5-F1E6-406E-A732-8A1CF63E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1CAE-22AE-4AD7-9D72-B52096B9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25B1-0CE9-4EED-B380-F3DCB0D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C88C-63E5-4249-90B1-F62AA740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9B02-32DA-46BD-8545-8273B13F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C49F-EE48-4CD8-912D-9A70E951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98518-82E7-42E7-B7E8-625973DE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1122B-BF8B-4AB8-9B28-3FE0DFEC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0678-DA7F-4817-906C-FBE4885E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290-39F6-41C2-A878-6D052662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DB5F-5FE5-4A55-AA6A-C6278E88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D27FB-8141-4437-899E-93A3DE9C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9EA19-07B9-4AD3-8DDE-1F26DE31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663C-A13C-47AD-838B-053BBD9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EA913-341D-46FF-BAF8-3FDD30DB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1FD1-9C8C-4ABF-B744-39664383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3C4D-7014-42AA-AB25-D6AD3A90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6215-95BB-4E85-B028-820450E6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D9C7-1DAA-446A-B0E6-691D2466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BAB43-BDFD-4216-8C67-BD4AC352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127-9CF2-4337-B86B-12C30F6E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2D122-566E-4AA9-AB65-61041FAC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E651F-17FF-48D3-956B-C574BD67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FFCAB-9067-4F09-B220-3FB79E3B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9D912-4996-4DE8-A8F1-887C3489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12FFB-7A65-4560-90A5-8B2CE153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449A9-BCD8-45A4-A792-D6E343B1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4CEAF-28BC-4F1C-9C40-E103A7E5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78B73-2E8B-4337-9A72-4B971DEB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6174B-375A-4E00-8706-DD6E3972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4A800-6169-4B4F-A3A8-EB5DF990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6BC-1B35-4A23-AA20-DBD025A7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A3293-16ED-4572-8CF5-740582C3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B4E05-E75D-4DC5-9D32-C85EC8D2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7D64D-81A2-470A-9FC4-285CD791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26BE8-AACF-4946-B334-474BF999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40B8E-68C7-4DE5-8695-A6D2DC7A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C0258-4D10-43D6-BFF9-57F10C99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B380C-01B5-4DF6-9A18-3DBA028D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C369E-2837-41A1-8E0D-17754F19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FAFA3-6BD3-464F-82BB-701C489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19834-FD07-4F22-910B-088B358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1AF-F139-444D-BDC2-BC8B30C1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844C4-4016-430C-A8F2-F46FFD14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AABAC-3A5E-4932-866E-E664414B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B73A9-721F-4487-A14D-8D17A420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2C7E5-04B2-475B-B185-083592F2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1BFD-024C-4D3D-AAD4-0AC18E89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FD14B-B6B2-426D-968C-245E0B88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AE7EA-F7D8-45CB-BB28-A7EDB99B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0E252-F757-4FAB-A434-7B29DE00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6F768-276E-479A-9D50-3E764275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27DBB-DB0C-4C47-A044-E4B15F0F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A88-327C-4552-94C9-76397CC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D966E-D835-4CBA-89FB-29A3F171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BD1D2-C3DD-48DA-A65A-769D657F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3E382-0547-4E3E-804D-04ED800B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5541C-18DE-481B-A590-4E5E04AE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81304-1429-4050-A1DF-24281297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EC304-DF85-4BF7-B206-AE5CEEC3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80A42-8A45-4C6A-BC9D-7EE673B2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4235F-0CD3-48E6-9467-98E1489A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CFDFA-921D-4C7B-AE1A-BA30D833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F74EA-F8DD-4409-A7E4-0301513C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24A-B47F-4A92-A1C1-670BB4E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F96A4-F871-4015-8D81-2136ACB1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51EA0-8485-4774-A626-C99C271D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AD9A7-5991-4F86-8AB2-AB9E237D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87180-42F2-47E2-A590-73F0C05D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B45D6-FC03-4371-A84C-AE1C20CF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D0310-2A82-465E-A274-3BDB3ACD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AB46F-30AE-4D15-A027-6537C8CA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EFF9E-2FCF-4A88-8196-ED01E7F4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9DC63-F66C-4909-8CCF-CDADD7B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0EA6A-D967-4146-A376-E7763D22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D815-236F-4698-B96A-BA0F08EF3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7BDB-2808-4EB9-B04E-C10D5C5C2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89E6-6048-474B-908E-9685F7575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B2FC-291C-49EB-AD42-46DA9016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AC1-23A7-4F90-8BF7-A406FDBEC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804C-E87B-4E64-85E7-18BAA30C2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53E3-1633-4B2D-96E1-BA96E44ED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C306-822C-40EC-B2C9-926B82788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325C-F9B9-4F0D-8119-C528AE651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2B20-6479-42FC-9AF9-D2F9EA4DC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6"/>
          <p:cNvSpPr/>
          <p:nvPr/>
        </p:nvSpPr>
        <p:spPr>
          <a:xfrm>
            <a:off x="468360" y="5445000"/>
            <a:ext cx="3687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模板网，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www.1ppt.com/xiazai/donghu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7638-8F6B-49F9-8924-ACB95A624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4C37-B3B0-479B-B9EF-A815373A7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ver.onlylove.hk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6"/>
          <p:cNvSpPr/>
          <p:nvPr/>
        </p:nvSpPr>
        <p:spPr>
          <a:xfrm>
            <a:off x="6572160" y="676440"/>
            <a:ext cx="257400" cy="752400"/>
          </a:xfrm>
          <a:custGeom>
            <a:avLst/>
            <a:gdLst/>
            <a:ahLst/>
            <a:rect l="l" t="t" r="r" b="b"/>
            <a:pathLst>
              <a:path w="162" h="474">
                <a:moveTo>
                  <a:pt x="146" y="10"/>
                </a:moveTo>
                <a:cubicBezTo>
                  <a:pt x="134" y="11"/>
                  <a:pt x="95" y="0"/>
                  <a:pt x="72" y="15"/>
                </a:cubicBezTo>
                <a:cubicBezTo>
                  <a:pt x="49" y="30"/>
                  <a:pt x="20" y="72"/>
                  <a:pt x="10" y="101"/>
                </a:cubicBezTo>
                <a:cubicBezTo>
                  <a:pt x="0" y="130"/>
                  <a:pt x="7" y="158"/>
                  <a:pt x="10" y="192"/>
                </a:cubicBezTo>
                <a:cubicBezTo>
                  <a:pt x="13" y="226"/>
                  <a:pt x="9" y="264"/>
                  <a:pt x="27" y="303"/>
                </a:cubicBezTo>
                <a:cubicBezTo>
                  <a:pt x="45" y="342"/>
                  <a:pt x="95" y="401"/>
                  <a:pt x="117" y="429"/>
                </a:cubicBezTo>
                <a:cubicBezTo>
                  <a:pt x="139" y="457"/>
                  <a:pt x="153" y="465"/>
                  <a:pt x="162" y="47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6732720" y="671400"/>
            <a:ext cx="471240" cy="812880"/>
          </a:xfrm>
          <a:custGeom>
            <a:avLst/>
            <a:gdLst/>
            <a:ahLst/>
            <a:rect l="l" t="t" r="r" b="b"/>
            <a:pathLst>
              <a:path w="297" h="512">
                <a:moveTo>
                  <a:pt x="0" y="13"/>
                </a:moveTo>
                <a:cubicBezTo>
                  <a:pt x="16" y="11"/>
                  <a:pt x="67" y="0"/>
                  <a:pt x="97" y="0"/>
                </a:cubicBezTo>
                <a:cubicBezTo>
                  <a:pt x="127" y="0"/>
                  <a:pt x="159" y="3"/>
                  <a:pt x="181" y="13"/>
                </a:cubicBezTo>
                <a:cubicBezTo>
                  <a:pt x="203" y="23"/>
                  <a:pt x="215" y="43"/>
                  <a:pt x="232" y="63"/>
                </a:cubicBezTo>
                <a:cubicBezTo>
                  <a:pt x="249" y="83"/>
                  <a:pt x="276" y="102"/>
                  <a:pt x="286" y="135"/>
                </a:cubicBezTo>
                <a:cubicBezTo>
                  <a:pt x="296" y="168"/>
                  <a:pt x="297" y="228"/>
                  <a:pt x="295" y="261"/>
                </a:cubicBezTo>
                <a:cubicBezTo>
                  <a:pt x="293" y="294"/>
                  <a:pt x="281" y="306"/>
                  <a:pt x="272" y="331"/>
                </a:cubicBezTo>
                <a:cubicBezTo>
                  <a:pt x="263" y="356"/>
                  <a:pt x="252" y="391"/>
                  <a:pt x="241" y="414"/>
                </a:cubicBezTo>
                <a:cubicBezTo>
                  <a:pt x="230" y="437"/>
                  <a:pt x="222" y="452"/>
                  <a:pt x="205" y="468"/>
                </a:cubicBezTo>
                <a:cubicBezTo>
                  <a:pt x="188" y="484"/>
                  <a:pt x="150" y="503"/>
                  <a:pt x="136" y="51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5508720" y="1413000"/>
            <a:ext cx="1295280" cy="1368360"/>
          </a:xfrm>
          <a:custGeom>
            <a:avLst/>
            <a:gdLst/>
            <a:ahLst/>
            <a:rect l="l" t="t" r="r" b="b"/>
            <a:pathLst>
              <a:path w="816" h="862">
                <a:moveTo>
                  <a:pt x="816" y="0"/>
                </a:moveTo>
                <a:cubicBezTo>
                  <a:pt x="767" y="15"/>
                  <a:pt x="718" y="30"/>
                  <a:pt x="680" y="45"/>
                </a:cubicBezTo>
                <a:cubicBezTo>
                  <a:pt x="642" y="60"/>
                  <a:pt x="619" y="61"/>
                  <a:pt x="589" y="91"/>
                </a:cubicBezTo>
                <a:cubicBezTo>
                  <a:pt x="559" y="121"/>
                  <a:pt x="529" y="182"/>
                  <a:pt x="499" y="227"/>
                </a:cubicBezTo>
                <a:cubicBezTo>
                  <a:pt x="469" y="272"/>
                  <a:pt x="438" y="325"/>
                  <a:pt x="408" y="363"/>
                </a:cubicBezTo>
                <a:cubicBezTo>
                  <a:pt x="378" y="401"/>
                  <a:pt x="347" y="424"/>
                  <a:pt x="317" y="454"/>
                </a:cubicBezTo>
                <a:cubicBezTo>
                  <a:pt x="287" y="484"/>
                  <a:pt x="251" y="512"/>
                  <a:pt x="226" y="544"/>
                </a:cubicBezTo>
                <a:cubicBezTo>
                  <a:pt x="201" y="576"/>
                  <a:pt x="192" y="609"/>
                  <a:pt x="166" y="649"/>
                </a:cubicBezTo>
                <a:cubicBezTo>
                  <a:pt x="140" y="689"/>
                  <a:pt x="95" y="748"/>
                  <a:pt x="67" y="784"/>
                </a:cubicBezTo>
                <a:cubicBezTo>
                  <a:pt x="39" y="820"/>
                  <a:pt x="14" y="846"/>
                  <a:pt x="0" y="86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9"/>
          <p:cNvSpPr/>
          <p:nvPr/>
        </p:nvSpPr>
        <p:spPr>
          <a:xfrm>
            <a:off x="7164360" y="1268280"/>
            <a:ext cx="608040" cy="846360"/>
          </a:xfrm>
          <a:custGeom>
            <a:avLst/>
            <a:gdLst/>
            <a:ahLst/>
            <a:rect l="l" t="t" r="r" b="b"/>
            <a:pathLst>
              <a:path w="383" h="533">
                <a:moveTo>
                  <a:pt x="0" y="0"/>
                </a:moveTo>
                <a:cubicBezTo>
                  <a:pt x="7" y="38"/>
                  <a:pt x="16" y="70"/>
                  <a:pt x="45" y="91"/>
                </a:cubicBezTo>
                <a:cubicBezTo>
                  <a:pt x="74" y="112"/>
                  <a:pt x="145" y="116"/>
                  <a:pt x="176" y="128"/>
                </a:cubicBezTo>
                <a:cubicBezTo>
                  <a:pt x="207" y="140"/>
                  <a:pt x="205" y="123"/>
                  <a:pt x="230" y="164"/>
                </a:cubicBezTo>
                <a:cubicBezTo>
                  <a:pt x="255" y="205"/>
                  <a:pt x="304" y="310"/>
                  <a:pt x="329" y="371"/>
                </a:cubicBezTo>
                <a:cubicBezTo>
                  <a:pt x="354" y="432"/>
                  <a:pt x="372" y="499"/>
                  <a:pt x="383" y="53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0"/>
          <p:cNvSpPr/>
          <p:nvPr/>
        </p:nvSpPr>
        <p:spPr>
          <a:xfrm>
            <a:off x="7743960" y="2200320"/>
            <a:ext cx="371520" cy="1023840"/>
          </a:xfrm>
          <a:custGeom>
            <a:avLst/>
            <a:gdLst/>
            <a:ahLst/>
            <a:rect l="l" t="t" r="r" b="b"/>
            <a:pathLst>
              <a:path w="234" h="645">
                <a:moveTo>
                  <a:pt x="0" y="0"/>
                </a:moveTo>
                <a:cubicBezTo>
                  <a:pt x="12" y="21"/>
                  <a:pt x="46" y="62"/>
                  <a:pt x="72" y="126"/>
                </a:cubicBezTo>
                <a:cubicBezTo>
                  <a:pt x="98" y="190"/>
                  <a:pt x="128" y="324"/>
                  <a:pt x="153" y="387"/>
                </a:cubicBezTo>
                <a:cubicBezTo>
                  <a:pt x="178" y="450"/>
                  <a:pt x="216" y="466"/>
                  <a:pt x="225" y="502"/>
                </a:cubicBezTo>
                <a:cubicBezTo>
                  <a:pt x="234" y="538"/>
                  <a:pt x="216" y="580"/>
                  <a:pt x="207" y="603"/>
                </a:cubicBezTo>
                <a:cubicBezTo>
                  <a:pt x="198" y="626"/>
                  <a:pt x="191" y="633"/>
                  <a:pt x="171" y="639"/>
                </a:cubicBezTo>
                <a:cubicBezTo>
                  <a:pt x="151" y="645"/>
                  <a:pt x="106" y="638"/>
                  <a:pt x="89" y="63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7524720" y="2276640"/>
            <a:ext cx="366840" cy="936360"/>
          </a:xfrm>
          <a:custGeom>
            <a:avLst/>
            <a:gdLst/>
            <a:ahLst/>
            <a:rect l="l" t="t" r="r" b="b"/>
            <a:pathLst>
              <a:path w="231" h="590">
                <a:moveTo>
                  <a:pt x="0" y="0"/>
                </a:moveTo>
                <a:cubicBezTo>
                  <a:pt x="3" y="10"/>
                  <a:pt x="6" y="22"/>
                  <a:pt x="21" y="60"/>
                </a:cubicBezTo>
                <a:cubicBezTo>
                  <a:pt x="36" y="98"/>
                  <a:pt x="60" y="173"/>
                  <a:pt x="90" y="227"/>
                </a:cubicBezTo>
                <a:cubicBezTo>
                  <a:pt x="120" y="281"/>
                  <a:pt x="178" y="339"/>
                  <a:pt x="201" y="384"/>
                </a:cubicBezTo>
                <a:cubicBezTo>
                  <a:pt x="224" y="429"/>
                  <a:pt x="223" y="465"/>
                  <a:pt x="227" y="499"/>
                </a:cubicBezTo>
                <a:cubicBezTo>
                  <a:pt x="231" y="533"/>
                  <a:pt x="227" y="563"/>
                  <a:pt x="227" y="59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5651640" y="2060640"/>
            <a:ext cx="865080" cy="936720"/>
          </a:xfrm>
          <a:custGeom>
            <a:avLst/>
            <a:gdLst/>
            <a:ahLst/>
            <a:rect l="l" t="t" r="r" b="b"/>
            <a:pathLst>
              <a:path w="545" h="590">
                <a:moveTo>
                  <a:pt x="545" y="0"/>
                </a:moveTo>
                <a:cubicBezTo>
                  <a:pt x="519" y="21"/>
                  <a:pt x="421" y="109"/>
                  <a:pt x="391" y="124"/>
                </a:cubicBezTo>
                <a:cubicBezTo>
                  <a:pt x="361" y="139"/>
                  <a:pt x="375" y="81"/>
                  <a:pt x="363" y="91"/>
                </a:cubicBezTo>
                <a:cubicBezTo>
                  <a:pt x="351" y="101"/>
                  <a:pt x="333" y="159"/>
                  <a:pt x="318" y="182"/>
                </a:cubicBezTo>
                <a:cubicBezTo>
                  <a:pt x="303" y="205"/>
                  <a:pt x="296" y="204"/>
                  <a:pt x="273" y="227"/>
                </a:cubicBezTo>
                <a:cubicBezTo>
                  <a:pt x="250" y="250"/>
                  <a:pt x="209" y="290"/>
                  <a:pt x="182" y="318"/>
                </a:cubicBezTo>
                <a:cubicBezTo>
                  <a:pt x="155" y="346"/>
                  <a:pt x="133" y="371"/>
                  <a:pt x="112" y="394"/>
                </a:cubicBezTo>
                <a:cubicBezTo>
                  <a:pt x="91" y="417"/>
                  <a:pt x="70" y="433"/>
                  <a:pt x="58" y="457"/>
                </a:cubicBezTo>
                <a:cubicBezTo>
                  <a:pt x="46" y="481"/>
                  <a:pt x="50" y="516"/>
                  <a:pt x="40" y="538"/>
                </a:cubicBezTo>
                <a:cubicBezTo>
                  <a:pt x="30" y="560"/>
                  <a:pt x="8" y="579"/>
                  <a:pt x="0" y="59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3"/>
          <p:cNvSpPr/>
          <p:nvPr/>
        </p:nvSpPr>
        <p:spPr>
          <a:xfrm>
            <a:off x="6516720" y="1989000"/>
            <a:ext cx="379440" cy="3527640"/>
          </a:xfrm>
          <a:custGeom>
            <a:avLst/>
            <a:gdLst/>
            <a:ahLst/>
            <a:rect l="l" t="t" r="r" b="b"/>
            <a:pathLst>
              <a:path w="239" h="2222">
                <a:moveTo>
                  <a:pt x="0" y="0"/>
                </a:moveTo>
                <a:cubicBezTo>
                  <a:pt x="19" y="68"/>
                  <a:pt x="38" y="136"/>
                  <a:pt x="45" y="181"/>
                </a:cubicBezTo>
                <a:cubicBezTo>
                  <a:pt x="52" y="226"/>
                  <a:pt x="42" y="247"/>
                  <a:pt x="45" y="272"/>
                </a:cubicBezTo>
                <a:cubicBezTo>
                  <a:pt x="48" y="297"/>
                  <a:pt x="56" y="303"/>
                  <a:pt x="62" y="331"/>
                </a:cubicBezTo>
                <a:cubicBezTo>
                  <a:pt x="68" y="359"/>
                  <a:pt x="83" y="404"/>
                  <a:pt x="80" y="439"/>
                </a:cubicBezTo>
                <a:cubicBezTo>
                  <a:pt x="77" y="474"/>
                  <a:pt x="51" y="496"/>
                  <a:pt x="45" y="544"/>
                </a:cubicBezTo>
                <a:cubicBezTo>
                  <a:pt x="39" y="592"/>
                  <a:pt x="44" y="658"/>
                  <a:pt x="45" y="726"/>
                </a:cubicBezTo>
                <a:cubicBezTo>
                  <a:pt x="46" y="794"/>
                  <a:pt x="46" y="854"/>
                  <a:pt x="53" y="952"/>
                </a:cubicBezTo>
                <a:cubicBezTo>
                  <a:pt x="60" y="1050"/>
                  <a:pt x="84" y="1239"/>
                  <a:pt x="90" y="1315"/>
                </a:cubicBezTo>
                <a:cubicBezTo>
                  <a:pt x="96" y="1391"/>
                  <a:pt x="89" y="1380"/>
                  <a:pt x="90" y="1406"/>
                </a:cubicBezTo>
                <a:cubicBezTo>
                  <a:pt x="91" y="1432"/>
                  <a:pt x="90" y="1429"/>
                  <a:pt x="98" y="1474"/>
                </a:cubicBezTo>
                <a:cubicBezTo>
                  <a:pt x="106" y="1519"/>
                  <a:pt x="122" y="1629"/>
                  <a:pt x="136" y="1678"/>
                </a:cubicBezTo>
                <a:cubicBezTo>
                  <a:pt x="150" y="1727"/>
                  <a:pt x="174" y="1739"/>
                  <a:pt x="181" y="1769"/>
                </a:cubicBezTo>
                <a:cubicBezTo>
                  <a:pt x="188" y="1799"/>
                  <a:pt x="186" y="1831"/>
                  <a:pt x="181" y="1860"/>
                </a:cubicBezTo>
                <a:cubicBezTo>
                  <a:pt x="176" y="1889"/>
                  <a:pt x="144" y="1912"/>
                  <a:pt x="152" y="1942"/>
                </a:cubicBezTo>
                <a:cubicBezTo>
                  <a:pt x="160" y="1972"/>
                  <a:pt x="215" y="2009"/>
                  <a:pt x="227" y="2041"/>
                </a:cubicBezTo>
                <a:cubicBezTo>
                  <a:pt x="239" y="2073"/>
                  <a:pt x="227" y="2102"/>
                  <a:pt x="227" y="2132"/>
                </a:cubicBezTo>
                <a:cubicBezTo>
                  <a:pt x="227" y="2162"/>
                  <a:pt x="227" y="2192"/>
                  <a:pt x="227" y="222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5"/>
          <p:cNvSpPr/>
          <p:nvPr/>
        </p:nvSpPr>
        <p:spPr>
          <a:xfrm>
            <a:off x="6877080" y="5516640"/>
            <a:ext cx="287280" cy="27000"/>
          </a:xfrm>
          <a:custGeom>
            <a:avLst/>
            <a:gdLst/>
            <a:ahLst/>
            <a:rect l="l" t="t" r="r" b="b"/>
            <a:pathLst>
              <a:path w="181" h="17">
                <a:moveTo>
                  <a:pt x="0" y="0"/>
                </a:moveTo>
                <a:cubicBezTo>
                  <a:pt x="17" y="3"/>
                  <a:pt x="75" y="17"/>
                  <a:pt x="105" y="17"/>
                </a:cubicBezTo>
                <a:cubicBezTo>
                  <a:pt x="135" y="17"/>
                  <a:pt x="165" y="4"/>
                  <a:pt x="181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6"/>
          <p:cNvSpPr/>
          <p:nvPr/>
        </p:nvSpPr>
        <p:spPr>
          <a:xfrm>
            <a:off x="7443720" y="2276640"/>
            <a:ext cx="141480" cy="3168360"/>
          </a:xfrm>
          <a:custGeom>
            <a:avLst/>
            <a:gdLst/>
            <a:ahLst/>
            <a:rect l="l" t="t" r="r" b="b"/>
            <a:pathLst>
              <a:path w="89" h="1996">
                <a:moveTo>
                  <a:pt x="51" y="0"/>
                </a:moveTo>
                <a:cubicBezTo>
                  <a:pt x="28" y="53"/>
                  <a:pt x="5" y="106"/>
                  <a:pt x="5" y="136"/>
                </a:cubicBezTo>
                <a:cubicBezTo>
                  <a:pt x="5" y="166"/>
                  <a:pt x="43" y="152"/>
                  <a:pt x="51" y="182"/>
                </a:cubicBezTo>
                <a:cubicBezTo>
                  <a:pt x="59" y="212"/>
                  <a:pt x="46" y="262"/>
                  <a:pt x="51" y="318"/>
                </a:cubicBezTo>
                <a:cubicBezTo>
                  <a:pt x="56" y="374"/>
                  <a:pt x="89" y="436"/>
                  <a:pt x="81" y="519"/>
                </a:cubicBezTo>
                <a:cubicBezTo>
                  <a:pt x="73" y="602"/>
                  <a:pt x="10" y="745"/>
                  <a:pt x="5" y="817"/>
                </a:cubicBezTo>
                <a:cubicBezTo>
                  <a:pt x="0" y="889"/>
                  <a:pt x="40" y="916"/>
                  <a:pt x="51" y="953"/>
                </a:cubicBezTo>
                <a:cubicBezTo>
                  <a:pt x="62" y="990"/>
                  <a:pt x="72" y="1003"/>
                  <a:pt x="72" y="1041"/>
                </a:cubicBezTo>
                <a:cubicBezTo>
                  <a:pt x="72" y="1079"/>
                  <a:pt x="55" y="1127"/>
                  <a:pt x="51" y="1180"/>
                </a:cubicBezTo>
                <a:cubicBezTo>
                  <a:pt x="47" y="1233"/>
                  <a:pt x="53" y="1300"/>
                  <a:pt x="51" y="1361"/>
                </a:cubicBezTo>
                <a:cubicBezTo>
                  <a:pt x="49" y="1422"/>
                  <a:pt x="44" y="1485"/>
                  <a:pt x="36" y="1545"/>
                </a:cubicBezTo>
                <a:cubicBezTo>
                  <a:pt x="28" y="1605"/>
                  <a:pt x="10" y="1679"/>
                  <a:pt x="5" y="1724"/>
                </a:cubicBezTo>
                <a:cubicBezTo>
                  <a:pt x="0" y="1769"/>
                  <a:pt x="1" y="1788"/>
                  <a:pt x="5" y="1815"/>
                </a:cubicBezTo>
                <a:cubicBezTo>
                  <a:pt x="9" y="1842"/>
                  <a:pt x="27" y="1857"/>
                  <a:pt x="27" y="1887"/>
                </a:cubicBezTo>
                <a:cubicBezTo>
                  <a:pt x="27" y="1917"/>
                  <a:pt x="10" y="1973"/>
                  <a:pt x="5" y="199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7"/>
          <p:cNvSpPr/>
          <p:nvPr/>
        </p:nvSpPr>
        <p:spPr>
          <a:xfrm>
            <a:off x="7524720" y="2133720"/>
            <a:ext cx="216000" cy="82440"/>
          </a:xfrm>
          <a:custGeom>
            <a:avLst/>
            <a:gdLst/>
            <a:ahLst/>
            <a:rect l="l" t="t" r="r" b="b"/>
            <a:pathLst>
              <a:path w="136" h="52">
                <a:moveTo>
                  <a:pt x="136" y="0"/>
                </a:moveTo>
                <a:cubicBezTo>
                  <a:pt x="124" y="19"/>
                  <a:pt x="113" y="38"/>
                  <a:pt x="90" y="45"/>
                </a:cubicBezTo>
                <a:cubicBezTo>
                  <a:pt x="67" y="52"/>
                  <a:pt x="23" y="45"/>
                  <a:pt x="0" y="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19"/>
          <p:cNvSpPr/>
          <p:nvPr/>
        </p:nvSpPr>
        <p:spPr>
          <a:xfrm>
            <a:off x="6072120" y="2100240"/>
            <a:ext cx="171360" cy="128520"/>
          </a:xfrm>
          <a:custGeom>
            <a:avLst/>
            <a:gdLst/>
            <a:ahLst/>
            <a:rect l="l" t="t" r="r" b="b"/>
            <a:pathLst>
              <a:path w="108" h="81">
                <a:moveTo>
                  <a:pt x="0" y="0"/>
                </a:moveTo>
                <a:cubicBezTo>
                  <a:pt x="11" y="7"/>
                  <a:pt x="45" y="31"/>
                  <a:pt x="63" y="45"/>
                </a:cubicBezTo>
                <a:cubicBezTo>
                  <a:pt x="81" y="59"/>
                  <a:pt x="99" y="74"/>
                  <a:pt x="108" y="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0"/>
          <p:cNvSpPr/>
          <p:nvPr/>
        </p:nvSpPr>
        <p:spPr>
          <a:xfrm>
            <a:off x="6588000" y="2997360"/>
            <a:ext cx="1008360" cy="233280"/>
          </a:xfrm>
          <a:custGeom>
            <a:avLst/>
            <a:gdLst/>
            <a:ahLst/>
            <a:rect l="l" t="t" r="r" b="b"/>
            <a:pathLst>
              <a:path w="635" h="147">
                <a:moveTo>
                  <a:pt x="0" y="91"/>
                </a:moveTo>
                <a:cubicBezTo>
                  <a:pt x="18" y="97"/>
                  <a:pt x="67" y="119"/>
                  <a:pt x="107" y="128"/>
                </a:cubicBezTo>
                <a:cubicBezTo>
                  <a:pt x="147" y="137"/>
                  <a:pt x="199" y="145"/>
                  <a:pt x="242" y="146"/>
                </a:cubicBezTo>
                <a:cubicBezTo>
                  <a:pt x="285" y="147"/>
                  <a:pt x="327" y="139"/>
                  <a:pt x="363" y="136"/>
                </a:cubicBezTo>
                <a:cubicBezTo>
                  <a:pt x="399" y="133"/>
                  <a:pt x="426" y="140"/>
                  <a:pt x="458" y="128"/>
                </a:cubicBezTo>
                <a:cubicBezTo>
                  <a:pt x="490" y="116"/>
                  <a:pt x="528" y="86"/>
                  <a:pt x="557" y="65"/>
                </a:cubicBezTo>
                <a:cubicBezTo>
                  <a:pt x="586" y="44"/>
                  <a:pt x="619" y="14"/>
                  <a:pt x="635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1"/>
          <p:cNvSpPr/>
          <p:nvPr/>
        </p:nvSpPr>
        <p:spPr>
          <a:xfrm>
            <a:off x="7093080" y="3933720"/>
            <a:ext cx="350640" cy="1540080"/>
          </a:xfrm>
          <a:custGeom>
            <a:avLst/>
            <a:gdLst/>
            <a:ahLst/>
            <a:rect l="l" t="t" r="r" b="b"/>
            <a:pathLst>
              <a:path w="221" h="970">
                <a:moveTo>
                  <a:pt x="0" y="0"/>
                </a:moveTo>
                <a:cubicBezTo>
                  <a:pt x="19" y="11"/>
                  <a:pt x="38" y="22"/>
                  <a:pt x="45" y="45"/>
                </a:cubicBezTo>
                <a:cubicBezTo>
                  <a:pt x="52" y="68"/>
                  <a:pt x="41" y="92"/>
                  <a:pt x="45" y="136"/>
                </a:cubicBezTo>
                <a:cubicBezTo>
                  <a:pt x="49" y="180"/>
                  <a:pt x="60" y="274"/>
                  <a:pt x="68" y="312"/>
                </a:cubicBezTo>
                <a:cubicBezTo>
                  <a:pt x="76" y="350"/>
                  <a:pt x="86" y="339"/>
                  <a:pt x="90" y="362"/>
                </a:cubicBezTo>
                <a:cubicBezTo>
                  <a:pt x="94" y="385"/>
                  <a:pt x="97" y="423"/>
                  <a:pt x="90" y="453"/>
                </a:cubicBezTo>
                <a:cubicBezTo>
                  <a:pt x="83" y="483"/>
                  <a:pt x="60" y="514"/>
                  <a:pt x="45" y="544"/>
                </a:cubicBezTo>
                <a:cubicBezTo>
                  <a:pt x="30" y="574"/>
                  <a:pt x="0" y="612"/>
                  <a:pt x="0" y="635"/>
                </a:cubicBezTo>
                <a:cubicBezTo>
                  <a:pt x="0" y="658"/>
                  <a:pt x="38" y="657"/>
                  <a:pt x="45" y="680"/>
                </a:cubicBezTo>
                <a:cubicBezTo>
                  <a:pt x="52" y="703"/>
                  <a:pt x="45" y="741"/>
                  <a:pt x="45" y="771"/>
                </a:cubicBezTo>
                <a:cubicBezTo>
                  <a:pt x="45" y="801"/>
                  <a:pt x="38" y="831"/>
                  <a:pt x="45" y="861"/>
                </a:cubicBezTo>
                <a:cubicBezTo>
                  <a:pt x="52" y="891"/>
                  <a:pt x="76" y="934"/>
                  <a:pt x="90" y="952"/>
                </a:cubicBezTo>
                <a:cubicBezTo>
                  <a:pt x="104" y="970"/>
                  <a:pt x="109" y="968"/>
                  <a:pt x="131" y="969"/>
                </a:cubicBezTo>
                <a:cubicBezTo>
                  <a:pt x="153" y="970"/>
                  <a:pt x="202" y="962"/>
                  <a:pt x="221" y="96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2"/>
          <p:cNvSpPr/>
          <p:nvPr/>
        </p:nvSpPr>
        <p:spPr>
          <a:xfrm>
            <a:off x="7002360" y="3500280"/>
            <a:ext cx="187560" cy="2016360"/>
          </a:xfrm>
          <a:custGeom>
            <a:avLst/>
            <a:gdLst/>
            <a:ahLst/>
            <a:rect l="l" t="t" r="r" b="b"/>
            <a:pathLst>
              <a:path w="118" h="1270">
                <a:moveTo>
                  <a:pt x="57" y="0"/>
                </a:moveTo>
                <a:cubicBezTo>
                  <a:pt x="34" y="38"/>
                  <a:pt x="15" y="78"/>
                  <a:pt x="11" y="136"/>
                </a:cubicBezTo>
                <a:cubicBezTo>
                  <a:pt x="7" y="194"/>
                  <a:pt x="35" y="291"/>
                  <a:pt x="35" y="351"/>
                </a:cubicBezTo>
                <a:cubicBezTo>
                  <a:pt x="35" y="411"/>
                  <a:pt x="15" y="463"/>
                  <a:pt x="11" y="499"/>
                </a:cubicBezTo>
                <a:cubicBezTo>
                  <a:pt x="7" y="535"/>
                  <a:pt x="0" y="537"/>
                  <a:pt x="8" y="567"/>
                </a:cubicBezTo>
                <a:cubicBezTo>
                  <a:pt x="16" y="597"/>
                  <a:pt x="49" y="632"/>
                  <a:pt x="57" y="681"/>
                </a:cubicBezTo>
                <a:cubicBezTo>
                  <a:pt x="65" y="730"/>
                  <a:pt x="52" y="823"/>
                  <a:pt x="57" y="862"/>
                </a:cubicBezTo>
                <a:cubicBezTo>
                  <a:pt x="62" y="901"/>
                  <a:pt x="79" y="889"/>
                  <a:pt x="89" y="918"/>
                </a:cubicBezTo>
                <a:cubicBezTo>
                  <a:pt x="99" y="947"/>
                  <a:pt x="114" y="991"/>
                  <a:pt x="116" y="1035"/>
                </a:cubicBezTo>
                <a:cubicBezTo>
                  <a:pt x="118" y="1079"/>
                  <a:pt x="104" y="1141"/>
                  <a:pt x="102" y="1180"/>
                </a:cubicBezTo>
                <a:cubicBezTo>
                  <a:pt x="100" y="1219"/>
                  <a:pt x="102" y="1244"/>
                  <a:pt x="102" y="127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23"/>
          <p:cNvSpPr/>
          <p:nvPr/>
        </p:nvSpPr>
        <p:spPr>
          <a:xfrm>
            <a:off x="6877080" y="5146560"/>
            <a:ext cx="216000" cy="82800"/>
          </a:xfrm>
          <a:custGeom>
            <a:avLst/>
            <a:gdLst/>
            <a:ahLst/>
            <a:rect l="l" t="t" r="r" b="b"/>
            <a:pathLst>
              <a:path w="136" h="52">
                <a:moveTo>
                  <a:pt x="0" y="52"/>
                </a:moveTo>
                <a:cubicBezTo>
                  <a:pt x="11" y="33"/>
                  <a:pt x="22" y="14"/>
                  <a:pt x="45" y="7"/>
                </a:cubicBezTo>
                <a:cubicBezTo>
                  <a:pt x="68" y="0"/>
                  <a:pt x="113" y="7"/>
                  <a:pt x="136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24"/>
          <p:cNvSpPr/>
          <p:nvPr/>
        </p:nvSpPr>
        <p:spPr>
          <a:xfrm>
            <a:off x="7093080" y="4797360"/>
            <a:ext cx="422280" cy="231840"/>
          </a:xfrm>
          <a:custGeom>
            <a:avLst/>
            <a:gdLst/>
            <a:ahLst/>
            <a:rect l="l" t="t" r="r" b="b"/>
            <a:pathLst>
              <a:path w="266" h="146">
                <a:moveTo>
                  <a:pt x="0" y="0"/>
                </a:moveTo>
                <a:cubicBezTo>
                  <a:pt x="7" y="15"/>
                  <a:pt x="26" y="69"/>
                  <a:pt x="41" y="92"/>
                </a:cubicBezTo>
                <a:cubicBezTo>
                  <a:pt x="56" y="115"/>
                  <a:pt x="67" y="129"/>
                  <a:pt x="90" y="136"/>
                </a:cubicBezTo>
                <a:cubicBezTo>
                  <a:pt x="113" y="143"/>
                  <a:pt x="152" y="146"/>
                  <a:pt x="181" y="136"/>
                </a:cubicBezTo>
                <a:cubicBezTo>
                  <a:pt x="210" y="126"/>
                  <a:pt x="248" y="87"/>
                  <a:pt x="266" y="7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5"/>
          <p:cNvSpPr/>
          <p:nvPr/>
        </p:nvSpPr>
        <p:spPr>
          <a:xfrm>
            <a:off x="7445520" y="1757520"/>
            <a:ext cx="41040" cy="303120"/>
          </a:xfrm>
          <a:custGeom>
            <a:avLst/>
            <a:gdLst/>
            <a:ahLst/>
            <a:rect l="l" t="t" r="r" b="b"/>
            <a:pathLst>
              <a:path w="26" h="191">
                <a:moveTo>
                  <a:pt x="26" y="0"/>
                </a:moveTo>
                <a:cubicBezTo>
                  <a:pt x="21" y="17"/>
                  <a:pt x="8" y="68"/>
                  <a:pt x="4" y="100"/>
                </a:cubicBezTo>
                <a:cubicBezTo>
                  <a:pt x="0" y="132"/>
                  <a:pt x="4" y="168"/>
                  <a:pt x="4" y="19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6"/>
          <p:cNvSpPr/>
          <p:nvPr/>
        </p:nvSpPr>
        <p:spPr>
          <a:xfrm>
            <a:off x="7164360" y="2228760"/>
            <a:ext cx="265320" cy="336600"/>
          </a:xfrm>
          <a:custGeom>
            <a:avLst/>
            <a:gdLst/>
            <a:ahLst/>
            <a:rect l="l" t="t" r="r" b="b"/>
            <a:pathLst>
              <a:path w="167" h="212">
                <a:moveTo>
                  <a:pt x="167" y="0"/>
                </a:moveTo>
                <a:cubicBezTo>
                  <a:pt x="158" y="15"/>
                  <a:pt x="141" y="64"/>
                  <a:pt x="113" y="99"/>
                </a:cubicBezTo>
                <a:cubicBezTo>
                  <a:pt x="85" y="134"/>
                  <a:pt x="24" y="189"/>
                  <a:pt x="0" y="21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27"/>
          <p:cNvSpPr/>
          <p:nvPr/>
        </p:nvSpPr>
        <p:spPr>
          <a:xfrm>
            <a:off x="6588000" y="2060640"/>
            <a:ext cx="144720" cy="21600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0"/>
                </a:moveTo>
                <a:cubicBezTo>
                  <a:pt x="9" y="9"/>
                  <a:pt x="38" y="29"/>
                  <a:pt x="53" y="52"/>
                </a:cubicBezTo>
                <a:cubicBezTo>
                  <a:pt x="68" y="75"/>
                  <a:pt x="83" y="119"/>
                  <a:pt x="91" y="13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28"/>
          <p:cNvSpPr/>
          <p:nvPr/>
        </p:nvSpPr>
        <p:spPr>
          <a:xfrm>
            <a:off x="4427640" y="1628640"/>
            <a:ext cx="504720" cy="432000"/>
          </a:xfrm>
          <a:custGeom>
            <a:avLst/>
            <a:gdLst/>
            <a:ahLst/>
            <a:rect l="l" t="t" r="r" b="b"/>
            <a:pathLst>
              <a:path w="318" h="272">
                <a:moveTo>
                  <a:pt x="0" y="0"/>
                </a:moveTo>
                <a:cubicBezTo>
                  <a:pt x="26" y="11"/>
                  <a:pt x="53" y="19"/>
                  <a:pt x="91" y="45"/>
                </a:cubicBezTo>
                <a:cubicBezTo>
                  <a:pt x="129" y="71"/>
                  <a:pt x="188" y="115"/>
                  <a:pt x="226" y="153"/>
                </a:cubicBezTo>
                <a:cubicBezTo>
                  <a:pt x="264" y="191"/>
                  <a:pt x="299" y="247"/>
                  <a:pt x="318" y="2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9"/>
          <p:cNvSpPr/>
          <p:nvPr/>
        </p:nvSpPr>
        <p:spPr>
          <a:xfrm>
            <a:off x="4859280" y="2133720"/>
            <a:ext cx="649440" cy="647640"/>
          </a:xfrm>
          <a:custGeom>
            <a:avLst/>
            <a:gdLst/>
            <a:ahLst/>
            <a:rect l="l" t="t" r="r" b="b"/>
            <a:pathLst>
              <a:path w="409" h="408">
                <a:moveTo>
                  <a:pt x="0" y="0"/>
                </a:moveTo>
                <a:cubicBezTo>
                  <a:pt x="13" y="16"/>
                  <a:pt x="49" y="59"/>
                  <a:pt x="80" y="96"/>
                </a:cubicBezTo>
                <a:cubicBezTo>
                  <a:pt x="111" y="133"/>
                  <a:pt x="152" y="185"/>
                  <a:pt x="188" y="222"/>
                </a:cubicBezTo>
                <a:cubicBezTo>
                  <a:pt x="224" y="259"/>
                  <a:pt x="259" y="290"/>
                  <a:pt x="296" y="321"/>
                </a:cubicBezTo>
                <a:cubicBezTo>
                  <a:pt x="333" y="352"/>
                  <a:pt x="386" y="390"/>
                  <a:pt x="409" y="4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30"/>
          <p:cNvSpPr/>
          <p:nvPr/>
        </p:nvSpPr>
        <p:spPr>
          <a:xfrm>
            <a:off x="4716360" y="2276640"/>
            <a:ext cx="941400" cy="812520"/>
          </a:xfrm>
          <a:custGeom>
            <a:avLst/>
            <a:gdLst/>
            <a:ahLst/>
            <a:rect l="l" t="t" r="r" b="b"/>
            <a:pathLst>
              <a:path w="593" h="512">
                <a:moveTo>
                  <a:pt x="0" y="0"/>
                </a:moveTo>
                <a:cubicBezTo>
                  <a:pt x="12" y="17"/>
                  <a:pt x="53" y="80"/>
                  <a:pt x="71" y="105"/>
                </a:cubicBezTo>
                <a:cubicBezTo>
                  <a:pt x="89" y="130"/>
                  <a:pt x="91" y="134"/>
                  <a:pt x="107" y="150"/>
                </a:cubicBezTo>
                <a:cubicBezTo>
                  <a:pt x="123" y="166"/>
                  <a:pt x="135" y="176"/>
                  <a:pt x="170" y="204"/>
                </a:cubicBezTo>
                <a:cubicBezTo>
                  <a:pt x="205" y="232"/>
                  <a:pt x="277" y="292"/>
                  <a:pt x="317" y="318"/>
                </a:cubicBezTo>
                <a:cubicBezTo>
                  <a:pt x="357" y="344"/>
                  <a:pt x="386" y="340"/>
                  <a:pt x="408" y="363"/>
                </a:cubicBezTo>
                <a:cubicBezTo>
                  <a:pt x="430" y="386"/>
                  <a:pt x="429" y="431"/>
                  <a:pt x="449" y="456"/>
                </a:cubicBezTo>
                <a:cubicBezTo>
                  <a:pt x="469" y="481"/>
                  <a:pt x="506" y="508"/>
                  <a:pt x="530" y="510"/>
                </a:cubicBezTo>
                <a:cubicBezTo>
                  <a:pt x="554" y="512"/>
                  <a:pt x="580" y="474"/>
                  <a:pt x="593" y="46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31"/>
          <p:cNvSpPr/>
          <p:nvPr/>
        </p:nvSpPr>
        <p:spPr>
          <a:xfrm>
            <a:off x="4686480" y="2060640"/>
            <a:ext cx="245880" cy="210960"/>
          </a:xfrm>
          <a:custGeom>
            <a:avLst/>
            <a:gdLst/>
            <a:ahLst/>
            <a:rect l="l" t="t" r="r" b="b"/>
            <a:pathLst>
              <a:path w="155" h="133">
                <a:moveTo>
                  <a:pt x="155" y="0"/>
                </a:moveTo>
                <a:cubicBezTo>
                  <a:pt x="141" y="7"/>
                  <a:pt x="98" y="21"/>
                  <a:pt x="72" y="43"/>
                </a:cubicBezTo>
                <a:cubicBezTo>
                  <a:pt x="46" y="65"/>
                  <a:pt x="15" y="114"/>
                  <a:pt x="0" y="13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2"/>
          <p:cNvSpPr/>
          <p:nvPr/>
        </p:nvSpPr>
        <p:spPr>
          <a:xfrm>
            <a:off x="4100400" y="1042920"/>
            <a:ext cx="338400" cy="1486080"/>
          </a:xfrm>
          <a:custGeom>
            <a:avLst/>
            <a:gdLst/>
            <a:ahLst/>
            <a:rect l="l" t="t" r="r" b="b"/>
            <a:pathLst>
              <a:path w="213" h="936">
                <a:moveTo>
                  <a:pt x="0" y="0"/>
                </a:moveTo>
                <a:cubicBezTo>
                  <a:pt x="22" y="12"/>
                  <a:pt x="105" y="33"/>
                  <a:pt x="135" y="81"/>
                </a:cubicBezTo>
                <a:cubicBezTo>
                  <a:pt x="165" y="129"/>
                  <a:pt x="168" y="225"/>
                  <a:pt x="180" y="288"/>
                </a:cubicBezTo>
                <a:cubicBezTo>
                  <a:pt x="192" y="351"/>
                  <a:pt x="202" y="409"/>
                  <a:pt x="206" y="460"/>
                </a:cubicBezTo>
                <a:cubicBezTo>
                  <a:pt x="210" y="511"/>
                  <a:pt x="213" y="566"/>
                  <a:pt x="206" y="596"/>
                </a:cubicBezTo>
                <a:cubicBezTo>
                  <a:pt x="199" y="626"/>
                  <a:pt x="168" y="611"/>
                  <a:pt x="161" y="641"/>
                </a:cubicBezTo>
                <a:cubicBezTo>
                  <a:pt x="154" y="671"/>
                  <a:pt x="161" y="739"/>
                  <a:pt x="161" y="777"/>
                </a:cubicBezTo>
                <a:cubicBezTo>
                  <a:pt x="161" y="815"/>
                  <a:pt x="167" y="841"/>
                  <a:pt x="161" y="868"/>
                </a:cubicBezTo>
                <a:cubicBezTo>
                  <a:pt x="155" y="895"/>
                  <a:pt x="133" y="922"/>
                  <a:pt x="126" y="93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3"/>
          <p:cNvSpPr/>
          <p:nvPr/>
        </p:nvSpPr>
        <p:spPr>
          <a:xfrm>
            <a:off x="3414600" y="1041480"/>
            <a:ext cx="685800" cy="1287360"/>
          </a:xfrm>
          <a:custGeom>
            <a:avLst/>
            <a:gdLst/>
            <a:ahLst/>
            <a:rect l="l" t="t" r="r" b="b"/>
            <a:pathLst>
              <a:path w="432" h="811">
                <a:moveTo>
                  <a:pt x="432" y="10"/>
                </a:moveTo>
                <a:cubicBezTo>
                  <a:pt x="419" y="7"/>
                  <a:pt x="372" y="0"/>
                  <a:pt x="351" y="1"/>
                </a:cubicBezTo>
                <a:cubicBezTo>
                  <a:pt x="330" y="2"/>
                  <a:pt x="323" y="7"/>
                  <a:pt x="306" y="19"/>
                </a:cubicBezTo>
                <a:cubicBezTo>
                  <a:pt x="289" y="31"/>
                  <a:pt x="272" y="52"/>
                  <a:pt x="252" y="73"/>
                </a:cubicBezTo>
                <a:cubicBezTo>
                  <a:pt x="232" y="94"/>
                  <a:pt x="204" y="101"/>
                  <a:pt x="185" y="143"/>
                </a:cubicBezTo>
                <a:cubicBezTo>
                  <a:pt x="166" y="185"/>
                  <a:pt x="147" y="280"/>
                  <a:pt x="139" y="325"/>
                </a:cubicBezTo>
                <a:cubicBezTo>
                  <a:pt x="131" y="370"/>
                  <a:pt x="154" y="385"/>
                  <a:pt x="139" y="415"/>
                </a:cubicBezTo>
                <a:cubicBezTo>
                  <a:pt x="124" y="445"/>
                  <a:pt x="64" y="476"/>
                  <a:pt x="49" y="506"/>
                </a:cubicBezTo>
                <a:cubicBezTo>
                  <a:pt x="34" y="536"/>
                  <a:pt x="57" y="546"/>
                  <a:pt x="49" y="597"/>
                </a:cubicBezTo>
                <a:cubicBezTo>
                  <a:pt x="41" y="648"/>
                  <a:pt x="10" y="767"/>
                  <a:pt x="0" y="81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34"/>
          <p:cNvSpPr/>
          <p:nvPr/>
        </p:nvSpPr>
        <p:spPr>
          <a:xfrm>
            <a:off x="3828960" y="1343160"/>
            <a:ext cx="271440" cy="399960"/>
          </a:xfrm>
          <a:custGeom>
            <a:avLst/>
            <a:gdLst/>
            <a:ahLst/>
            <a:rect l="l" t="t" r="r" b="b"/>
            <a:pathLst>
              <a:path w="171" h="252">
                <a:moveTo>
                  <a:pt x="0" y="0"/>
                </a:moveTo>
                <a:cubicBezTo>
                  <a:pt x="4" y="22"/>
                  <a:pt x="5" y="102"/>
                  <a:pt x="14" y="135"/>
                </a:cubicBezTo>
                <a:cubicBezTo>
                  <a:pt x="23" y="168"/>
                  <a:pt x="28" y="179"/>
                  <a:pt x="54" y="198"/>
                </a:cubicBezTo>
                <a:cubicBezTo>
                  <a:pt x="80" y="217"/>
                  <a:pt x="147" y="241"/>
                  <a:pt x="171" y="25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35"/>
          <p:cNvSpPr/>
          <p:nvPr/>
        </p:nvSpPr>
        <p:spPr>
          <a:xfrm>
            <a:off x="4129200" y="1357200"/>
            <a:ext cx="182520" cy="400320"/>
          </a:xfrm>
          <a:custGeom>
            <a:avLst/>
            <a:gdLst/>
            <a:ahLst/>
            <a:rect l="l" t="t" r="r" b="b"/>
            <a:pathLst>
              <a:path w="115" h="252">
                <a:moveTo>
                  <a:pt x="99" y="0"/>
                </a:moveTo>
                <a:cubicBezTo>
                  <a:pt x="99" y="25"/>
                  <a:pt x="115" y="111"/>
                  <a:pt x="99" y="153"/>
                </a:cubicBezTo>
                <a:cubicBezTo>
                  <a:pt x="83" y="195"/>
                  <a:pt x="21" y="232"/>
                  <a:pt x="0" y="25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36"/>
          <p:cNvSpPr/>
          <p:nvPr/>
        </p:nvSpPr>
        <p:spPr>
          <a:xfrm>
            <a:off x="3419640" y="1484280"/>
            <a:ext cx="431640" cy="865080"/>
          </a:xfrm>
          <a:custGeom>
            <a:avLst/>
            <a:gdLst/>
            <a:ahLst/>
            <a:rect l="l" t="t" r="r" b="b"/>
            <a:pathLst>
              <a:path w="272" h="545">
                <a:moveTo>
                  <a:pt x="272" y="0"/>
                </a:moveTo>
                <a:cubicBezTo>
                  <a:pt x="257" y="45"/>
                  <a:pt x="242" y="91"/>
                  <a:pt x="227" y="136"/>
                </a:cubicBezTo>
                <a:cubicBezTo>
                  <a:pt x="212" y="181"/>
                  <a:pt x="197" y="242"/>
                  <a:pt x="182" y="272"/>
                </a:cubicBezTo>
                <a:cubicBezTo>
                  <a:pt x="167" y="302"/>
                  <a:pt x="151" y="288"/>
                  <a:pt x="136" y="318"/>
                </a:cubicBezTo>
                <a:cubicBezTo>
                  <a:pt x="121" y="348"/>
                  <a:pt x="114" y="416"/>
                  <a:pt x="91" y="454"/>
                </a:cubicBezTo>
                <a:cubicBezTo>
                  <a:pt x="68" y="492"/>
                  <a:pt x="15" y="530"/>
                  <a:pt x="0" y="5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37"/>
          <p:cNvSpPr/>
          <p:nvPr/>
        </p:nvSpPr>
        <p:spPr>
          <a:xfrm>
            <a:off x="4157640" y="1700280"/>
            <a:ext cx="142920" cy="871560"/>
          </a:xfrm>
          <a:custGeom>
            <a:avLst/>
            <a:gdLst/>
            <a:ahLst/>
            <a:rect l="l" t="t" r="r" b="b"/>
            <a:pathLst>
              <a:path w="90" h="549">
                <a:moveTo>
                  <a:pt x="34" y="0"/>
                </a:moveTo>
                <a:cubicBezTo>
                  <a:pt x="28" y="19"/>
                  <a:pt x="0" y="79"/>
                  <a:pt x="0" y="117"/>
                </a:cubicBezTo>
                <a:cubicBezTo>
                  <a:pt x="0" y="155"/>
                  <a:pt x="28" y="194"/>
                  <a:pt x="34" y="227"/>
                </a:cubicBezTo>
                <a:cubicBezTo>
                  <a:pt x="40" y="260"/>
                  <a:pt x="34" y="288"/>
                  <a:pt x="34" y="318"/>
                </a:cubicBezTo>
                <a:cubicBezTo>
                  <a:pt x="34" y="348"/>
                  <a:pt x="25" y="371"/>
                  <a:pt x="34" y="409"/>
                </a:cubicBezTo>
                <a:cubicBezTo>
                  <a:pt x="43" y="447"/>
                  <a:pt x="78" y="520"/>
                  <a:pt x="90" y="54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8"/>
          <p:cNvSpPr/>
          <p:nvPr/>
        </p:nvSpPr>
        <p:spPr>
          <a:xfrm>
            <a:off x="3492360" y="1957320"/>
            <a:ext cx="208080" cy="392040"/>
          </a:xfrm>
          <a:custGeom>
            <a:avLst/>
            <a:gdLst/>
            <a:ahLst/>
            <a:rect l="l" t="t" r="r" b="b"/>
            <a:pathLst>
              <a:path w="131" h="247">
                <a:moveTo>
                  <a:pt x="131" y="0"/>
                </a:moveTo>
                <a:cubicBezTo>
                  <a:pt x="126" y="18"/>
                  <a:pt x="104" y="77"/>
                  <a:pt x="90" y="111"/>
                </a:cubicBezTo>
                <a:cubicBezTo>
                  <a:pt x="76" y="145"/>
                  <a:pt x="60" y="178"/>
                  <a:pt x="45" y="201"/>
                </a:cubicBezTo>
                <a:cubicBezTo>
                  <a:pt x="30" y="224"/>
                  <a:pt x="7" y="239"/>
                  <a:pt x="0" y="24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39"/>
          <p:cNvSpPr/>
          <p:nvPr/>
        </p:nvSpPr>
        <p:spPr>
          <a:xfrm>
            <a:off x="3492360" y="2341440"/>
            <a:ext cx="379440" cy="101880"/>
          </a:xfrm>
          <a:custGeom>
            <a:avLst/>
            <a:gdLst/>
            <a:ahLst/>
            <a:rect l="l" t="t" r="r" b="b"/>
            <a:pathLst>
              <a:path w="239" h="64">
                <a:moveTo>
                  <a:pt x="0" y="5"/>
                </a:moveTo>
                <a:cubicBezTo>
                  <a:pt x="16" y="6"/>
                  <a:pt x="55" y="0"/>
                  <a:pt x="95" y="10"/>
                </a:cubicBezTo>
                <a:cubicBezTo>
                  <a:pt x="135" y="20"/>
                  <a:pt x="209" y="53"/>
                  <a:pt x="239" y="6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0"/>
          <p:cNvSpPr/>
          <p:nvPr/>
        </p:nvSpPr>
        <p:spPr>
          <a:xfrm>
            <a:off x="3151080" y="2349360"/>
            <a:ext cx="495360" cy="1136880"/>
          </a:xfrm>
          <a:custGeom>
            <a:avLst/>
            <a:gdLst/>
            <a:ahLst/>
            <a:rect l="l" t="t" r="r" b="b"/>
            <a:pathLst>
              <a:path w="312" h="716">
                <a:moveTo>
                  <a:pt x="305" y="0"/>
                </a:moveTo>
                <a:cubicBezTo>
                  <a:pt x="308" y="30"/>
                  <a:pt x="312" y="60"/>
                  <a:pt x="305" y="90"/>
                </a:cubicBezTo>
                <a:cubicBezTo>
                  <a:pt x="298" y="120"/>
                  <a:pt x="275" y="143"/>
                  <a:pt x="260" y="181"/>
                </a:cubicBezTo>
                <a:cubicBezTo>
                  <a:pt x="245" y="219"/>
                  <a:pt x="230" y="279"/>
                  <a:pt x="215" y="317"/>
                </a:cubicBezTo>
                <a:cubicBezTo>
                  <a:pt x="200" y="355"/>
                  <a:pt x="186" y="373"/>
                  <a:pt x="169" y="408"/>
                </a:cubicBezTo>
                <a:cubicBezTo>
                  <a:pt x="152" y="443"/>
                  <a:pt x="138" y="492"/>
                  <a:pt x="112" y="527"/>
                </a:cubicBezTo>
                <a:cubicBezTo>
                  <a:pt x="86" y="562"/>
                  <a:pt x="26" y="586"/>
                  <a:pt x="13" y="617"/>
                </a:cubicBezTo>
                <a:cubicBezTo>
                  <a:pt x="0" y="648"/>
                  <a:pt x="27" y="696"/>
                  <a:pt x="31" y="7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41"/>
          <p:cNvSpPr/>
          <p:nvPr/>
        </p:nvSpPr>
        <p:spPr>
          <a:xfrm>
            <a:off x="3203640" y="2257560"/>
            <a:ext cx="696960" cy="1266840"/>
          </a:xfrm>
          <a:custGeom>
            <a:avLst/>
            <a:gdLst/>
            <a:ahLst/>
            <a:rect l="l" t="t" r="r" b="b"/>
            <a:pathLst>
              <a:path w="439" h="798">
                <a:moveTo>
                  <a:pt x="439" y="0"/>
                </a:moveTo>
                <a:cubicBezTo>
                  <a:pt x="432" y="17"/>
                  <a:pt x="421" y="63"/>
                  <a:pt x="408" y="103"/>
                </a:cubicBezTo>
                <a:cubicBezTo>
                  <a:pt x="395" y="143"/>
                  <a:pt x="378" y="194"/>
                  <a:pt x="363" y="239"/>
                </a:cubicBezTo>
                <a:cubicBezTo>
                  <a:pt x="348" y="284"/>
                  <a:pt x="333" y="337"/>
                  <a:pt x="318" y="375"/>
                </a:cubicBezTo>
                <a:cubicBezTo>
                  <a:pt x="303" y="413"/>
                  <a:pt x="291" y="434"/>
                  <a:pt x="272" y="466"/>
                </a:cubicBezTo>
                <a:cubicBezTo>
                  <a:pt x="253" y="498"/>
                  <a:pt x="228" y="529"/>
                  <a:pt x="205" y="567"/>
                </a:cubicBezTo>
                <a:cubicBezTo>
                  <a:pt x="182" y="605"/>
                  <a:pt x="155" y="657"/>
                  <a:pt x="136" y="693"/>
                </a:cubicBezTo>
                <a:cubicBezTo>
                  <a:pt x="117" y="729"/>
                  <a:pt x="114" y="768"/>
                  <a:pt x="91" y="783"/>
                </a:cubicBezTo>
                <a:cubicBezTo>
                  <a:pt x="68" y="798"/>
                  <a:pt x="23" y="790"/>
                  <a:pt x="0" y="78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42"/>
          <p:cNvSpPr/>
          <p:nvPr/>
        </p:nvSpPr>
        <p:spPr>
          <a:xfrm>
            <a:off x="3700440" y="2205000"/>
            <a:ext cx="241200" cy="866880"/>
          </a:xfrm>
          <a:custGeom>
            <a:avLst/>
            <a:gdLst/>
            <a:ahLst/>
            <a:rect l="l" t="t" r="r" b="b"/>
            <a:pathLst>
              <a:path w="152" h="546">
                <a:moveTo>
                  <a:pt x="141" y="0"/>
                </a:moveTo>
                <a:cubicBezTo>
                  <a:pt x="148" y="60"/>
                  <a:pt x="152" y="119"/>
                  <a:pt x="141" y="181"/>
                </a:cubicBezTo>
                <a:cubicBezTo>
                  <a:pt x="130" y="243"/>
                  <a:pt x="95" y="314"/>
                  <a:pt x="72" y="375"/>
                </a:cubicBezTo>
                <a:cubicBezTo>
                  <a:pt x="49" y="436"/>
                  <a:pt x="15" y="511"/>
                  <a:pt x="0" y="54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43"/>
          <p:cNvSpPr/>
          <p:nvPr/>
        </p:nvSpPr>
        <p:spPr>
          <a:xfrm>
            <a:off x="3714840" y="2928960"/>
            <a:ext cx="1100160" cy="152280"/>
          </a:xfrm>
          <a:custGeom>
            <a:avLst/>
            <a:gdLst/>
            <a:ahLst/>
            <a:rect l="l" t="t" r="r" b="b"/>
            <a:pathLst>
              <a:path w="693" h="96">
                <a:moveTo>
                  <a:pt x="0" y="81"/>
                </a:moveTo>
                <a:cubicBezTo>
                  <a:pt x="35" y="81"/>
                  <a:pt x="162" y="87"/>
                  <a:pt x="222" y="88"/>
                </a:cubicBezTo>
                <a:cubicBezTo>
                  <a:pt x="282" y="89"/>
                  <a:pt x="318" y="89"/>
                  <a:pt x="359" y="88"/>
                </a:cubicBezTo>
                <a:cubicBezTo>
                  <a:pt x="400" y="87"/>
                  <a:pt x="412" y="96"/>
                  <a:pt x="468" y="81"/>
                </a:cubicBezTo>
                <a:cubicBezTo>
                  <a:pt x="524" y="66"/>
                  <a:pt x="646" y="17"/>
                  <a:pt x="693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44"/>
          <p:cNvSpPr/>
          <p:nvPr/>
        </p:nvSpPr>
        <p:spPr>
          <a:xfrm>
            <a:off x="4614840" y="2060640"/>
            <a:ext cx="200160" cy="954000"/>
          </a:xfrm>
          <a:custGeom>
            <a:avLst/>
            <a:gdLst/>
            <a:ahLst/>
            <a:rect l="l" t="t" r="r" b="b"/>
            <a:pathLst>
              <a:path w="126" h="601">
                <a:moveTo>
                  <a:pt x="18" y="0"/>
                </a:moveTo>
                <a:cubicBezTo>
                  <a:pt x="18" y="45"/>
                  <a:pt x="18" y="91"/>
                  <a:pt x="18" y="136"/>
                </a:cubicBezTo>
                <a:cubicBezTo>
                  <a:pt x="18" y="181"/>
                  <a:pt x="18" y="227"/>
                  <a:pt x="18" y="272"/>
                </a:cubicBezTo>
                <a:cubicBezTo>
                  <a:pt x="18" y="317"/>
                  <a:pt x="0" y="353"/>
                  <a:pt x="18" y="408"/>
                </a:cubicBezTo>
                <a:cubicBezTo>
                  <a:pt x="36" y="463"/>
                  <a:pt x="103" y="561"/>
                  <a:pt x="126" y="60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45"/>
          <p:cNvSpPr/>
          <p:nvPr/>
        </p:nvSpPr>
        <p:spPr>
          <a:xfrm>
            <a:off x="3614760" y="3068640"/>
            <a:ext cx="165240" cy="646200"/>
          </a:xfrm>
          <a:custGeom>
            <a:avLst/>
            <a:gdLst/>
            <a:ahLst/>
            <a:rect l="l" t="t" r="r" b="b"/>
            <a:pathLst>
              <a:path w="104" h="407">
                <a:moveTo>
                  <a:pt x="104" y="0"/>
                </a:moveTo>
                <a:cubicBezTo>
                  <a:pt x="89" y="45"/>
                  <a:pt x="72" y="89"/>
                  <a:pt x="59" y="136"/>
                </a:cubicBezTo>
                <a:cubicBezTo>
                  <a:pt x="46" y="183"/>
                  <a:pt x="37" y="236"/>
                  <a:pt x="27" y="281"/>
                </a:cubicBezTo>
                <a:cubicBezTo>
                  <a:pt x="17" y="326"/>
                  <a:pt x="6" y="381"/>
                  <a:pt x="0" y="40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46"/>
          <p:cNvSpPr/>
          <p:nvPr/>
        </p:nvSpPr>
        <p:spPr>
          <a:xfrm>
            <a:off x="3851280" y="3860640"/>
            <a:ext cx="301680" cy="1584360"/>
          </a:xfrm>
          <a:custGeom>
            <a:avLst/>
            <a:gdLst/>
            <a:ahLst/>
            <a:rect l="l" t="t" r="r" b="b"/>
            <a:pathLst>
              <a:path w="190" h="998">
                <a:moveTo>
                  <a:pt x="0" y="0"/>
                </a:moveTo>
                <a:cubicBezTo>
                  <a:pt x="19" y="45"/>
                  <a:pt x="38" y="91"/>
                  <a:pt x="46" y="136"/>
                </a:cubicBezTo>
                <a:cubicBezTo>
                  <a:pt x="54" y="181"/>
                  <a:pt x="46" y="234"/>
                  <a:pt x="46" y="272"/>
                </a:cubicBezTo>
                <a:cubicBezTo>
                  <a:pt x="46" y="310"/>
                  <a:pt x="39" y="318"/>
                  <a:pt x="46" y="363"/>
                </a:cubicBezTo>
                <a:cubicBezTo>
                  <a:pt x="53" y="408"/>
                  <a:pt x="76" y="484"/>
                  <a:pt x="91" y="544"/>
                </a:cubicBezTo>
                <a:cubicBezTo>
                  <a:pt x="106" y="604"/>
                  <a:pt x="121" y="681"/>
                  <a:pt x="136" y="726"/>
                </a:cubicBezTo>
                <a:cubicBezTo>
                  <a:pt x="151" y="771"/>
                  <a:pt x="174" y="787"/>
                  <a:pt x="182" y="817"/>
                </a:cubicBezTo>
                <a:cubicBezTo>
                  <a:pt x="190" y="847"/>
                  <a:pt x="183" y="883"/>
                  <a:pt x="182" y="907"/>
                </a:cubicBezTo>
                <a:cubicBezTo>
                  <a:pt x="181" y="931"/>
                  <a:pt x="175" y="946"/>
                  <a:pt x="175" y="961"/>
                </a:cubicBezTo>
                <a:cubicBezTo>
                  <a:pt x="175" y="976"/>
                  <a:pt x="181" y="990"/>
                  <a:pt x="182" y="9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47"/>
          <p:cNvSpPr/>
          <p:nvPr/>
        </p:nvSpPr>
        <p:spPr>
          <a:xfrm>
            <a:off x="4643280" y="2997360"/>
            <a:ext cx="200160" cy="688680"/>
          </a:xfrm>
          <a:custGeom>
            <a:avLst/>
            <a:gdLst/>
            <a:ahLst/>
            <a:rect l="l" t="t" r="r" b="b"/>
            <a:pathLst>
              <a:path w="126" h="434">
                <a:moveTo>
                  <a:pt x="0" y="0"/>
                </a:moveTo>
                <a:cubicBezTo>
                  <a:pt x="19" y="26"/>
                  <a:pt x="38" y="53"/>
                  <a:pt x="46" y="91"/>
                </a:cubicBezTo>
                <a:cubicBezTo>
                  <a:pt x="54" y="129"/>
                  <a:pt x="33" y="170"/>
                  <a:pt x="46" y="227"/>
                </a:cubicBezTo>
                <a:cubicBezTo>
                  <a:pt x="59" y="284"/>
                  <a:pt x="109" y="391"/>
                  <a:pt x="126" y="43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48"/>
          <p:cNvSpPr/>
          <p:nvPr/>
        </p:nvSpPr>
        <p:spPr>
          <a:xfrm>
            <a:off x="4425840" y="3772080"/>
            <a:ext cx="203400" cy="1542960"/>
          </a:xfrm>
          <a:custGeom>
            <a:avLst/>
            <a:gdLst/>
            <a:ahLst/>
            <a:rect l="l" t="t" r="r" b="b"/>
            <a:pathLst>
              <a:path w="128" h="972">
                <a:moveTo>
                  <a:pt x="65" y="0"/>
                </a:moveTo>
                <a:cubicBezTo>
                  <a:pt x="62" y="15"/>
                  <a:pt x="51" y="77"/>
                  <a:pt x="47" y="102"/>
                </a:cubicBezTo>
                <a:cubicBezTo>
                  <a:pt x="43" y="127"/>
                  <a:pt x="46" y="123"/>
                  <a:pt x="38" y="153"/>
                </a:cubicBezTo>
                <a:cubicBezTo>
                  <a:pt x="30" y="183"/>
                  <a:pt x="0" y="240"/>
                  <a:pt x="1" y="283"/>
                </a:cubicBezTo>
                <a:cubicBezTo>
                  <a:pt x="2" y="326"/>
                  <a:pt x="39" y="354"/>
                  <a:pt x="47" y="414"/>
                </a:cubicBezTo>
                <a:cubicBezTo>
                  <a:pt x="55" y="474"/>
                  <a:pt x="41" y="592"/>
                  <a:pt x="47" y="646"/>
                </a:cubicBezTo>
                <a:cubicBezTo>
                  <a:pt x="53" y="700"/>
                  <a:pt x="76" y="708"/>
                  <a:pt x="83" y="738"/>
                </a:cubicBezTo>
                <a:cubicBezTo>
                  <a:pt x="90" y="768"/>
                  <a:pt x="84" y="788"/>
                  <a:pt x="92" y="827"/>
                </a:cubicBezTo>
                <a:cubicBezTo>
                  <a:pt x="100" y="866"/>
                  <a:pt x="121" y="942"/>
                  <a:pt x="128" y="9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49"/>
          <p:cNvSpPr/>
          <p:nvPr/>
        </p:nvSpPr>
        <p:spPr>
          <a:xfrm>
            <a:off x="4129200" y="3789360"/>
            <a:ext cx="298440" cy="1655640"/>
          </a:xfrm>
          <a:custGeom>
            <a:avLst/>
            <a:gdLst/>
            <a:ahLst/>
            <a:rect l="l" t="t" r="r" b="b"/>
            <a:pathLst>
              <a:path w="188" h="1043">
                <a:moveTo>
                  <a:pt x="7" y="0"/>
                </a:moveTo>
                <a:cubicBezTo>
                  <a:pt x="7" y="64"/>
                  <a:pt x="7" y="128"/>
                  <a:pt x="7" y="181"/>
                </a:cubicBezTo>
                <a:cubicBezTo>
                  <a:pt x="7" y="234"/>
                  <a:pt x="0" y="264"/>
                  <a:pt x="7" y="317"/>
                </a:cubicBezTo>
                <a:cubicBezTo>
                  <a:pt x="14" y="370"/>
                  <a:pt x="29" y="439"/>
                  <a:pt x="52" y="499"/>
                </a:cubicBezTo>
                <a:cubicBezTo>
                  <a:pt x="75" y="559"/>
                  <a:pt x="131" y="641"/>
                  <a:pt x="143" y="680"/>
                </a:cubicBezTo>
                <a:cubicBezTo>
                  <a:pt x="155" y="719"/>
                  <a:pt x="127" y="707"/>
                  <a:pt x="126" y="736"/>
                </a:cubicBezTo>
                <a:cubicBezTo>
                  <a:pt x="125" y="765"/>
                  <a:pt x="132" y="809"/>
                  <a:pt x="135" y="853"/>
                </a:cubicBezTo>
                <a:cubicBezTo>
                  <a:pt x="138" y="897"/>
                  <a:pt x="134" y="966"/>
                  <a:pt x="143" y="998"/>
                </a:cubicBezTo>
                <a:cubicBezTo>
                  <a:pt x="152" y="1030"/>
                  <a:pt x="173" y="1035"/>
                  <a:pt x="188" y="104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50"/>
          <p:cNvSpPr/>
          <p:nvPr/>
        </p:nvSpPr>
        <p:spPr>
          <a:xfrm>
            <a:off x="4427640" y="5300640"/>
            <a:ext cx="215640" cy="144360"/>
          </a:xfrm>
          <a:custGeom>
            <a:avLst/>
            <a:gdLst/>
            <a:ahLst/>
            <a:rect l="l" t="t" r="r" b="b"/>
            <a:pathLst>
              <a:path w="136" h="91">
                <a:moveTo>
                  <a:pt x="136" y="0"/>
                </a:moveTo>
                <a:cubicBezTo>
                  <a:pt x="128" y="12"/>
                  <a:pt x="114" y="57"/>
                  <a:pt x="91" y="72"/>
                </a:cubicBezTo>
                <a:cubicBezTo>
                  <a:pt x="68" y="87"/>
                  <a:pt x="19" y="87"/>
                  <a:pt x="0" y="9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51"/>
          <p:cNvSpPr/>
          <p:nvPr/>
        </p:nvSpPr>
        <p:spPr>
          <a:xfrm>
            <a:off x="4211640" y="4581360"/>
            <a:ext cx="154080" cy="792360"/>
          </a:xfrm>
          <a:custGeom>
            <a:avLst/>
            <a:gdLst/>
            <a:ahLst/>
            <a:rect l="l" t="t" r="r" b="b"/>
            <a:pathLst>
              <a:path w="97" h="499">
                <a:moveTo>
                  <a:pt x="0" y="0"/>
                </a:moveTo>
                <a:cubicBezTo>
                  <a:pt x="9" y="39"/>
                  <a:pt x="41" y="184"/>
                  <a:pt x="56" y="237"/>
                </a:cubicBezTo>
                <a:cubicBezTo>
                  <a:pt x="71" y="290"/>
                  <a:pt x="85" y="273"/>
                  <a:pt x="91" y="317"/>
                </a:cubicBezTo>
                <a:cubicBezTo>
                  <a:pt x="97" y="361"/>
                  <a:pt x="91" y="461"/>
                  <a:pt x="91" y="49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52"/>
          <p:cNvSpPr/>
          <p:nvPr/>
        </p:nvSpPr>
        <p:spPr>
          <a:xfrm>
            <a:off x="4172040" y="5445000"/>
            <a:ext cx="183960" cy="42840"/>
          </a:xfrm>
          <a:custGeom>
            <a:avLst/>
            <a:gdLst/>
            <a:ahLst/>
            <a:rect l="l" t="t" r="r" b="b"/>
            <a:pathLst>
              <a:path w="116" h="27">
                <a:moveTo>
                  <a:pt x="0" y="8"/>
                </a:moveTo>
                <a:cubicBezTo>
                  <a:pt x="9" y="11"/>
                  <a:pt x="35" y="27"/>
                  <a:pt x="54" y="26"/>
                </a:cubicBezTo>
                <a:cubicBezTo>
                  <a:pt x="73" y="25"/>
                  <a:pt x="103" y="5"/>
                  <a:pt x="116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53"/>
          <p:cNvSpPr/>
          <p:nvPr/>
        </p:nvSpPr>
        <p:spPr>
          <a:xfrm>
            <a:off x="3614760" y="3672000"/>
            <a:ext cx="1228680" cy="199800"/>
          </a:xfrm>
          <a:custGeom>
            <a:avLst/>
            <a:gdLst/>
            <a:ahLst/>
            <a:rect l="l" t="t" r="r" b="b"/>
            <a:pathLst>
              <a:path w="774" h="126">
                <a:moveTo>
                  <a:pt x="0" y="45"/>
                </a:moveTo>
                <a:cubicBezTo>
                  <a:pt x="12" y="51"/>
                  <a:pt x="38" y="69"/>
                  <a:pt x="63" y="81"/>
                </a:cubicBezTo>
                <a:cubicBezTo>
                  <a:pt x="88" y="93"/>
                  <a:pt x="112" y="113"/>
                  <a:pt x="149" y="119"/>
                </a:cubicBezTo>
                <a:cubicBezTo>
                  <a:pt x="186" y="125"/>
                  <a:pt x="247" y="126"/>
                  <a:pt x="285" y="119"/>
                </a:cubicBezTo>
                <a:cubicBezTo>
                  <a:pt x="323" y="112"/>
                  <a:pt x="331" y="81"/>
                  <a:pt x="376" y="74"/>
                </a:cubicBezTo>
                <a:cubicBezTo>
                  <a:pt x="421" y="67"/>
                  <a:pt x="510" y="79"/>
                  <a:pt x="558" y="74"/>
                </a:cubicBezTo>
                <a:cubicBezTo>
                  <a:pt x="606" y="69"/>
                  <a:pt x="630" y="57"/>
                  <a:pt x="666" y="45"/>
                </a:cubicBezTo>
                <a:cubicBezTo>
                  <a:pt x="702" y="33"/>
                  <a:pt x="752" y="9"/>
                  <a:pt x="774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54"/>
          <p:cNvSpPr/>
          <p:nvPr/>
        </p:nvSpPr>
        <p:spPr>
          <a:xfrm>
            <a:off x="4143240" y="3100320"/>
            <a:ext cx="114480" cy="600120"/>
          </a:xfrm>
          <a:custGeom>
            <a:avLst/>
            <a:gdLst/>
            <a:ahLst/>
            <a:rect l="l" t="t" r="r" b="b"/>
            <a:pathLst>
              <a:path w="72" h="378">
                <a:moveTo>
                  <a:pt x="72" y="0"/>
                </a:moveTo>
                <a:cubicBezTo>
                  <a:pt x="69" y="19"/>
                  <a:pt x="49" y="76"/>
                  <a:pt x="43" y="116"/>
                </a:cubicBezTo>
                <a:cubicBezTo>
                  <a:pt x="37" y="156"/>
                  <a:pt x="43" y="199"/>
                  <a:pt x="36" y="243"/>
                </a:cubicBezTo>
                <a:cubicBezTo>
                  <a:pt x="29" y="287"/>
                  <a:pt x="8" y="350"/>
                  <a:pt x="0" y="37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55"/>
          <p:cNvSpPr/>
          <p:nvPr/>
        </p:nvSpPr>
        <p:spPr>
          <a:xfrm>
            <a:off x="4500720" y="3068640"/>
            <a:ext cx="12600" cy="576360"/>
          </a:xfrm>
          <a:custGeom>
            <a:avLst/>
            <a:gdLst/>
            <a:ahLst/>
            <a:rect l="l" t="t" r="r" b="b"/>
            <a:pathLst>
              <a:path w="8" h="363">
                <a:moveTo>
                  <a:pt x="0" y="0"/>
                </a:moveTo>
                <a:cubicBezTo>
                  <a:pt x="0" y="49"/>
                  <a:pt x="0" y="98"/>
                  <a:pt x="0" y="136"/>
                </a:cubicBezTo>
                <a:cubicBezTo>
                  <a:pt x="0" y="174"/>
                  <a:pt x="0" y="189"/>
                  <a:pt x="0" y="227"/>
                </a:cubicBezTo>
                <a:cubicBezTo>
                  <a:pt x="0" y="265"/>
                  <a:pt x="8" y="340"/>
                  <a:pt x="0" y="36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56"/>
          <p:cNvSpPr/>
          <p:nvPr/>
        </p:nvSpPr>
        <p:spPr>
          <a:xfrm>
            <a:off x="3780000" y="3141720"/>
            <a:ext cx="215640" cy="431640"/>
          </a:xfrm>
          <a:custGeom>
            <a:avLst/>
            <a:gdLst/>
            <a:ahLst/>
            <a:rect l="l" t="t" r="r" b="b"/>
            <a:pathLst>
              <a:path w="136" h="272">
                <a:moveTo>
                  <a:pt x="136" y="0"/>
                </a:moveTo>
                <a:cubicBezTo>
                  <a:pt x="121" y="7"/>
                  <a:pt x="106" y="15"/>
                  <a:pt x="91" y="45"/>
                </a:cubicBezTo>
                <a:cubicBezTo>
                  <a:pt x="76" y="75"/>
                  <a:pt x="60" y="143"/>
                  <a:pt x="45" y="181"/>
                </a:cubicBezTo>
                <a:cubicBezTo>
                  <a:pt x="30" y="219"/>
                  <a:pt x="7" y="249"/>
                  <a:pt x="0" y="2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8"/>
          <p:cNvSpPr/>
          <p:nvPr/>
        </p:nvSpPr>
        <p:spPr>
          <a:xfrm flipH="1">
            <a:off x="4500720" y="3716280"/>
            <a:ext cx="2087280" cy="10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59"/>
          <p:cNvSpPr/>
          <p:nvPr/>
        </p:nvSpPr>
        <p:spPr>
          <a:xfrm>
            <a:off x="7524720" y="3573360"/>
            <a:ext cx="934920" cy="328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63"/>
          <p:cNvSpPr/>
          <p:nvPr/>
        </p:nvSpPr>
        <p:spPr>
          <a:xfrm flipH="1">
            <a:off x="250560" y="5013360"/>
            <a:ext cx="3816360" cy="184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64"/>
          <p:cNvSpPr/>
          <p:nvPr/>
        </p:nvSpPr>
        <p:spPr>
          <a:xfrm>
            <a:off x="4071960" y="5013360"/>
            <a:ext cx="212760" cy="30240"/>
          </a:xfrm>
          <a:custGeom>
            <a:avLst/>
            <a:gdLst/>
            <a:ahLst/>
            <a:rect l="l" t="t" r="r" b="b"/>
            <a:pathLst>
              <a:path w="134" h="19">
                <a:moveTo>
                  <a:pt x="0" y="19"/>
                </a:moveTo>
                <a:cubicBezTo>
                  <a:pt x="22" y="14"/>
                  <a:pt x="106" y="4"/>
                  <a:pt x="134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65"/>
          <p:cNvSpPr/>
          <p:nvPr/>
        </p:nvSpPr>
        <p:spPr>
          <a:xfrm>
            <a:off x="4356000" y="4869000"/>
            <a:ext cx="144720" cy="1440"/>
          </a:xfrm>
          <a:custGeom>
            <a:avLst/>
            <a:gdLst/>
            <a:ahLst/>
            <a:rect l="l" t="t" r="r" b="b"/>
            <a:pathLst>
              <a:path w="91" h="1">
                <a:moveTo>
                  <a:pt x="0" y="0"/>
                </a:moveTo>
                <a:cubicBezTo>
                  <a:pt x="0" y="0"/>
                  <a:pt x="45" y="0"/>
                  <a:pt x="91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68"/>
          <p:cNvSpPr/>
          <p:nvPr/>
        </p:nvSpPr>
        <p:spPr>
          <a:xfrm>
            <a:off x="6580080" y="692280"/>
            <a:ext cx="368280" cy="463320"/>
          </a:xfrm>
          <a:custGeom>
            <a:avLst/>
            <a:gdLst/>
            <a:ahLst/>
            <a:rect l="l" t="t" r="r" b="b"/>
            <a:pathLst>
              <a:path w="232" h="292">
                <a:moveTo>
                  <a:pt x="203" y="0"/>
                </a:moveTo>
                <a:cubicBezTo>
                  <a:pt x="214" y="30"/>
                  <a:pt x="232" y="64"/>
                  <a:pt x="203" y="90"/>
                </a:cubicBezTo>
                <a:cubicBezTo>
                  <a:pt x="174" y="116"/>
                  <a:pt x="62" y="123"/>
                  <a:pt x="31" y="157"/>
                </a:cubicBezTo>
                <a:cubicBezTo>
                  <a:pt x="0" y="191"/>
                  <a:pt x="18" y="264"/>
                  <a:pt x="14" y="29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69"/>
          <p:cNvSpPr/>
          <p:nvPr/>
        </p:nvSpPr>
        <p:spPr>
          <a:xfrm>
            <a:off x="6804000" y="692280"/>
            <a:ext cx="287280" cy="168120"/>
          </a:xfrm>
          <a:custGeom>
            <a:avLst/>
            <a:gdLst/>
            <a:ahLst/>
            <a:rect l="l" t="t" r="r" b="b"/>
            <a:pathLst>
              <a:path w="181" h="106">
                <a:moveTo>
                  <a:pt x="0" y="0"/>
                </a:moveTo>
                <a:cubicBezTo>
                  <a:pt x="30" y="38"/>
                  <a:pt x="60" y="76"/>
                  <a:pt x="90" y="91"/>
                </a:cubicBezTo>
                <a:cubicBezTo>
                  <a:pt x="120" y="106"/>
                  <a:pt x="150" y="98"/>
                  <a:pt x="181" y="9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70"/>
          <p:cNvSpPr/>
          <p:nvPr/>
        </p:nvSpPr>
        <p:spPr>
          <a:xfrm>
            <a:off x="6588000" y="69228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5" y="17"/>
                  <a:pt x="94" y="80"/>
                  <a:pt x="71" y="103"/>
                </a:cubicBezTo>
                <a:cubicBezTo>
                  <a:pt x="48" y="126"/>
                  <a:pt x="15" y="129"/>
                  <a:pt x="0" y="13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71"/>
          <p:cNvSpPr/>
          <p:nvPr/>
        </p:nvSpPr>
        <p:spPr>
          <a:xfrm>
            <a:off x="7020000" y="765000"/>
            <a:ext cx="166680" cy="279720"/>
          </a:xfrm>
          <a:custGeom>
            <a:avLst/>
            <a:gdLst/>
            <a:ahLst/>
            <a:rect l="l" t="t" r="r" b="b"/>
            <a:pathLst>
              <a:path w="105" h="176">
                <a:moveTo>
                  <a:pt x="0" y="0"/>
                </a:moveTo>
                <a:cubicBezTo>
                  <a:pt x="6" y="20"/>
                  <a:pt x="16" y="93"/>
                  <a:pt x="33" y="122"/>
                </a:cubicBezTo>
                <a:cubicBezTo>
                  <a:pt x="50" y="151"/>
                  <a:pt x="90" y="165"/>
                  <a:pt x="105" y="1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73"/>
          <p:cNvSpPr/>
          <p:nvPr/>
        </p:nvSpPr>
        <p:spPr>
          <a:xfrm>
            <a:off x="4187880" y="1628640"/>
            <a:ext cx="181080" cy="505080"/>
          </a:xfrm>
          <a:custGeom>
            <a:avLst/>
            <a:gdLst/>
            <a:ahLst/>
            <a:rect l="l" t="t" r="r" b="b"/>
            <a:pathLst>
              <a:path w="114" h="318">
                <a:moveTo>
                  <a:pt x="61" y="0"/>
                </a:moveTo>
                <a:cubicBezTo>
                  <a:pt x="42" y="30"/>
                  <a:pt x="23" y="61"/>
                  <a:pt x="15" y="91"/>
                </a:cubicBezTo>
                <a:cubicBezTo>
                  <a:pt x="7" y="121"/>
                  <a:pt x="0" y="151"/>
                  <a:pt x="15" y="181"/>
                </a:cubicBezTo>
                <a:cubicBezTo>
                  <a:pt x="30" y="211"/>
                  <a:pt x="98" y="249"/>
                  <a:pt x="106" y="272"/>
                </a:cubicBezTo>
                <a:cubicBezTo>
                  <a:pt x="114" y="295"/>
                  <a:pt x="87" y="306"/>
                  <a:pt x="61" y="31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74"/>
          <p:cNvSpPr/>
          <p:nvPr/>
        </p:nvSpPr>
        <p:spPr>
          <a:xfrm>
            <a:off x="3780000" y="1197000"/>
            <a:ext cx="168120" cy="216000"/>
          </a:xfrm>
          <a:custGeom>
            <a:avLst/>
            <a:gdLst/>
            <a:ahLst/>
            <a:rect l="l" t="t" r="r" b="b"/>
            <a:pathLst>
              <a:path w="106" h="136">
                <a:moveTo>
                  <a:pt x="91" y="0"/>
                </a:moveTo>
                <a:cubicBezTo>
                  <a:pt x="98" y="34"/>
                  <a:pt x="106" y="68"/>
                  <a:pt x="91" y="91"/>
                </a:cubicBezTo>
                <a:cubicBezTo>
                  <a:pt x="76" y="114"/>
                  <a:pt x="15" y="121"/>
                  <a:pt x="0" y="13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75"/>
          <p:cNvSpPr/>
          <p:nvPr/>
        </p:nvSpPr>
        <p:spPr>
          <a:xfrm>
            <a:off x="3924360" y="105264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cubicBezTo>
                  <a:pt x="15" y="11"/>
                  <a:pt x="30" y="23"/>
                  <a:pt x="45" y="46"/>
                </a:cubicBezTo>
                <a:cubicBezTo>
                  <a:pt x="60" y="69"/>
                  <a:pt x="75" y="113"/>
                  <a:pt x="90" y="136"/>
                </a:cubicBezTo>
                <a:cubicBezTo>
                  <a:pt x="105" y="159"/>
                  <a:pt x="113" y="167"/>
                  <a:pt x="136" y="182"/>
                </a:cubicBezTo>
                <a:cubicBezTo>
                  <a:pt x="159" y="197"/>
                  <a:pt x="204" y="220"/>
                  <a:pt x="227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6"/>
          <p:cNvSpPr/>
          <p:nvPr/>
        </p:nvSpPr>
        <p:spPr>
          <a:xfrm>
            <a:off x="845640" y="2524680"/>
            <a:ext cx="45468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牵手的那一刻，心便跳在同一节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"/>
          <p:cNvSpPr/>
          <p:nvPr/>
        </p:nvSpPr>
        <p:spPr>
          <a:xfrm>
            <a:off x="2361960" y="2142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人节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11"/>
          <p:cNvSpPr/>
          <p:nvPr/>
        </p:nvSpPr>
        <p:spPr>
          <a:xfrm>
            <a:off x="6443640" y="189000"/>
            <a:ext cx="216000" cy="503280"/>
          </a:xfrm>
          <a:custGeom>
            <a:avLst/>
            <a:gdLst/>
            <a:ahLst/>
            <a:rect l="l" t="t" r="r" b="b"/>
            <a:pathLst>
              <a:path w="136" h="317">
                <a:moveTo>
                  <a:pt x="136" y="0"/>
                </a:moveTo>
                <a:cubicBezTo>
                  <a:pt x="117" y="26"/>
                  <a:pt x="98" y="53"/>
                  <a:pt x="91" y="91"/>
                </a:cubicBezTo>
                <a:cubicBezTo>
                  <a:pt x="84" y="129"/>
                  <a:pt x="98" y="197"/>
                  <a:pt x="91" y="227"/>
                </a:cubicBezTo>
                <a:cubicBezTo>
                  <a:pt x="84" y="257"/>
                  <a:pt x="61" y="257"/>
                  <a:pt x="46" y="272"/>
                </a:cubicBezTo>
                <a:cubicBezTo>
                  <a:pt x="31" y="287"/>
                  <a:pt x="15" y="302"/>
                  <a:pt x="0" y="31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2"/>
          <p:cNvSpPr/>
          <p:nvPr/>
        </p:nvSpPr>
        <p:spPr>
          <a:xfrm>
            <a:off x="6659640" y="101520"/>
            <a:ext cx="669960" cy="312840"/>
          </a:xfrm>
          <a:custGeom>
            <a:avLst/>
            <a:gdLst/>
            <a:ahLst/>
            <a:rect l="l" t="t" r="r" b="b"/>
            <a:pathLst>
              <a:path w="422" h="197">
                <a:moveTo>
                  <a:pt x="0" y="55"/>
                </a:moveTo>
                <a:cubicBezTo>
                  <a:pt x="49" y="36"/>
                  <a:pt x="99" y="17"/>
                  <a:pt x="137" y="9"/>
                </a:cubicBezTo>
                <a:cubicBezTo>
                  <a:pt x="175" y="1"/>
                  <a:pt x="199" y="0"/>
                  <a:pt x="227" y="9"/>
                </a:cubicBezTo>
                <a:cubicBezTo>
                  <a:pt x="255" y="18"/>
                  <a:pt x="287" y="38"/>
                  <a:pt x="305" y="62"/>
                </a:cubicBezTo>
                <a:cubicBezTo>
                  <a:pt x="323" y="86"/>
                  <a:pt x="313" y="130"/>
                  <a:pt x="332" y="152"/>
                </a:cubicBezTo>
                <a:cubicBezTo>
                  <a:pt x="351" y="174"/>
                  <a:pt x="403" y="188"/>
                  <a:pt x="422" y="19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3"/>
          <p:cNvSpPr/>
          <p:nvPr/>
        </p:nvSpPr>
        <p:spPr>
          <a:xfrm>
            <a:off x="6486480" y="428760"/>
            <a:ext cx="885960" cy="269640"/>
          </a:xfrm>
          <a:custGeom>
            <a:avLst/>
            <a:gdLst/>
            <a:ahLst/>
            <a:rect l="l" t="t" r="r" b="b"/>
            <a:pathLst>
              <a:path w="558" h="170">
                <a:moveTo>
                  <a:pt x="0" y="144"/>
                </a:moveTo>
                <a:cubicBezTo>
                  <a:pt x="17" y="148"/>
                  <a:pt x="61" y="170"/>
                  <a:pt x="109" y="166"/>
                </a:cubicBezTo>
                <a:cubicBezTo>
                  <a:pt x="157" y="162"/>
                  <a:pt x="238" y="136"/>
                  <a:pt x="291" y="121"/>
                </a:cubicBezTo>
                <a:cubicBezTo>
                  <a:pt x="344" y="106"/>
                  <a:pt x="383" y="96"/>
                  <a:pt x="427" y="76"/>
                </a:cubicBezTo>
                <a:cubicBezTo>
                  <a:pt x="471" y="56"/>
                  <a:pt x="531" y="16"/>
                  <a:pt x="558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4"/>
          <p:cNvSpPr/>
          <p:nvPr/>
        </p:nvSpPr>
        <p:spPr>
          <a:xfrm>
            <a:off x="6576840" y="692280"/>
            <a:ext cx="371520" cy="433080"/>
          </a:xfrm>
          <a:custGeom>
            <a:avLst/>
            <a:gdLst/>
            <a:ahLst/>
            <a:rect l="l" t="t" r="r" b="b"/>
            <a:pathLst>
              <a:path w="234" h="273">
                <a:moveTo>
                  <a:pt x="7" y="0"/>
                </a:moveTo>
                <a:cubicBezTo>
                  <a:pt x="3" y="30"/>
                  <a:pt x="0" y="61"/>
                  <a:pt x="7" y="91"/>
                </a:cubicBezTo>
                <a:cubicBezTo>
                  <a:pt x="14" y="121"/>
                  <a:pt x="37" y="159"/>
                  <a:pt x="52" y="182"/>
                </a:cubicBezTo>
                <a:cubicBezTo>
                  <a:pt x="67" y="205"/>
                  <a:pt x="75" y="220"/>
                  <a:pt x="98" y="227"/>
                </a:cubicBezTo>
                <a:cubicBezTo>
                  <a:pt x="121" y="234"/>
                  <a:pt x="166" y="219"/>
                  <a:pt x="189" y="227"/>
                </a:cubicBezTo>
                <a:cubicBezTo>
                  <a:pt x="212" y="235"/>
                  <a:pt x="219" y="265"/>
                  <a:pt x="234" y="27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5"/>
          <p:cNvSpPr/>
          <p:nvPr/>
        </p:nvSpPr>
        <p:spPr>
          <a:xfrm>
            <a:off x="6948360" y="549360"/>
            <a:ext cx="422280" cy="576000"/>
          </a:xfrm>
          <a:custGeom>
            <a:avLst/>
            <a:gdLst/>
            <a:ahLst/>
            <a:rect l="l" t="t" r="r" b="b"/>
            <a:pathLst>
              <a:path w="266" h="363">
                <a:moveTo>
                  <a:pt x="181" y="0"/>
                </a:moveTo>
                <a:cubicBezTo>
                  <a:pt x="194" y="11"/>
                  <a:pt x="250" y="45"/>
                  <a:pt x="258" y="68"/>
                </a:cubicBezTo>
                <a:cubicBezTo>
                  <a:pt x="266" y="91"/>
                  <a:pt x="236" y="108"/>
                  <a:pt x="227" y="136"/>
                </a:cubicBezTo>
                <a:cubicBezTo>
                  <a:pt x="218" y="164"/>
                  <a:pt x="212" y="216"/>
                  <a:pt x="204" y="239"/>
                </a:cubicBezTo>
                <a:cubicBezTo>
                  <a:pt x="196" y="262"/>
                  <a:pt x="192" y="259"/>
                  <a:pt x="181" y="272"/>
                </a:cubicBezTo>
                <a:cubicBezTo>
                  <a:pt x="170" y="285"/>
                  <a:pt x="166" y="302"/>
                  <a:pt x="136" y="317"/>
                </a:cubicBezTo>
                <a:cubicBezTo>
                  <a:pt x="106" y="332"/>
                  <a:pt x="53" y="347"/>
                  <a:pt x="0" y="36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6"/>
          <p:cNvSpPr/>
          <p:nvPr/>
        </p:nvSpPr>
        <p:spPr>
          <a:xfrm>
            <a:off x="6804000" y="692280"/>
            <a:ext cx="216000" cy="360360"/>
          </a:xfrm>
          <a:custGeom>
            <a:avLst/>
            <a:gdLst/>
            <a:ahLst/>
            <a:rect l="l" t="t" r="r" b="b"/>
            <a:pathLst>
              <a:path w="136" h="227">
                <a:moveTo>
                  <a:pt x="0" y="0"/>
                </a:moveTo>
                <a:cubicBezTo>
                  <a:pt x="15" y="30"/>
                  <a:pt x="31" y="61"/>
                  <a:pt x="46" y="91"/>
                </a:cubicBezTo>
                <a:cubicBezTo>
                  <a:pt x="61" y="121"/>
                  <a:pt x="76" y="159"/>
                  <a:pt x="91" y="182"/>
                </a:cubicBezTo>
                <a:cubicBezTo>
                  <a:pt x="106" y="205"/>
                  <a:pt x="136" y="220"/>
                  <a:pt x="136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7"/>
          <p:cNvSpPr/>
          <p:nvPr/>
        </p:nvSpPr>
        <p:spPr>
          <a:xfrm>
            <a:off x="7093080" y="620640"/>
            <a:ext cx="71280" cy="360360"/>
          </a:xfrm>
          <a:custGeom>
            <a:avLst/>
            <a:gdLst/>
            <a:ahLst/>
            <a:rect l="l" t="t" r="r" b="b"/>
            <a:pathLst>
              <a:path w="45" h="227">
                <a:moveTo>
                  <a:pt x="0" y="0"/>
                </a:moveTo>
                <a:cubicBezTo>
                  <a:pt x="22" y="71"/>
                  <a:pt x="45" y="143"/>
                  <a:pt x="45" y="181"/>
                </a:cubicBezTo>
                <a:cubicBezTo>
                  <a:pt x="45" y="219"/>
                  <a:pt x="22" y="223"/>
                  <a:pt x="0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8"/>
          <p:cNvSpPr/>
          <p:nvPr/>
        </p:nvSpPr>
        <p:spPr>
          <a:xfrm>
            <a:off x="6721560" y="765000"/>
            <a:ext cx="82440" cy="287640"/>
          </a:xfrm>
          <a:custGeom>
            <a:avLst/>
            <a:gdLst/>
            <a:ahLst/>
            <a:rect l="l" t="t" r="r" b="b"/>
            <a:pathLst>
              <a:path w="52" h="181">
                <a:moveTo>
                  <a:pt x="7" y="0"/>
                </a:moveTo>
                <a:cubicBezTo>
                  <a:pt x="3" y="30"/>
                  <a:pt x="0" y="60"/>
                  <a:pt x="7" y="90"/>
                </a:cubicBezTo>
                <a:cubicBezTo>
                  <a:pt x="14" y="120"/>
                  <a:pt x="33" y="150"/>
                  <a:pt x="52" y="1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9"/>
          <p:cNvSpPr/>
          <p:nvPr/>
        </p:nvSpPr>
        <p:spPr>
          <a:xfrm>
            <a:off x="7164360" y="549360"/>
            <a:ext cx="82440" cy="431640"/>
          </a:xfrm>
          <a:custGeom>
            <a:avLst/>
            <a:gdLst/>
            <a:ahLst/>
            <a:rect l="l" t="t" r="r" b="b"/>
            <a:pathLst>
              <a:path w="52" h="272">
                <a:moveTo>
                  <a:pt x="0" y="0"/>
                </a:moveTo>
                <a:cubicBezTo>
                  <a:pt x="19" y="45"/>
                  <a:pt x="38" y="91"/>
                  <a:pt x="45" y="136"/>
                </a:cubicBezTo>
                <a:cubicBezTo>
                  <a:pt x="52" y="181"/>
                  <a:pt x="48" y="226"/>
                  <a:pt x="45" y="2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0"/>
          <p:cNvSpPr/>
          <p:nvPr/>
        </p:nvSpPr>
        <p:spPr>
          <a:xfrm>
            <a:off x="5904000" y="1143000"/>
            <a:ext cx="1025280" cy="2357280"/>
          </a:xfrm>
          <a:custGeom>
            <a:avLst/>
            <a:gdLst/>
            <a:ahLst/>
            <a:rect l="l" t="t" r="r" b="b"/>
            <a:pathLst>
              <a:path w="646" h="1485">
                <a:moveTo>
                  <a:pt x="646" y="0"/>
                </a:moveTo>
                <a:cubicBezTo>
                  <a:pt x="624" y="19"/>
                  <a:pt x="558" y="82"/>
                  <a:pt x="522" y="125"/>
                </a:cubicBezTo>
                <a:cubicBezTo>
                  <a:pt x="486" y="168"/>
                  <a:pt x="454" y="208"/>
                  <a:pt x="431" y="261"/>
                </a:cubicBezTo>
                <a:cubicBezTo>
                  <a:pt x="408" y="314"/>
                  <a:pt x="409" y="374"/>
                  <a:pt x="386" y="442"/>
                </a:cubicBezTo>
                <a:cubicBezTo>
                  <a:pt x="363" y="510"/>
                  <a:pt x="333" y="578"/>
                  <a:pt x="295" y="669"/>
                </a:cubicBezTo>
                <a:cubicBezTo>
                  <a:pt x="257" y="760"/>
                  <a:pt x="191" y="895"/>
                  <a:pt x="159" y="986"/>
                </a:cubicBezTo>
                <a:cubicBezTo>
                  <a:pt x="127" y="1077"/>
                  <a:pt x="121" y="1162"/>
                  <a:pt x="106" y="1215"/>
                </a:cubicBezTo>
                <a:cubicBezTo>
                  <a:pt x="91" y="1268"/>
                  <a:pt x="85" y="1272"/>
                  <a:pt x="68" y="1304"/>
                </a:cubicBezTo>
                <a:cubicBezTo>
                  <a:pt x="51" y="1336"/>
                  <a:pt x="14" y="1374"/>
                  <a:pt x="7" y="1404"/>
                </a:cubicBezTo>
                <a:cubicBezTo>
                  <a:pt x="0" y="1434"/>
                  <a:pt x="20" y="1468"/>
                  <a:pt x="23" y="148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1"/>
          <p:cNvSpPr/>
          <p:nvPr/>
        </p:nvSpPr>
        <p:spPr>
          <a:xfrm>
            <a:off x="6012000" y="1773360"/>
            <a:ext cx="865080" cy="1800000"/>
          </a:xfrm>
          <a:custGeom>
            <a:avLst/>
            <a:gdLst/>
            <a:ahLst/>
            <a:rect l="l" t="t" r="r" b="b"/>
            <a:pathLst>
              <a:path w="545" h="1134">
                <a:moveTo>
                  <a:pt x="545" y="0"/>
                </a:moveTo>
                <a:cubicBezTo>
                  <a:pt x="514" y="83"/>
                  <a:pt x="480" y="166"/>
                  <a:pt x="454" y="227"/>
                </a:cubicBezTo>
                <a:cubicBezTo>
                  <a:pt x="428" y="288"/>
                  <a:pt x="412" y="315"/>
                  <a:pt x="389" y="368"/>
                </a:cubicBezTo>
                <a:cubicBezTo>
                  <a:pt x="366" y="421"/>
                  <a:pt x="336" y="498"/>
                  <a:pt x="318" y="544"/>
                </a:cubicBezTo>
                <a:cubicBezTo>
                  <a:pt x="300" y="590"/>
                  <a:pt x="304" y="602"/>
                  <a:pt x="281" y="647"/>
                </a:cubicBezTo>
                <a:cubicBezTo>
                  <a:pt x="258" y="692"/>
                  <a:pt x="203" y="777"/>
                  <a:pt x="182" y="816"/>
                </a:cubicBezTo>
                <a:cubicBezTo>
                  <a:pt x="161" y="855"/>
                  <a:pt x="163" y="851"/>
                  <a:pt x="155" y="881"/>
                </a:cubicBezTo>
                <a:cubicBezTo>
                  <a:pt x="147" y="911"/>
                  <a:pt x="147" y="964"/>
                  <a:pt x="136" y="998"/>
                </a:cubicBezTo>
                <a:cubicBezTo>
                  <a:pt x="125" y="1032"/>
                  <a:pt x="106" y="1065"/>
                  <a:pt x="91" y="1088"/>
                </a:cubicBezTo>
                <a:cubicBezTo>
                  <a:pt x="76" y="1111"/>
                  <a:pt x="61" y="1134"/>
                  <a:pt x="46" y="1134"/>
                </a:cubicBezTo>
                <a:cubicBezTo>
                  <a:pt x="31" y="1134"/>
                  <a:pt x="15" y="1096"/>
                  <a:pt x="0" y="108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2"/>
          <p:cNvSpPr/>
          <p:nvPr/>
        </p:nvSpPr>
        <p:spPr>
          <a:xfrm>
            <a:off x="7236000" y="-14400"/>
            <a:ext cx="1865160" cy="995400"/>
          </a:xfrm>
          <a:custGeom>
            <a:avLst/>
            <a:gdLst/>
            <a:ahLst/>
            <a:rect l="l" t="t" r="r" b="b"/>
            <a:pathLst>
              <a:path w="1175" h="627">
                <a:moveTo>
                  <a:pt x="0" y="627"/>
                </a:moveTo>
                <a:cubicBezTo>
                  <a:pt x="61" y="611"/>
                  <a:pt x="122" y="596"/>
                  <a:pt x="182" y="581"/>
                </a:cubicBezTo>
                <a:cubicBezTo>
                  <a:pt x="242" y="566"/>
                  <a:pt x="302" y="559"/>
                  <a:pt x="363" y="536"/>
                </a:cubicBezTo>
                <a:cubicBezTo>
                  <a:pt x="424" y="513"/>
                  <a:pt x="492" y="475"/>
                  <a:pt x="545" y="445"/>
                </a:cubicBezTo>
                <a:cubicBezTo>
                  <a:pt x="598" y="415"/>
                  <a:pt x="613" y="393"/>
                  <a:pt x="681" y="355"/>
                </a:cubicBezTo>
                <a:cubicBezTo>
                  <a:pt x="749" y="317"/>
                  <a:pt x="885" y="249"/>
                  <a:pt x="953" y="219"/>
                </a:cubicBezTo>
                <a:cubicBezTo>
                  <a:pt x="1021" y="189"/>
                  <a:pt x="1052" y="209"/>
                  <a:pt x="1089" y="173"/>
                </a:cubicBezTo>
                <a:cubicBezTo>
                  <a:pt x="1126" y="137"/>
                  <a:pt x="1157" y="36"/>
                  <a:pt x="1175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3"/>
          <p:cNvSpPr/>
          <p:nvPr/>
        </p:nvSpPr>
        <p:spPr>
          <a:xfrm>
            <a:off x="9109080" y="-27000"/>
            <a:ext cx="228600" cy="287280"/>
          </a:xfrm>
          <a:custGeom>
            <a:avLst/>
            <a:gdLst/>
            <a:ahLst/>
            <a:rect l="l" t="t" r="r" b="b"/>
            <a:pathLst>
              <a:path w="144" h="181">
                <a:moveTo>
                  <a:pt x="0" y="0"/>
                </a:moveTo>
                <a:cubicBezTo>
                  <a:pt x="14" y="1"/>
                  <a:pt x="62" y="1"/>
                  <a:pt x="85" y="8"/>
                </a:cubicBezTo>
                <a:cubicBezTo>
                  <a:pt x="108" y="15"/>
                  <a:pt x="128" y="24"/>
                  <a:pt x="136" y="45"/>
                </a:cubicBezTo>
                <a:cubicBezTo>
                  <a:pt x="144" y="66"/>
                  <a:pt x="144" y="113"/>
                  <a:pt x="136" y="136"/>
                </a:cubicBezTo>
                <a:cubicBezTo>
                  <a:pt x="128" y="159"/>
                  <a:pt x="98" y="174"/>
                  <a:pt x="90" y="1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4"/>
          <p:cNvSpPr/>
          <p:nvPr/>
        </p:nvSpPr>
        <p:spPr>
          <a:xfrm>
            <a:off x="7667640" y="260280"/>
            <a:ext cx="1584360" cy="1152720"/>
          </a:xfrm>
          <a:custGeom>
            <a:avLst/>
            <a:gdLst/>
            <a:ahLst/>
            <a:rect l="l" t="t" r="r" b="b"/>
            <a:pathLst>
              <a:path w="998" h="726">
                <a:moveTo>
                  <a:pt x="998" y="0"/>
                </a:moveTo>
                <a:cubicBezTo>
                  <a:pt x="952" y="26"/>
                  <a:pt x="907" y="53"/>
                  <a:pt x="862" y="91"/>
                </a:cubicBezTo>
                <a:cubicBezTo>
                  <a:pt x="817" y="129"/>
                  <a:pt x="786" y="182"/>
                  <a:pt x="726" y="227"/>
                </a:cubicBezTo>
                <a:cubicBezTo>
                  <a:pt x="666" y="272"/>
                  <a:pt x="559" y="325"/>
                  <a:pt x="499" y="363"/>
                </a:cubicBezTo>
                <a:cubicBezTo>
                  <a:pt x="439" y="401"/>
                  <a:pt x="411" y="426"/>
                  <a:pt x="363" y="454"/>
                </a:cubicBezTo>
                <a:cubicBezTo>
                  <a:pt x="315" y="482"/>
                  <a:pt x="270" y="484"/>
                  <a:pt x="210" y="529"/>
                </a:cubicBezTo>
                <a:cubicBezTo>
                  <a:pt x="150" y="574"/>
                  <a:pt x="44" y="685"/>
                  <a:pt x="0" y="72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5"/>
          <p:cNvSpPr/>
          <p:nvPr/>
        </p:nvSpPr>
        <p:spPr>
          <a:xfrm>
            <a:off x="7667640" y="1413000"/>
            <a:ext cx="376200" cy="1368360"/>
          </a:xfrm>
          <a:custGeom>
            <a:avLst/>
            <a:gdLst/>
            <a:ahLst/>
            <a:rect l="l" t="t" r="r" b="b"/>
            <a:pathLst>
              <a:path w="237" h="862">
                <a:moveTo>
                  <a:pt x="0" y="0"/>
                </a:moveTo>
                <a:cubicBezTo>
                  <a:pt x="30" y="136"/>
                  <a:pt x="64" y="265"/>
                  <a:pt x="91" y="363"/>
                </a:cubicBezTo>
                <a:cubicBezTo>
                  <a:pt x="118" y="461"/>
                  <a:pt x="142" y="518"/>
                  <a:pt x="165" y="586"/>
                </a:cubicBezTo>
                <a:cubicBezTo>
                  <a:pt x="188" y="654"/>
                  <a:pt x="217" y="725"/>
                  <a:pt x="227" y="771"/>
                </a:cubicBezTo>
                <a:cubicBezTo>
                  <a:pt x="237" y="817"/>
                  <a:pt x="230" y="843"/>
                  <a:pt x="227" y="86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6"/>
          <p:cNvSpPr/>
          <p:nvPr/>
        </p:nvSpPr>
        <p:spPr>
          <a:xfrm>
            <a:off x="7451640" y="2800440"/>
            <a:ext cx="592200" cy="100080"/>
          </a:xfrm>
          <a:custGeom>
            <a:avLst/>
            <a:gdLst/>
            <a:ahLst/>
            <a:rect l="l" t="t" r="r" b="b"/>
            <a:pathLst>
              <a:path w="373" h="63">
                <a:moveTo>
                  <a:pt x="373" y="0"/>
                </a:moveTo>
                <a:cubicBezTo>
                  <a:pt x="355" y="4"/>
                  <a:pt x="310" y="23"/>
                  <a:pt x="273" y="33"/>
                </a:cubicBezTo>
                <a:cubicBezTo>
                  <a:pt x="236" y="43"/>
                  <a:pt x="193" y="63"/>
                  <a:pt x="148" y="63"/>
                </a:cubicBezTo>
                <a:cubicBezTo>
                  <a:pt x="103" y="63"/>
                  <a:pt x="31" y="39"/>
                  <a:pt x="0" y="3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7"/>
          <p:cNvSpPr/>
          <p:nvPr/>
        </p:nvSpPr>
        <p:spPr>
          <a:xfrm>
            <a:off x="6958080" y="2924280"/>
            <a:ext cx="350640" cy="433440"/>
          </a:xfrm>
          <a:custGeom>
            <a:avLst/>
            <a:gdLst/>
            <a:ahLst/>
            <a:rect l="l" t="t" r="r" b="b"/>
            <a:pathLst>
              <a:path w="221" h="273">
                <a:moveTo>
                  <a:pt x="221" y="0"/>
                </a:moveTo>
                <a:cubicBezTo>
                  <a:pt x="187" y="30"/>
                  <a:pt x="150" y="58"/>
                  <a:pt x="130" y="91"/>
                </a:cubicBezTo>
                <a:cubicBezTo>
                  <a:pt x="110" y="124"/>
                  <a:pt x="121" y="171"/>
                  <a:pt x="99" y="201"/>
                </a:cubicBezTo>
                <a:cubicBezTo>
                  <a:pt x="77" y="231"/>
                  <a:pt x="21" y="258"/>
                  <a:pt x="0" y="27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8"/>
          <p:cNvSpPr/>
          <p:nvPr/>
        </p:nvSpPr>
        <p:spPr>
          <a:xfrm>
            <a:off x="6877080" y="1844640"/>
            <a:ext cx="9360" cy="241200"/>
          </a:xfrm>
          <a:custGeom>
            <a:avLst/>
            <a:gdLst/>
            <a:ahLst/>
            <a:rect l="l" t="t" r="r" b="b"/>
            <a:pathLst>
              <a:path w="6" h="152">
                <a:moveTo>
                  <a:pt x="0" y="0"/>
                </a:moveTo>
                <a:cubicBezTo>
                  <a:pt x="1" y="25"/>
                  <a:pt x="5" y="120"/>
                  <a:pt x="6" y="15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29"/>
          <p:cNvSpPr/>
          <p:nvPr/>
        </p:nvSpPr>
        <p:spPr>
          <a:xfrm>
            <a:off x="6864480" y="2492280"/>
            <a:ext cx="98280" cy="865440"/>
          </a:xfrm>
          <a:custGeom>
            <a:avLst/>
            <a:gdLst/>
            <a:ahLst/>
            <a:rect l="l" t="t" r="r" b="b"/>
            <a:pathLst>
              <a:path w="62" h="545">
                <a:moveTo>
                  <a:pt x="8" y="0"/>
                </a:moveTo>
                <a:cubicBezTo>
                  <a:pt x="4" y="83"/>
                  <a:pt x="0" y="166"/>
                  <a:pt x="8" y="227"/>
                </a:cubicBezTo>
                <a:cubicBezTo>
                  <a:pt x="16" y="288"/>
                  <a:pt x="44" y="310"/>
                  <a:pt x="53" y="363"/>
                </a:cubicBezTo>
                <a:cubicBezTo>
                  <a:pt x="62" y="416"/>
                  <a:pt x="58" y="507"/>
                  <a:pt x="59" y="5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0"/>
          <p:cNvSpPr/>
          <p:nvPr/>
        </p:nvSpPr>
        <p:spPr>
          <a:xfrm>
            <a:off x="7020000" y="3284640"/>
            <a:ext cx="330120" cy="2287440"/>
          </a:xfrm>
          <a:custGeom>
            <a:avLst/>
            <a:gdLst/>
            <a:ahLst/>
            <a:rect l="l" t="t" r="r" b="b"/>
            <a:pathLst>
              <a:path w="208" h="1441">
                <a:moveTo>
                  <a:pt x="0" y="0"/>
                </a:moveTo>
                <a:cubicBezTo>
                  <a:pt x="8" y="23"/>
                  <a:pt x="16" y="46"/>
                  <a:pt x="46" y="227"/>
                </a:cubicBezTo>
                <a:cubicBezTo>
                  <a:pt x="76" y="408"/>
                  <a:pt x="156" y="915"/>
                  <a:pt x="182" y="1089"/>
                </a:cubicBezTo>
                <a:cubicBezTo>
                  <a:pt x="208" y="1263"/>
                  <a:pt x="200" y="1211"/>
                  <a:pt x="204" y="1270"/>
                </a:cubicBezTo>
                <a:cubicBezTo>
                  <a:pt x="208" y="1329"/>
                  <a:pt x="204" y="1406"/>
                  <a:pt x="204" y="144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31"/>
          <p:cNvSpPr/>
          <p:nvPr/>
        </p:nvSpPr>
        <p:spPr>
          <a:xfrm>
            <a:off x="7885080" y="2852640"/>
            <a:ext cx="1235160" cy="2305080"/>
          </a:xfrm>
          <a:custGeom>
            <a:avLst/>
            <a:gdLst/>
            <a:ahLst/>
            <a:rect l="l" t="t" r="r" b="b"/>
            <a:pathLst>
              <a:path w="778" h="1452">
                <a:moveTo>
                  <a:pt x="0" y="0"/>
                </a:moveTo>
                <a:cubicBezTo>
                  <a:pt x="11" y="98"/>
                  <a:pt x="25" y="194"/>
                  <a:pt x="45" y="272"/>
                </a:cubicBezTo>
                <a:cubicBezTo>
                  <a:pt x="65" y="350"/>
                  <a:pt x="95" y="403"/>
                  <a:pt x="118" y="471"/>
                </a:cubicBezTo>
                <a:cubicBezTo>
                  <a:pt x="141" y="539"/>
                  <a:pt x="125" y="601"/>
                  <a:pt x="181" y="681"/>
                </a:cubicBezTo>
                <a:cubicBezTo>
                  <a:pt x="237" y="761"/>
                  <a:pt x="362" y="847"/>
                  <a:pt x="453" y="953"/>
                </a:cubicBezTo>
                <a:cubicBezTo>
                  <a:pt x="544" y="1059"/>
                  <a:pt x="672" y="1233"/>
                  <a:pt x="725" y="1316"/>
                </a:cubicBezTo>
                <a:cubicBezTo>
                  <a:pt x="778" y="1399"/>
                  <a:pt x="763" y="1422"/>
                  <a:pt x="771" y="145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32"/>
          <p:cNvSpPr/>
          <p:nvPr/>
        </p:nvSpPr>
        <p:spPr>
          <a:xfrm>
            <a:off x="7650000" y="3141720"/>
            <a:ext cx="168480" cy="2592360"/>
          </a:xfrm>
          <a:custGeom>
            <a:avLst/>
            <a:gdLst/>
            <a:ahLst/>
            <a:rect l="l" t="t" r="r" b="b"/>
            <a:pathLst>
              <a:path w="106" h="1633">
                <a:moveTo>
                  <a:pt x="11" y="0"/>
                </a:moveTo>
                <a:cubicBezTo>
                  <a:pt x="11" y="75"/>
                  <a:pt x="11" y="151"/>
                  <a:pt x="11" y="272"/>
                </a:cubicBezTo>
                <a:cubicBezTo>
                  <a:pt x="11" y="393"/>
                  <a:pt x="0" y="614"/>
                  <a:pt x="11" y="725"/>
                </a:cubicBezTo>
                <a:cubicBezTo>
                  <a:pt x="22" y="836"/>
                  <a:pt x="62" y="824"/>
                  <a:pt x="77" y="937"/>
                </a:cubicBezTo>
                <a:cubicBezTo>
                  <a:pt x="92" y="1050"/>
                  <a:pt x="98" y="1290"/>
                  <a:pt x="102" y="1406"/>
                </a:cubicBezTo>
                <a:cubicBezTo>
                  <a:pt x="106" y="1522"/>
                  <a:pt x="102" y="1588"/>
                  <a:pt x="102" y="163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33"/>
          <p:cNvSpPr/>
          <p:nvPr/>
        </p:nvSpPr>
        <p:spPr>
          <a:xfrm>
            <a:off x="7667640" y="3716280"/>
            <a:ext cx="1008000" cy="1728720"/>
          </a:xfrm>
          <a:custGeom>
            <a:avLst/>
            <a:gdLst/>
            <a:ahLst/>
            <a:rect l="l" t="t" r="r" b="b"/>
            <a:pathLst>
              <a:path w="635" h="1089">
                <a:moveTo>
                  <a:pt x="0" y="0"/>
                </a:moveTo>
                <a:cubicBezTo>
                  <a:pt x="10" y="25"/>
                  <a:pt x="40" y="109"/>
                  <a:pt x="57" y="152"/>
                </a:cubicBezTo>
                <a:cubicBezTo>
                  <a:pt x="74" y="195"/>
                  <a:pt x="59" y="195"/>
                  <a:pt x="102" y="260"/>
                </a:cubicBezTo>
                <a:cubicBezTo>
                  <a:pt x="145" y="325"/>
                  <a:pt x="252" y="467"/>
                  <a:pt x="318" y="545"/>
                </a:cubicBezTo>
                <a:cubicBezTo>
                  <a:pt x="384" y="623"/>
                  <a:pt x="454" y="651"/>
                  <a:pt x="499" y="726"/>
                </a:cubicBezTo>
                <a:cubicBezTo>
                  <a:pt x="544" y="801"/>
                  <a:pt x="567" y="937"/>
                  <a:pt x="590" y="998"/>
                </a:cubicBezTo>
                <a:cubicBezTo>
                  <a:pt x="613" y="1059"/>
                  <a:pt x="624" y="1074"/>
                  <a:pt x="635" y="108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34"/>
          <p:cNvSpPr/>
          <p:nvPr/>
        </p:nvSpPr>
        <p:spPr>
          <a:xfrm>
            <a:off x="8672400" y="5229360"/>
            <a:ext cx="436680" cy="214200"/>
          </a:xfrm>
          <a:custGeom>
            <a:avLst/>
            <a:gdLst/>
            <a:ahLst/>
            <a:rect l="l" t="t" r="r" b="b"/>
            <a:pathLst>
              <a:path w="275" h="135">
                <a:moveTo>
                  <a:pt x="275" y="0"/>
                </a:moveTo>
                <a:cubicBezTo>
                  <a:pt x="263" y="15"/>
                  <a:pt x="252" y="30"/>
                  <a:pt x="229" y="45"/>
                </a:cubicBezTo>
                <a:cubicBezTo>
                  <a:pt x="206" y="60"/>
                  <a:pt x="177" y="76"/>
                  <a:pt x="139" y="91"/>
                </a:cubicBezTo>
                <a:cubicBezTo>
                  <a:pt x="101" y="106"/>
                  <a:pt x="29" y="126"/>
                  <a:pt x="0" y="13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5"/>
          <p:cNvSpPr/>
          <p:nvPr/>
        </p:nvSpPr>
        <p:spPr>
          <a:xfrm>
            <a:off x="8486640" y="5243400"/>
            <a:ext cx="600120" cy="285840"/>
          </a:xfrm>
          <a:custGeom>
            <a:avLst/>
            <a:gdLst/>
            <a:ahLst/>
            <a:rect l="l" t="t" r="r" b="b"/>
            <a:pathLst>
              <a:path w="378" h="180">
                <a:moveTo>
                  <a:pt x="378" y="0"/>
                </a:moveTo>
                <a:cubicBezTo>
                  <a:pt x="362" y="19"/>
                  <a:pt x="307" y="90"/>
                  <a:pt x="279" y="117"/>
                </a:cubicBezTo>
                <a:cubicBezTo>
                  <a:pt x="251" y="144"/>
                  <a:pt x="253" y="152"/>
                  <a:pt x="207" y="162"/>
                </a:cubicBezTo>
                <a:cubicBezTo>
                  <a:pt x="161" y="172"/>
                  <a:pt x="43" y="176"/>
                  <a:pt x="0" y="18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36"/>
          <p:cNvSpPr/>
          <p:nvPr/>
        </p:nvSpPr>
        <p:spPr>
          <a:xfrm>
            <a:off x="7308720" y="2924280"/>
            <a:ext cx="142920" cy="73080"/>
          </a:xfrm>
          <a:custGeom>
            <a:avLst/>
            <a:gdLst/>
            <a:ahLst/>
            <a:rect l="l" t="t" r="r" b="b"/>
            <a:pathLst>
              <a:path w="90" h="46">
                <a:moveTo>
                  <a:pt x="0" y="46"/>
                </a:moveTo>
                <a:cubicBezTo>
                  <a:pt x="33" y="27"/>
                  <a:pt x="67" y="8"/>
                  <a:pt x="9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7"/>
          <p:cNvSpPr/>
          <p:nvPr/>
        </p:nvSpPr>
        <p:spPr>
          <a:xfrm>
            <a:off x="7524720" y="2924280"/>
            <a:ext cx="82440" cy="360360"/>
          </a:xfrm>
          <a:custGeom>
            <a:avLst/>
            <a:gdLst/>
            <a:ahLst/>
            <a:rect l="l" t="t" r="r" b="b"/>
            <a:pathLst>
              <a:path w="52" h="227">
                <a:moveTo>
                  <a:pt x="45" y="0"/>
                </a:moveTo>
                <a:cubicBezTo>
                  <a:pt x="48" y="49"/>
                  <a:pt x="52" y="99"/>
                  <a:pt x="45" y="137"/>
                </a:cubicBezTo>
                <a:cubicBezTo>
                  <a:pt x="38" y="175"/>
                  <a:pt x="15" y="212"/>
                  <a:pt x="0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8"/>
          <p:cNvSpPr/>
          <p:nvPr/>
        </p:nvSpPr>
        <p:spPr>
          <a:xfrm>
            <a:off x="7280280" y="2997360"/>
            <a:ext cx="306360" cy="309240"/>
          </a:xfrm>
          <a:custGeom>
            <a:avLst/>
            <a:gdLst/>
            <a:ahLst/>
            <a:rect l="l" t="t" r="r" b="b"/>
            <a:pathLst>
              <a:path w="193" h="195">
                <a:moveTo>
                  <a:pt x="18" y="0"/>
                </a:moveTo>
                <a:cubicBezTo>
                  <a:pt x="16" y="15"/>
                  <a:pt x="0" y="63"/>
                  <a:pt x="4" y="92"/>
                </a:cubicBezTo>
                <a:cubicBezTo>
                  <a:pt x="8" y="121"/>
                  <a:pt x="19" y="157"/>
                  <a:pt x="40" y="173"/>
                </a:cubicBezTo>
                <a:cubicBezTo>
                  <a:pt x="61" y="189"/>
                  <a:pt x="105" y="195"/>
                  <a:pt x="130" y="191"/>
                </a:cubicBezTo>
                <a:cubicBezTo>
                  <a:pt x="155" y="187"/>
                  <a:pt x="180" y="155"/>
                  <a:pt x="193" y="14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39"/>
          <p:cNvSpPr/>
          <p:nvPr/>
        </p:nvSpPr>
        <p:spPr>
          <a:xfrm>
            <a:off x="7704000" y="2852640"/>
            <a:ext cx="252720" cy="289080"/>
          </a:xfrm>
          <a:custGeom>
            <a:avLst/>
            <a:gdLst/>
            <a:ahLst/>
            <a:rect l="l" t="t" r="r" b="b"/>
            <a:pathLst>
              <a:path w="159" h="182">
                <a:moveTo>
                  <a:pt x="23" y="0"/>
                </a:moveTo>
                <a:cubicBezTo>
                  <a:pt x="11" y="53"/>
                  <a:pt x="0" y="106"/>
                  <a:pt x="23" y="136"/>
                </a:cubicBezTo>
                <a:cubicBezTo>
                  <a:pt x="46" y="166"/>
                  <a:pt x="102" y="174"/>
                  <a:pt x="159" y="18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0"/>
          <p:cNvSpPr/>
          <p:nvPr/>
        </p:nvSpPr>
        <p:spPr>
          <a:xfrm>
            <a:off x="7151760" y="5589720"/>
            <a:ext cx="606240" cy="220680"/>
          </a:xfrm>
          <a:custGeom>
            <a:avLst/>
            <a:gdLst/>
            <a:ahLst/>
            <a:rect l="l" t="t" r="r" b="b"/>
            <a:pathLst>
              <a:path w="382" h="139">
                <a:moveTo>
                  <a:pt x="99" y="0"/>
                </a:moveTo>
                <a:cubicBezTo>
                  <a:pt x="57" y="15"/>
                  <a:pt x="16" y="30"/>
                  <a:pt x="8" y="45"/>
                </a:cubicBezTo>
                <a:cubicBezTo>
                  <a:pt x="0" y="60"/>
                  <a:pt x="27" y="79"/>
                  <a:pt x="53" y="91"/>
                </a:cubicBezTo>
                <a:cubicBezTo>
                  <a:pt x="79" y="103"/>
                  <a:pt x="136" y="108"/>
                  <a:pt x="166" y="115"/>
                </a:cubicBezTo>
                <a:cubicBezTo>
                  <a:pt x="196" y="122"/>
                  <a:pt x="199" y="139"/>
                  <a:pt x="235" y="136"/>
                </a:cubicBezTo>
                <a:cubicBezTo>
                  <a:pt x="271" y="133"/>
                  <a:pt x="352" y="105"/>
                  <a:pt x="382" y="9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1"/>
          <p:cNvSpPr/>
          <p:nvPr/>
        </p:nvSpPr>
        <p:spPr>
          <a:xfrm>
            <a:off x="5843520" y="1000080"/>
            <a:ext cx="457200" cy="1204920"/>
          </a:xfrm>
          <a:custGeom>
            <a:avLst/>
            <a:gdLst/>
            <a:ahLst/>
            <a:rect l="l" t="t" r="r" b="b"/>
            <a:pathLst>
              <a:path w="288" h="759">
                <a:moveTo>
                  <a:pt x="261" y="0"/>
                </a:moveTo>
                <a:cubicBezTo>
                  <a:pt x="239" y="9"/>
                  <a:pt x="150" y="33"/>
                  <a:pt x="117" y="54"/>
                </a:cubicBezTo>
                <a:cubicBezTo>
                  <a:pt x="84" y="75"/>
                  <a:pt x="78" y="97"/>
                  <a:pt x="61" y="124"/>
                </a:cubicBezTo>
                <a:cubicBezTo>
                  <a:pt x="44" y="151"/>
                  <a:pt x="23" y="185"/>
                  <a:pt x="15" y="215"/>
                </a:cubicBezTo>
                <a:cubicBezTo>
                  <a:pt x="7" y="245"/>
                  <a:pt x="15" y="275"/>
                  <a:pt x="15" y="305"/>
                </a:cubicBezTo>
                <a:cubicBezTo>
                  <a:pt x="15" y="335"/>
                  <a:pt x="0" y="358"/>
                  <a:pt x="15" y="396"/>
                </a:cubicBezTo>
                <a:cubicBezTo>
                  <a:pt x="30" y="434"/>
                  <a:pt x="83" y="494"/>
                  <a:pt x="106" y="532"/>
                </a:cubicBezTo>
                <a:cubicBezTo>
                  <a:pt x="129" y="570"/>
                  <a:pt x="129" y="600"/>
                  <a:pt x="152" y="623"/>
                </a:cubicBezTo>
                <a:cubicBezTo>
                  <a:pt x="175" y="646"/>
                  <a:pt x="219" y="645"/>
                  <a:pt x="242" y="668"/>
                </a:cubicBezTo>
                <a:cubicBezTo>
                  <a:pt x="265" y="691"/>
                  <a:pt x="273" y="744"/>
                  <a:pt x="288" y="75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2"/>
          <p:cNvSpPr/>
          <p:nvPr/>
        </p:nvSpPr>
        <p:spPr>
          <a:xfrm>
            <a:off x="6272280" y="1000080"/>
            <a:ext cx="387360" cy="341280"/>
          </a:xfrm>
          <a:custGeom>
            <a:avLst/>
            <a:gdLst/>
            <a:ahLst/>
            <a:rect l="l" t="t" r="r" b="b"/>
            <a:pathLst>
              <a:path w="244" h="215">
                <a:moveTo>
                  <a:pt x="0" y="0"/>
                </a:moveTo>
                <a:cubicBezTo>
                  <a:pt x="16" y="4"/>
                  <a:pt x="82" y="12"/>
                  <a:pt x="108" y="33"/>
                </a:cubicBezTo>
                <a:cubicBezTo>
                  <a:pt x="134" y="54"/>
                  <a:pt x="139" y="101"/>
                  <a:pt x="154" y="124"/>
                </a:cubicBezTo>
                <a:cubicBezTo>
                  <a:pt x="169" y="147"/>
                  <a:pt x="184" y="154"/>
                  <a:pt x="199" y="169"/>
                </a:cubicBezTo>
                <a:cubicBezTo>
                  <a:pt x="214" y="184"/>
                  <a:pt x="229" y="199"/>
                  <a:pt x="244" y="21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3"/>
          <p:cNvSpPr/>
          <p:nvPr/>
        </p:nvSpPr>
        <p:spPr>
          <a:xfrm>
            <a:off x="4572000" y="1844640"/>
            <a:ext cx="144000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907" y="0"/>
                </a:moveTo>
                <a:cubicBezTo>
                  <a:pt x="865" y="30"/>
                  <a:pt x="824" y="61"/>
                  <a:pt x="771" y="91"/>
                </a:cubicBezTo>
                <a:cubicBezTo>
                  <a:pt x="718" y="121"/>
                  <a:pt x="650" y="159"/>
                  <a:pt x="590" y="182"/>
                </a:cubicBezTo>
                <a:cubicBezTo>
                  <a:pt x="530" y="205"/>
                  <a:pt x="478" y="219"/>
                  <a:pt x="408" y="227"/>
                </a:cubicBezTo>
                <a:cubicBezTo>
                  <a:pt x="338" y="235"/>
                  <a:pt x="239" y="233"/>
                  <a:pt x="171" y="233"/>
                </a:cubicBezTo>
                <a:cubicBezTo>
                  <a:pt x="103" y="233"/>
                  <a:pt x="36" y="228"/>
                  <a:pt x="0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4"/>
          <p:cNvSpPr/>
          <p:nvPr/>
        </p:nvSpPr>
        <p:spPr>
          <a:xfrm>
            <a:off x="4500720" y="2205000"/>
            <a:ext cx="1511280" cy="298440"/>
          </a:xfrm>
          <a:custGeom>
            <a:avLst/>
            <a:gdLst/>
            <a:ahLst/>
            <a:rect l="l" t="t" r="r" b="b"/>
            <a:pathLst>
              <a:path w="952" h="188">
                <a:moveTo>
                  <a:pt x="952" y="0"/>
                </a:moveTo>
                <a:cubicBezTo>
                  <a:pt x="880" y="34"/>
                  <a:pt x="809" y="68"/>
                  <a:pt x="771" y="91"/>
                </a:cubicBezTo>
                <a:cubicBezTo>
                  <a:pt x="733" y="114"/>
                  <a:pt x="748" y="129"/>
                  <a:pt x="725" y="136"/>
                </a:cubicBezTo>
                <a:cubicBezTo>
                  <a:pt x="702" y="143"/>
                  <a:pt x="665" y="136"/>
                  <a:pt x="635" y="136"/>
                </a:cubicBezTo>
                <a:cubicBezTo>
                  <a:pt x="605" y="136"/>
                  <a:pt x="579" y="131"/>
                  <a:pt x="544" y="136"/>
                </a:cubicBezTo>
                <a:cubicBezTo>
                  <a:pt x="509" y="141"/>
                  <a:pt x="453" y="161"/>
                  <a:pt x="423" y="168"/>
                </a:cubicBezTo>
                <a:cubicBezTo>
                  <a:pt x="393" y="175"/>
                  <a:pt x="403" y="179"/>
                  <a:pt x="363" y="181"/>
                </a:cubicBezTo>
                <a:cubicBezTo>
                  <a:pt x="323" y="183"/>
                  <a:pt x="241" y="181"/>
                  <a:pt x="181" y="181"/>
                </a:cubicBezTo>
                <a:cubicBezTo>
                  <a:pt x="121" y="181"/>
                  <a:pt x="30" y="188"/>
                  <a:pt x="0" y="1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45"/>
          <p:cNvSpPr/>
          <p:nvPr/>
        </p:nvSpPr>
        <p:spPr>
          <a:xfrm>
            <a:off x="4491000" y="2185920"/>
            <a:ext cx="66600" cy="306360"/>
          </a:xfrm>
          <a:custGeom>
            <a:avLst/>
            <a:gdLst/>
            <a:ahLst/>
            <a:rect l="l" t="t" r="r" b="b"/>
            <a:pathLst>
              <a:path w="42" h="193">
                <a:moveTo>
                  <a:pt x="42" y="0"/>
                </a:moveTo>
                <a:cubicBezTo>
                  <a:pt x="36" y="19"/>
                  <a:pt x="12" y="71"/>
                  <a:pt x="6" y="103"/>
                </a:cubicBezTo>
                <a:cubicBezTo>
                  <a:pt x="0" y="135"/>
                  <a:pt x="2" y="167"/>
                  <a:pt x="6" y="19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46"/>
          <p:cNvSpPr/>
          <p:nvPr/>
        </p:nvSpPr>
        <p:spPr>
          <a:xfrm>
            <a:off x="6804000" y="1916280"/>
            <a:ext cx="720720" cy="1008000"/>
          </a:xfrm>
          <a:custGeom>
            <a:avLst/>
            <a:gdLst/>
            <a:ahLst/>
            <a:rect l="l" t="t" r="r" b="b"/>
            <a:pathLst>
              <a:path w="454" h="635">
                <a:moveTo>
                  <a:pt x="0" y="0"/>
                </a:moveTo>
                <a:cubicBezTo>
                  <a:pt x="45" y="79"/>
                  <a:pt x="91" y="159"/>
                  <a:pt x="136" y="227"/>
                </a:cubicBezTo>
                <a:cubicBezTo>
                  <a:pt x="181" y="295"/>
                  <a:pt x="227" y="356"/>
                  <a:pt x="272" y="409"/>
                </a:cubicBezTo>
                <a:cubicBezTo>
                  <a:pt x="317" y="462"/>
                  <a:pt x="378" y="508"/>
                  <a:pt x="408" y="545"/>
                </a:cubicBezTo>
                <a:cubicBezTo>
                  <a:pt x="438" y="582"/>
                  <a:pt x="446" y="608"/>
                  <a:pt x="454" y="63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47"/>
          <p:cNvSpPr/>
          <p:nvPr/>
        </p:nvSpPr>
        <p:spPr>
          <a:xfrm>
            <a:off x="6659640" y="2349360"/>
            <a:ext cx="576360" cy="574920"/>
          </a:xfrm>
          <a:custGeom>
            <a:avLst/>
            <a:gdLst/>
            <a:ahLst/>
            <a:rect l="l" t="t" r="r" b="b"/>
            <a:pathLst>
              <a:path w="363" h="362">
                <a:moveTo>
                  <a:pt x="0" y="0"/>
                </a:moveTo>
                <a:cubicBezTo>
                  <a:pt x="49" y="26"/>
                  <a:pt x="99" y="52"/>
                  <a:pt x="137" y="90"/>
                </a:cubicBezTo>
                <a:cubicBezTo>
                  <a:pt x="175" y="128"/>
                  <a:pt x="189" y="181"/>
                  <a:pt x="227" y="226"/>
                </a:cubicBezTo>
                <a:cubicBezTo>
                  <a:pt x="265" y="271"/>
                  <a:pt x="314" y="316"/>
                  <a:pt x="363" y="36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48"/>
          <p:cNvSpPr/>
          <p:nvPr/>
        </p:nvSpPr>
        <p:spPr>
          <a:xfrm>
            <a:off x="6659640" y="2349360"/>
            <a:ext cx="360360" cy="3167280"/>
          </a:xfrm>
          <a:custGeom>
            <a:avLst/>
            <a:gdLst/>
            <a:ahLst/>
            <a:rect l="l" t="t" r="r" b="b"/>
            <a:pathLst>
              <a:path w="227" h="1995">
                <a:moveTo>
                  <a:pt x="0" y="0"/>
                </a:moveTo>
                <a:cubicBezTo>
                  <a:pt x="23" y="53"/>
                  <a:pt x="40" y="126"/>
                  <a:pt x="46" y="181"/>
                </a:cubicBezTo>
                <a:cubicBezTo>
                  <a:pt x="52" y="236"/>
                  <a:pt x="32" y="279"/>
                  <a:pt x="35" y="329"/>
                </a:cubicBezTo>
                <a:cubicBezTo>
                  <a:pt x="38" y="379"/>
                  <a:pt x="60" y="393"/>
                  <a:pt x="62" y="482"/>
                </a:cubicBezTo>
                <a:cubicBezTo>
                  <a:pt x="64" y="571"/>
                  <a:pt x="34" y="715"/>
                  <a:pt x="46" y="861"/>
                </a:cubicBezTo>
                <a:cubicBezTo>
                  <a:pt x="58" y="1007"/>
                  <a:pt x="122" y="1216"/>
                  <a:pt x="137" y="1360"/>
                </a:cubicBezTo>
                <a:cubicBezTo>
                  <a:pt x="152" y="1504"/>
                  <a:pt x="122" y="1617"/>
                  <a:pt x="137" y="1723"/>
                </a:cubicBezTo>
                <a:cubicBezTo>
                  <a:pt x="152" y="1829"/>
                  <a:pt x="189" y="1912"/>
                  <a:pt x="227" y="199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49"/>
          <p:cNvSpPr/>
          <p:nvPr/>
        </p:nvSpPr>
        <p:spPr>
          <a:xfrm>
            <a:off x="4957920" y="2205000"/>
            <a:ext cx="1006200" cy="3038400"/>
          </a:xfrm>
          <a:custGeom>
            <a:avLst/>
            <a:gdLst/>
            <a:ahLst/>
            <a:rect l="l" t="t" r="r" b="b"/>
            <a:pathLst>
              <a:path w="634" h="1914">
                <a:moveTo>
                  <a:pt x="619" y="0"/>
                </a:moveTo>
                <a:cubicBezTo>
                  <a:pt x="619" y="60"/>
                  <a:pt x="619" y="121"/>
                  <a:pt x="619" y="181"/>
                </a:cubicBezTo>
                <a:cubicBezTo>
                  <a:pt x="619" y="241"/>
                  <a:pt x="634" y="280"/>
                  <a:pt x="619" y="363"/>
                </a:cubicBezTo>
                <a:cubicBezTo>
                  <a:pt x="604" y="446"/>
                  <a:pt x="558" y="574"/>
                  <a:pt x="528" y="680"/>
                </a:cubicBezTo>
                <a:cubicBezTo>
                  <a:pt x="498" y="786"/>
                  <a:pt x="467" y="900"/>
                  <a:pt x="437" y="998"/>
                </a:cubicBezTo>
                <a:cubicBezTo>
                  <a:pt x="407" y="1096"/>
                  <a:pt x="400" y="1142"/>
                  <a:pt x="347" y="1270"/>
                </a:cubicBezTo>
                <a:cubicBezTo>
                  <a:pt x="294" y="1398"/>
                  <a:pt x="178" y="1662"/>
                  <a:pt x="120" y="1769"/>
                </a:cubicBezTo>
                <a:cubicBezTo>
                  <a:pt x="62" y="1876"/>
                  <a:pt x="25" y="1884"/>
                  <a:pt x="0" y="191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50"/>
          <p:cNvSpPr/>
          <p:nvPr/>
        </p:nvSpPr>
        <p:spPr>
          <a:xfrm>
            <a:off x="4943520" y="5243400"/>
            <a:ext cx="2076480" cy="441360"/>
          </a:xfrm>
          <a:custGeom>
            <a:avLst/>
            <a:gdLst/>
            <a:ahLst/>
            <a:rect l="l" t="t" r="r" b="b"/>
            <a:pathLst>
              <a:path w="1308" h="278">
                <a:moveTo>
                  <a:pt x="0" y="0"/>
                </a:moveTo>
                <a:cubicBezTo>
                  <a:pt x="43" y="30"/>
                  <a:pt x="153" y="128"/>
                  <a:pt x="265" y="172"/>
                </a:cubicBezTo>
                <a:cubicBezTo>
                  <a:pt x="377" y="216"/>
                  <a:pt x="560" y="248"/>
                  <a:pt x="673" y="263"/>
                </a:cubicBezTo>
                <a:cubicBezTo>
                  <a:pt x="786" y="278"/>
                  <a:pt x="862" y="270"/>
                  <a:pt x="945" y="263"/>
                </a:cubicBezTo>
                <a:cubicBezTo>
                  <a:pt x="1028" y="256"/>
                  <a:pt x="1112" y="233"/>
                  <a:pt x="1172" y="218"/>
                </a:cubicBezTo>
                <a:cubicBezTo>
                  <a:pt x="1232" y="203"/>
                  <a:pt x="1270" y="187"/>
                  <a:pt x="1308" y="1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51"/>
          <p:cNvSpPr/>
          <p:nvPr/>
        </p:nvSpPr>
        <p:spPr>
          <a:xfrm>
            <a:off x="5886360" y="2986200"/>
            <a:ext cx="198360" cy="11160"/>
          </a:xfrm>
          <a:custGeom>
            <a:avLst/>
            <a:gdLst/>
            <a:ahLst/>
            <a:rect l="l" t="t" r="r" b="b"/>
            <a:pathLst>
              <a:path w="125" h="7">
                <a:moveTo>
                  <a:pt x="0" y="0"/>
                </a:moveTo>
                <a:cubicBezTo>
                  <a:pt x="21" y="0"/>
                  <a:pt x="99" y="6"/>
                  <a:pt x="125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2"/>
          <p:cNvSpPr/>
          <p:nvPr/>
        </p:nvSpPr>
        <p:spPr>
          <a:xfrm>
            <a:off x="6300720" y="3068640"/>
            <a:ext cx="443160" cy="46080"/>
          </a:xfrm>
          <a:custGeom>
            <a:avLst/>
            <a:gdLst/>
            <a:ahLst/>
            <a:rect l="l" t="t" r="r" b="b"/>
            <a:pathLst>
              <a:path w="279" h="29">
                <a:moveTo>
                  <a:pt x="0" y="0"/>
                </a:moveTo>
                <a:cubicBezTo>
                  <a:pt x="25" y="5"/>
                  <a:pt x="107" y="29"/>
                  <a:pt x="153" y="29"/>
                </a:cubicBezTo>
                <a:cubicBezTo>
                  <a:pt x="199" y="29"/>
                  <a:pt x="253" y="8"/>
                  <a:pt x="279" y="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53"/>
          <p:cNvSpPr/>
          <p:nvPr/>
        </p:nvSpPr>
        <p:spPr>
          <a:xfrm>
            <a:off x="5232240" y="5445000"/>
            <a:ext cx="203400" cy="235080"/>
          </a:xfrm>
          <a:custGeom>
            <a:avLst/>
            <a:gdLst/>
            <a:ahLst/>
            <a:rect l="l" t="t" r="r" b="b"/>
            <a:pathLst>
              <a:path w="128" h="148">
                <a:moveTo>
                  <a:pt x="38" y="0"/>
                </a:moveTo>
                <a:cubicBezTo>
                  <a:pt x="33" y="21"/>
                  <a:pt x="0" y="102"/>
                  <a:pt x="7" y="125"/>
                </a:cubicBezTo>
                <a:cubicBezTo>
                  <a:pt x="14" y="148"/>
                  <a:pt x="63" y="142"/>
                  <a:pt x="83" y="136"/>
                </a:cubicBezTo>
                <a:cubicBezTo>
                  <a:pt x="103" y="130"/>
                  <a:pt x="121" y="98"/>
                  <a:pt x="128" y="9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54"/>
          <p:cNvSpPr/>
          <p:nvPr/>
        </p:nvSpPr>
        <p:spPr>
          <a:xfrm>
            <a:off x="6516720" y="5589720"/>
            <a:ext cx="216000" cy="144360"/>
          </a:xfrm>
          <a:custGeom>
            <a:avLst/>
            <a:gdLst/>
            <a:ahLst/>
            <a:rect l="l" t="t" r="r" b="b"/>
            <a:pathLst>
              <a:path w="136" h="91">
                <a:moveTo>
                  <a:pt x="0" y="45"/>
                </a:moveTo>
                <a:cubicBezTo>
                  <a:pt x="15" y="68"/>
                  <a:pt x="30" y="91"/>
                  <a:pt x="45" y="91"/>
                </a:cubicBezTo>
                <a:cubicBezTo>
                  <a:pt x="60" y="91"/>
                  <a:pt x="75" y="60"/>
                  <a:pt x="90" y="45"/>
                </a:cubicBezTo>
                <a:cubicBezTo>
                  <a:pt x="105" y="30"/>
                  <a:pt x="120" y="15"/>
                  <a:pt x="136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5"/>
          <p:cNvSpPr/>
          <p:nvPr/>
        </p:nvSpPr>
        <p:spPr>
          <a:xfrm>
            <a:off x="5435640" y="2060640"/>
            <a:ext cx="649080" cy="1152360"/>
          </a:xfrm>
          <a:custGeom>
            <a:avLst/>
            <a:gdLst/>
            <a:ahLst/>
            <a:rect l="l" t="t" r="r" b="b"/>
            <a:pathLst>
              <a:path w="409" h="726">
                <a:moveTo>
                  <a:pt x="409" y="0"/>
                </a:moveTo>
                <a:cubicBezTo>
                  <a:pt x="401" y="75"/>
                  <a:pt x="393" y="151"/>
                  <a:pt x="363" y="227"/>
                </a:cubicBezTo>
                <a:cubicBezTo>
                  <a:pt x="333" y="303"/>
                  <a:pt x="280" y="378"/>
                  <a:pt x="227" y="454"/>
                </a:cubicBezTo>
                <a:cubicBezTo>
                  <a:pt x="174" y="530"/>
                  <a:pt x="84" y="636"/>
                  <a:pt x="46" y="681"/>
                </a:cubicBezTo>
                <a:cubicBezTo>
                  <a:pt x="8" y="726"/>
                  <a:pt x="8" y="719"/>
                  <a:pt x="0" y="72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56"/>
          <p:cNvSpPr/>
          <p:nvPr/>
        </p:nvSpPr>
        <p:spPr>
          <a:xfrm>
            <a:off x="5580000" y="2133720"/>
            <a:ext cx="647640" cy="1224000"/>
          </a:xfrm>
          <a:custGeom>
            <a:avLst/>
            <a:gdLst/>
            <a:ahLst/>
            <a:rect l="l" t="t" r="r" b="b"/>
            <a:pathLst>
              <a:path w="408" h="771">
                <a:moveTo>
                  <a:pt x="408" y="0"/>
                </a:moveTo>
                <a:cubicBezTo>
                  <a:pt x="397" y="83"/>
                  <a:pt x="386" y="166"/>
                  <a:pt x="363" y="226"/>
                </a:cubicBezTo>
                <a:cubicBezTo>
                  <a:pt x="340" y="286"/>
                  <a:pt x="302" y="309"/>
                  <a:pt x="272" y="362"/>
                </a:cubicBezTo>
                <a:cubicBezTo>
                  <a:pt x="242" y="415"/>
                  <a:pt x="211" y="491"/>
                  <a:pt x="181" y="544"/>
                </a:cubicBezTo>
                <a:cubicBezTo>
                  <a:pt x="151" y="597"/>
                  <a:pt x="121" y="642"/>
                  <a:pt x="91" y="680"/>
                </a:cubicBezTo>
                <a:cubicBezTo>
                  <a:pt x="61" y="718"/>
                  <a:pt x="30" y="744"/>
                  <a:pt x="0" y="77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7"/>
          <p:cNvSpPr/>
          <p:nvPr/>
        </p:nvSpPr>
        <p:spPr>
          <a:xfrm>
            <a:off x="5435640" y="3213000"/>
            <a:ext cx="179280" cy="130320"/>
          </a:xfrm>
          <a:custGeom>
            <a:avLst/>
            <a:gdLst/>
            <a:ahLst/>
            <a:rect l="l" t="t" r="r" b="b"/>
            <a:pathLst>
              <a:path w="113" h="82">
                <a:moveTo>
                  <a:pt x="0" y="0"/>
                </a:moveTo>
                <a:cubicBezTo>
                  <a:pt x="19" y="14"/>
                  <a:pt x="90" y="65"/>
                  <a:pt x="113" y="8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8"/>
          <p:cNvSpPr/>
          <p:nvPr/>
        </p:nvSpPr>
        <p:spPr>
          <a:xfrm>
            <a:off x="5508720" y="3213000"/>
            <a:ext cx="28728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181" y="0"/>
                </a:moveTo>
                <a:cubicBezTo>
                  <a:pt x="168" y="21"/>
                  <a:pt x="133" y="97"/>
                  <a:pt x="103" y="127"/>
                </a:cubicBezTo>
                <a:cubicBezTo>
                  <a:pt x="73" y="157"/>
                  <a:pt x="21" y="170"/>
                  <a:pt x="0" y="1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9"/>
          <p:cNvSpPr/>
          <p:nvPr/>
        </p:nvSpPr>
        <p:spPr>
          <a:xfrm>
            <a:off x="5508720" y="3500280"/>
            <a:ext cx="177840" cy="142920"/>
          </a:xfrm>
          <a:custGeom>
            <a:avLst/>
            <a:gdLst/>
            <a:ahLst/>
            <a:rect l="l" t="t" r="r" b="b"/>
            <a:pathLst>
              <a:path w="112" h="90">
                <a:moveTo>
                  <a:pt x="0" y="0"/>
                </a:moveTo>
                <a:cubicBezTo>
                  <a:pt x="19" y="15"/>
                  <a:pt x="89" y="71"/>
                  <a:pt x="112" y="9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60"/>
          <p:cNvSpPr/>
          <p:nvPr/>
        </p:nvSpPr>
        <p:spPr>
          <a:xfrm>
            <a:off x="4254480" y="2246400"/>
            <a:ext cx="246240" cy="187200"/>
          </a:xfrm>
          <a:custGeom>
            <a:avLst/>
            <a:gdLst/>
            <a:ahLst/>
            <a:rect l="l" t="t" r="r" b="b"/>
            <a:pathLst>
              <a:path w="155" h="118">
                <a:moveTo>
                  <a:pt x="155" y="19"/>
                </a:moveTo>
                <a:cubicBezTo>
                  <a:pt x="134" y="17"/>
                  <a:pt x="54" y="0"/>
                  <a:pt x="29" y="7"/>
                </a:cubicBezTo>
                <a:cubicBezTo>
                  <a:pt x="4" y="14"/>
                  <a:pt x="4" y="44"/>
                  <a:pt x="2" y="61"/>
                </a:cubicBezTo>
                <a:cubicBezTo>
                  <a:pt x="0" y="78"/>
                  <a:pt x="1" y="102"/>
                  <a:pt x="19" y="110"/>
                </a:cubicBezTo>
                <a:cubicBezTo>
                  <a:pt x="37" y="118"/>
                  <a:pt x="75" y="113"/>
                  <a:pt x="109" y="11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1"/>
          <p:cNvSpPr/>
          <p:nvPr/>
        </p:nvSpPr>
        <p:spPr>
          <a:xfrm>
            <a:off x="6084720" y="1197000"/>
            <a:ext cx="142920" cy="576360"/>
          </a:xfrm>
          <a:custGeom>
            <a:avLst/>
            <a:gdLst/>
            <a:ahLst/>
            <a:rect l="l" t="t" r="r" b="b"/>
            <a:pathLst>
              <a:path w="90" h="363">
                <a:moveTo>
                  <a:pt x="45" y="0"/>
                </a:moveTo>
                <a:cubicBezTo>
                  <a:pt x="22" y="49"/>
                  <a:pt x="0" y="98"/>
                  <a:pt x="0" y="136"/>
                </a:cubicBezTo>
                <a:cubicBezTo>
                  <a:pt x="0" y="174"/>
                  <a:pt x="30" y="189"/>
                  <a:pt x="45" y="227"/>
                </a:cubicBezTo>
                <a:cubicBezTo>
                  <a:pt x="60" y="265"/>
                  <a:pt x="83" y="333"/>
                  <a:pt x="90" y="36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2"/>
          <p:cNvSpPr/>
          <p:nvPr/>
        </p:nvSpPr>
        <p:spPr>
          <a:xfrm>
            <a:off x="6227640" y="1125360"/>
            <a:ext cx="168480" cy="863640"/>
          </a:xfrm>
          <a:custGeom>
            <a:avLst/>
            <a:gdLst/>
            <a:ahLst/>
            <a:rect l="l" t="t" r="r" b="b"/>
            <a:pathLst>
              <a:path w="106" h="544">
                <a:moveTo>
                  <a:pt x="0" y="0"/>
                </a:moveTo>
                <a:cubicBezTo>
                  <a:pt x="38" y="68"/>
                  <a:pt x="76" y="136"/>
                  <a:pt x="91" y="181"/>
                </a:cubicBezTo>
                <a:cubicBezTo>
                  <a:pt x="106" y="226"/>
                  <a:pt x="98" y="242"/>
                  <a:pt x="91" y="272"/>
                </a:cubicBezTo>
                <a:cubicBezTo>
                  <a:pt x="84" y="302"/>
                  <a:pt x="46" y="332"/>
                  <a:pt x="46" y="362"/>
                </a:cubicBezTo>
                <a:cubicBezTo>
                  <a:pt x="46" y="392"/>
                  <a:pt x="84" y="423"/>
                  <a:pt x="91" y="453"/>
                </a:cubicBezTo>
                <a:cubicBezTo>
                  <a:pt x="98" y="483"/>
                  <a:pt x="94" y="513"/>
                  <a:pt x="91" y="54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3"/>
          <p:cNvSpPr/>
          <p:nvPr/>
        </p:nvSpPr>
        <p:spPr>
          <a:xfrm>
            <a:off x="5927760" y="1197000"/>
            <a:ext cx="168120" cy="576360"/>
          </a:xfrm>
          <a:custGeom>
            <a:avLst/>
            <a:gdLst/>
            <a:ahLst/>
            <a:rect l="l" t="t" r="r" b="b"/>
            <a:pathLst>
              <a:path w="106" h="363">
                <a:moveTo>
                  <a:pt x="53" y="0"/>
                </a:moveTo>
                <a:cubicBezTo>
                  <a:pt x="26" y="71"/>
                  <a:pt x="0" y="143"/>
                  <a:pt x="8" y="181"/>
                </a:cubicBezTo>
                <a:cubicBezTo>
                  <a:pt x="16" y="219"/>
                  <a:pt x="92" y="204"/>
                  <a:pt x="99" y="227"/>
                </a:cubicBezTo>
                <a:cubicBezTo>
                  <a:pt x="106" y="250"/>
                  <a:pt x="53" y="294"/>
                  <a:pt x="53" y="317"/>
                </a:cubicBezTo>
                <a:cubicBezTo>
                  <a:pt x="53" y="340"/>
                  <a:pt x="91" y="355"/>
                  <a:pt x="99" y="36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64"/>
          <p:cNvSpPr/>
          <p:nvPr/>
        </p:nvSpPr>
        <p:spPr>
          <a:xfrm>
            <a:off x="6348240" y="1052640"/>
            <a:ext cx="192240" cy="792000"/>
          </a:xfrm>
          <a:custGeom>
            <a:avLst/>
            <a:gdLst/>
            <a:ahLst/>
            <a:rect l="l" t="t" r="r" b="b"/>
            <a:pathLst>
              <a:path w="121" h="499">
                <a:moveTo>
                  <a:pt x="15" y="0"/>
                </a:moveTo>
                <a:cubicBezTo>
                  <a:pt x="7" y="30"/>
                  <a:pt x="0" y="61"/>
                  <a:pt x="15" y="91"/>
                </a:cubicBezTo>
                <a:cubicBezTo>
                  <a:pt x="30" y="121"/>
                  <a:pt x="91" y="152"/>
                  <a:pt x="106" y="182"/>
                </a:cubicBezTo>
                <a:cubicBezTo>
                  <a:pt x="121" y="212"/>
                  <a:pt x="114" y="242"/>
                  <a:pt x="106" y="272"/>
                </a:cubicBezTo>
                <a:cubicBezTo>
                  <a:pt x="98" y="302"/>
                  <a:pt x="68" y="325"/>
                  <a:pt x="60" y="363"/>
                </a:cubicBezTo>
                <a:cubicBezTo>
                  <a:pt x="52" y="401"/>
                  <a:pt x="56" y="450"/>
                  <a:pt x="60" y="49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65"/>
          <p:cNvSpPr/>
          <p:nvPr/>
        </p:nvSpPr>
        <p:spPr>
          <a:xfrm>
            <a:off x="6145200" y="1125360"/>
            <a:ext cx="155520" cy="1008360"/>
          </a:xfrm>
          <a:custGeom>
            <a:avLst/>
            <a:gdLst/>
            <a:ahLst/>
            <a:rect l="l" t="t" r="r" b="b"/>
            <a:pathLst>
              <a:path w="98" h="635">
                <a:moveTo>
                  <a:pt x="7" y="0"/>
                </a:moveTo>
                <a:cubicBezTo>
                  <a:pt x="29" y="41"/>
                  <a:pt x="52" y="83"/>
                  <a:pt x="52" y="136"/>
                </a:cubicBezTo>
                <a:cubicBezTo>
                  <a:pt x="52" y="189"/>
                  <a:pt x="14" y="264"/>
                  <a:pt x="7" y="317"/>
                </a:cubicBezTo>
                <a:cubicBezTo>
                  <a:pt x="0" y="370"/>
                  <a:pt x="0" y="415"/>
                  <a:pt x="7" y="453"/>
                </a:cubicBezTo>
                <a:cubicBezTo>
                  <a:pt x="14" y="491"/>
                  <a:pt x="37" y="514"/>
                  <a:pt x="52" y="544"/>
                </a:cubicBezTo>
                <a:cubicBezTo>
                  <a:pt x="67" y="574"/>
                  <a:pt x="82" y="604"/>
                  <a:pt x="98" y="63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66"/>
          <p:cNvSpPr/>
          <p:nvPr/>
        </p:nvSpPr>
        <p:spPr>
          <a:xfrm>
            <a:off x="6948360" y="692280"/>
            <a:ext cx="216000" cy="360360"/>
          </a:xfrm>
          <a:custGeom>
            <a:avLst/>
            <a:gdLst/>
            <a:ahLst/>
            <a:rect l="l" t="t" r="r" b="b"/>
            <a:pathLst>
              <a:path w="136" h="227">
                <a:moveTo>
                  <a:pt x="0" y="0"/>
                </a:moveTo>
                <a:cubicBezTo>
                  <a:pt x="11" y="49"/>
                  <a:pt x="22" y="98"/>
                  <a:pt x="45" y="136"/>
                </a:cubicBezTo>
                <a:cubicBezTo>
                  <a:pt x="68" y="174"/>
                  <a:pt x="121" y="212"/>
                  <a:pt x="136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67"/>
          <p:cNvSpPr/>
          <p:nvPr/>
        </p:nvSpPr>
        <p:spPr>
          <a:xfrm>
            <a:off x="6588000" y="404640"/>
            <a:ext cx="648000" cy="150840"/>
          </a:xfrm>
          <a:custGeom>
            <a:avLst/>
            <a:gdLst/>
            <a:ahLst/>
            <a:rect l="l" t="t" r="r" b="b"/>
            <a:pathLst>
              <a:path w="408" h="95">
                <a:moveTo>
                  <a:pt x="0" y="91"/>
                </a:moveTo>
                <a:cubicBezTo>
                  <a:pt x="49" y="95"/>
                  <a:pt x="93" y="95"/>
                  <a:pt x="136" y="91"/>
                </a:cubicBezTo>
                <a:cubicBezTo>
                  <a:pt x="179" y="87"/>
                  <a:pt x="236" y="74"/>
                  <a:pt x="260" y="69"/>
                </a:cubicBezTo>
                <a:cubicBezTo>
                  <a:pt x="284" y="64"/>
                  <a:pt x="262" y="67"/>
                  <a:pt x="278" y="60"/>
                </a:cubicBezTo>
                <a:cubicBezTo>
                  <a:pt x="294" y="53"/>
                  <a:pt x="337" y="34"/>
                  <a:pt x="359" y="24"/>
                </a:cubicBezTo>
                <a:cubicBezTo>
                  <a:pt x="381" y="14"/>
                  <a:pt x="398" y="5"/>
                  <a:pt x="408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8"/>
          <p:cNvSpPr/>
          <p:nvPr/>
        </p:nvSpPr>
        <p:spPr>
          <a:xfrm>
            <a:off x="34920" y="2637000"/>
            <a:ext cx="5761080" cy="792000"/>
          </a:xfrm>
          <a:custGeom>
            <a:avLst/>
            <a:gdLst/>
            <a:ahLst/>
            <a:rect l="l" t="t" r="r" b="b"/>
            <a:pathLst>
              <a:path w="3629" h="499">
                <a:moveTo>
                  <a:pt x="0" y="408"/>
                </a:moveTo>
                <a:cubicBezTo>
                  <a:pt x="102" y="453"/>
                  <a:pt x="204" y="499"/>
                  <a:pt x="363" y="499"/>
                </a:cubicBezTo>
                <a:cubicBezTo>
                  <a:pt x="522" y="499"/>
                  <a:pt x="658" y="438"/>
                  <a:pt x="953" y="408"/>
                </a:cubicBezTo>
                <a:cubicBezTo>
                  <a:pt x="1248" y="378"/>
                  <a:pt x="1784" y="371"/>
                  <a:pt x="2132" y="318"/>
                </a:cubicBezTo>
                <a:cubicBezTo>
                  <a:pt x="2480" y="265"/>
                  <a:pt x="2820" y="136"/>
                  <a:pt x="3039" y="91"/>
                </a:cubicBezTo>
                <a:cubicBezTo>
                  <a:pt x="3258" y="46"/>
                  <a:pt x="3350" y="60"/>
                  <a:pt x="3448" y="45"/>
                </a:cubicBezTo>
                <a:cubicBezTo>
                  <a:pt x="3546" y="30"/>
                  <a:pt x="3587" y="15"/>
                  <a:pt x="3629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69"/>
          <p:cNvSpPr/>
          <p:nvPr/>
        </p:nvSpPr>
        <p:spPr>
          <a:xfrm>
            <a:off x="7956720" y="2349360"/>
            <a:ext cx="1152360" cy="154080"/>
          </a:xfrm>
          <a:custGeom>
            <a:avLst/>
            <a:gdLst/>
            <a:ahLst/>
            <a:rect l="l" t="t" r="r" b="b"/>
            <a:pathLst>
              <a:path w="726" h="97">
                <a:moveTo>
                  <a:pt x="0" y="0"/>
                </a:moveTo>
                <a:cubicBezTo>
                  <a:pt x="132" y="41"/>
                  <a:pt x="265" y="83"/>
                  <a:pt x="363" y="90"/>
                </a:cubicBezTo>
                <a:cubicBezTo>
                  <a:pt x="461" y="97"/>
                  <a:pt x="530" y="52"/>
                  <a:pt x="590" y="45"/>
                </a:cubicBezTo>
                <a:cubicBezTo>
                  <a:pt x="650" y="38"/>
                  <a:pt x="688" y="41"/>
                  <a:pt x="726" y="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70"/>
          <p:cNvSpPr/>
          <p:nvPr/>
        </p:nvSpPr>
        <p:spPr>
          <a:xfrm>
            <a:off x="7308720" y="5516640"/>
            <a:ext cx="503280" cy="230040"/>
          </a:xfrm>
          <a:custGeom>
            <a:avLst/>
            <a:gdLst/>
            <a:ahLst/>
            <a:rect l="l" t="t" r="r" b="b"/>
            <a:pathLst>
              <a:path w="317" h="145">
                <a:moveTo>
                  <a:pt x="0" y="0"/>
                </a:moveTo>
                <a:cubicBezTo>
                  <a:pt x="49" y="34"/>
                  <a:pt x="98" y="68"/>
                  <a:pt x="136" y="91"/>
                </a:cubicBezTo>
                <a:cubicBezTo>
                  <a:pt x="174" y="114"/>
                  <a:pt x="196" y="129"/>
                  <a:pt x="226" y="137"/>
                </a:cubicBezTo>
                <a:cubicBezTo>
                  <a:pt x="256" y="145"/>
                  <a:pt x="286" y="141"/>
                  <a:pt x="317" y="13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71"/>
          <p:cNvSpPr/>
          <p:nvPr/>
        </p:nvSpPr>
        <p:spPr>
          <a:xfrm>
            <a:off x="8515440" y="5373720"/>
            <a:ext cx="88920" cy="141120"/>
          </a:xfrm>
          <a:custGeom>
            <a:avLst/>
            <a:gdLst/>
            <a:ahLst/>
            <a:rect l="l" t="t" r="r" b="b"/>
            <a:pathLst>
              <a:path w="56" h="89">
                <a:moveTo>
                  <a:pt x="56" y="0"/>
                </a:moveTo>
                <a:cubicBezTo>
                  <a:pt x="47" y="15"/>
                  <a:pt x="12" y="71"/>
                  <a:pt x="0" y="8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72"/>
          <p:cNvSpPr/>
          <p:nvPr/>
        </p:nvSpPr>
        <p:spPr>
          <a:xfrm>
            <a:off x="5940360" y="3141720"/>
            <a:ext cx="527040" cy="2448000"/>
          </a:xfrm>
          <a:custGeom>
            <a:avLst/>
            <a:gdLst/>
            <a:ahLst/>
            <a:rect l="l" t="t" r="r" b="b"/>
            <a:pathLst>
              <a:path w="332" h="1542">
                <a:moveTo>
                  <a:pt x="272" y="0"/>
                </a:moveTo>
                <a:cubicBezTo>
                  <a:pt x="302" y="60"/>
                  <a:pt x="332" y="120"/>
                  <a:pt x="317" y="226"/>
                </a:cubicBezTo>
                <a:cubicBezTo>
                  <a:pt x="302" y="332"/>
                  <a:pt x="211" y="476"/>
                  <a:pt x="181" y="635"/>
                </a:cubicBezTo>
                <a:cubicBezTo>
                  <a:pt x="151" y="794"/>
                  <a:pt x="159" y="1058"/>
                  <a:pt x="136" y="1179"/>
                </a:cubicBezTo>
                <a:cubicBezTo>
                  <a:pt x="113" y="1300"/>
                  <a:pt x="68" y="1299"/>
                  <a:pt x="45" y="1360"/>
                </a:cubicBezTo>
                <a:cubicBezTo>
                  <a:pt x="22" y="1421"/>
                  <a:pt x="11" y="1481"/>
                  <a:pt x="0" y="154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73"/>
          <p:cNvSpPr/>
          <p:nvPr/>
        </p:nvSpPr>
        <p:spPr>
          <a:xfrm>
            <a:off x="5292720" y="4005360"/>
            <a:ext cx="647640" cy="1295280"/>
          </a:xfrm>
          <a:custGeom>
            <a:avLst/>
            <a:gdLst/>
            <a:ahLst/>
            <a:rect l="l" t="t" r="r" b="b"/>
            <a:pathLst>
              <a:path w="408" h="816">
                <a:moveTo>
                  <a:pt x="408" y="0"/>
                </a:moveTo>
                <a:cubicBezTo>
                  <a:pt x="385" y="155"/>
                  <a:pt x="362" y="310"/>
                  <a:pt x="317" y="408"/>
                </a:cubicBezTo>
                <a:cubicBezTo>
                  <a:pt x="272" y="506"/>
                  <a:pt x="189" y="522"/>
                  <a:pt x="136" y="590"/>
                </a:cubicBezTo>
                <a:cubicBezTo>
                  <a:pt x="83" y="658"/>
                  <a:pt x="23" y="786"/>
                  <a:pt x="0" y="8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74"/>
          <p:cNvSpPr/>
          <p:nvPr/>
        </p:nvSpPr>
        <p:spPr>
          <a:xfrm>
            <a:off x="3995640" y="260280"/>
            <a:ext cx="576360" cy="549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75"/>
          <p:cNvSpPr/>
          <p:nvPr/>
        </p:nvSpPr>
        <p:spPr>
          <a:xfrm>
            <a:off x="6012000" y="3141720"/>
            <a:ext cx="274680" cy="84240"/>
          </a:xfrm>
          <a:custGeom>
            <a:avLst/>
            <a:gdLst/>
            <a:ahLst/>
            <a:rect l="l" t="t" r="r" b="b"/>
            <a:pathLst>
              <a:path w="173" h="53">
                <a:moveTo>
                  <a:pt x="0" y="0"/>
                </a:moveTo>
                <a:cubicBezTo>
                  <a:pt x="11" y="19"/>
                  <a:pt x="17" y="37"/>
                  <a:pt x="46" y="45"/>
                </a:cubicBezTo>
                <a:cubicBezTo>
                  <a:pt x="75" y="53"/>
                  <a:pt x="147" y="46"/>
                  <a:pt x="173" y="4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76"/>
          <p:cNvSpPr/>
          <p:nvPr/>
        </p:nvSpPr>
        <p:spPr>
          <a:xfrm>
            <a:off x="8820000" y="325440"/>
            <a:ext cx="181080" cy="117360"/>
          </a:xfrm>
          <a:custGeom>
            <a:avLst/>
            <a:gdLst/>
            <a:ahLst/>
            <a:rect l="l" t="t" r="r" b="b"/>
            <a:pathLst>
              <a:path w="114" h="74">
                <a:moveTo>
                  <a:pt x="0" y="5"/>
                </a:moveTo>
                <a:cubicBezTo>
                  <a:pt x="10" y="6"/>
                  <a:pt x="41" y="0"/>
                  <a:pt x="60" y="11"/>
                </a:cubicBezTo>
                <a:cubicBezTo>
                  <a:pt x="79" y="22"/>
                  <a:pt x="103" y="61"/>
                  <a:pt x="114" y="7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9"/>
          <p:cNvSpPr/>
          <p:nvPr/>
        </p:nvSpPr>
        <p:spPr>
          <a:xfrm>
            <a:off x="1191600" y="2349000"/>
            <a:ext cx="454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倚在一起，看日出日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57">
            <a:hlinkClick r:id="rId1"/>
          </p:cNvPr>
          <p:cNvSpPr/>
          <p:nvPr/>
        </p:nvSpPr>
        <p:spPr>
          <a:xfrm>
            <a:off x="165240" y="32846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74" descr="图片3"/>
          <p:cNvPicPr/>
          <p:nvPr/>
        </p:nvPicPr>
        <p:blipFill>
          <a:blip r:embed="rId2"/>
          <a:stretch/>
        </p:blipFill>
        <p:spPr>
          <a:xfrm>
            <a:off x="2268360" y="1268280"/>
            <a:ext cx="1822680" cy="8589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5" descr="图片4"/>
          <p:cNvPicPr/>
          <p:nvPr/>
        </p:nvPicPr>
        <p:blipFill>
          <a:blip r:embed="rId3"/>
          <a:stretch/>
        </p:blipFill>
        <p:spPr>
          <a:xfrm>
            <a:off x="4643280" y="1341360"/>
            <a:ext cx="1822680" cy="8589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6" descr="图片5"/>
          <p:cNvPicPr/>
          <p:nvPr/>
        </p:nvPicPr>
        <p:blipFill>
          <a:blip r:embed="rId4"/>
          <a:stretch/>
        </p:blipFill>
        <p:spPr>
          <a:xfrm>
            <a:off x="-396720" y="2060640"/>
            <a:ext cx="4032000" cy="190008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77"/>
          <p:cNvSpPr/>
          <p:nvPr/>
        </p:nvSpPr>
        <p:spPr>
          <a:xfrm>
            <a:off x="4611600" y="4724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像两片云，融在一起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直到永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6"/>
          <p:cNvSpPr/>
          <p:nvPr/>
        </p:nvSpPr>
        <p:spPr>
          <a:xfrm>
            <a:off x="468360" y="5950080"/>
            <a:ext cx="3687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模板网，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www.1ppt.com/xiazai/donghu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dissolv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24" dur="10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60643 -0.00185 E">
                                      <p:cBhvr>
                                        <p:cTn id="527" dur="15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00:34:52Z</dcterms:created>
  <dc:creator>ljw</dc:creator>
  <dc:description/>
  <dc:language>en-US</dc:language>
  <cp:lastModifiedBy>王玉清</cp:lastModifiedBy>
  <dcterms:modified xsi:type="dcterms:W3CDTF">2016-02-20T04:10:43Z</dcterms:modified>
  <cp:revision>144</cp:revision>
  <dc:subject/>
  <dc:title>幻灯片 1</dc:title>
</cp:coreProperties>
</file>