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1D29-C047-4833-9B69-2B75A6BA3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B322-893D-4154-8F25-5A0ED42A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4765-B412-4F49-AF98-92D0CBD6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9977-5B32-4FD7-9620-42287895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CCF-95DD-4185-9F59-7B0DA309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5E79-93EF-4CC0-8AB8-9A1459A1A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01D-B692-4506-9274-7682E1B0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931-DB19-4704-91C3-B0EB2B03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B0C-4E77-4528-9285-32F0579C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26E-F3F4-43DC-8A9F-534F950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2907-9C76-4A40-BDA2-DF54B631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467-0538-4E82-8346-3622C3D7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D489-9067-47A7-820A-28C4D70C0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763560"/>
            <a:ext cx="468144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ff6699"/>
              </a:solidFill>
              <a:latin typeface="方正粗倩简体"/>
              <a:ea typeface="方正粗倩简体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592440" y="1052640"/>
            <a:ext cx="115920" cy="936360"/>
          </a:xfrm>
          <a:custGeom>
            <a:avLst/>
            <a:gdLst>
              <a:gd name="textAreaLeft" fmla="*/ 33840 w 115920"/>
              <a:gd name="textAreaRight" fmla="*/ 116280 w 115920"/>
              <a:gd name="textAreaTop" fmla="*/ 38880 h 936360"/>
              <a:gd name="textAreaBottom" fmla="*/ 89748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8172360" y="981000"/>
            <a:ext cx="117720" cy="936720"/>
          </a:xfrm>
          <a:custGeom>
            <a:avLst/>
            <a:gdLst>
              <a:gd name="textAreaLeft" fmla="*/ 0 w 117720"/>
              <a:gd name="textAreaRight" fmla="*/ 82800 w 11772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995640" y="4221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3995640" y="479736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4067280" y="537372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2250000" y="360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书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设计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26:46Z</dcterms:created>
  <dc:creator>微软用户</dc:creator>
  <dc:description/>
  <dc:language>en-US</dc:language>
  <cp:lastModifiedBy>王玉清</cp:lastModifiedBy>
  <dcterms:modified xsi:type="dcterms:W3CDTF">2016-02-20T04:07:19Z</dcterms:modified>
  <cp:revision>7</cp:revision>
  <dc:subject/>
  <dc:title>情书PPT模板设计</dc:title>
</cp:coreProperties>
</file>