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8495-3A90-400A-BF2A-A75A7A81D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86CD-D10D-44F1-A789-4FB58BFEF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ADF3-D3EF-409F-A09A-344D3ADA6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AC6B-E652-4D1E-BB51-2A69892D9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7977-1160-49A3-B309-1F40942BE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0CCB-DE9C-44F8-8821-81ADBE4BE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6A90-ED9D-43E5-B322-D881D2F06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87D1-DE4D-431C-92C1-6EFD8D620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DAC6-EA33-470A-A36F-FDD9370F6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16FB-BF7B-4122-A683-2E7DDCA1C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607D-0692-4E13-9264-B9FA03F0E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1B9D-AEAF-47CB-ADA5-663262C89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233B72E-79B1-4C64-941C-018300864DA4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5"/>
          <p:cNvSpPr/>
          <p:nvPr/>
        </p:nvSpPr>
        <p:spPr>
          <a:xfrm>
            <a:off x="0" y="-5040"/>
            <a:ext cx="75528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00206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2060"/>
                </a:solidFill>
                <a:latin typeface="Calibri"/>
              </a:rPr>
              <a:t>模板下载：</a:t>
            </a:r>
            <a:r>
              <a:rPr b="0" lang="en-US" sz="100" spc="-1" strike="noStrike">
                <a:solidFill>
                  <a:srgbClr val="002060"/>
                </a:solidFill>
                <a:latin typeface="Calibri"/>
              </a:rPr>
              <a:t>www.1ppt.com/moban/     </a:t>
            </a:r>
            <a:r>
              <a:rPr b="0" lang="zh-CN" sz="100" spc="-1" strike="noStrike">
                <a:solidFill>
                  <a:srgbClr val="002060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00206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2060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002060"/>
                </a:solidFill>
                <a:latin typeface="Calibri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002060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00206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2060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002060"/>
                </a:solidFill>
                <a:latin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002060"/>
                </a:solidFill>
                <a:latin typeface="Calibri"/>
              </a:rPr>
              <a:t>素材下载：</a:t>
            </a:r>
            <a:r>
              <a:rPr b="0" lang="en-US" sz="100" spc="-1" strike="noStrike">
                <a:solidFill>
                  <a:srgbClr val="002060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00206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2060"/>
                </a:solidFill>
                <a:latin typeface="Calibri"/>
              </a:rPr>
              <a:t>背景图片：</a:t>
            </a:r>
            <a:r>
              <a:rPr b="0" lang="en-US" sz="100" spc="-1" strike="noStrike">
                <a:solidFill>
                  <a:srgbClr val="002060"/>
                </a:solidFill>
                <a:latin typeface="Calibri"/>
              </a:rPr>
              <a:t>www.1ppt.com/beijing/      PPT</a:t>
            </a:r>
            <a:r>
              <a:rPr b="0" lang="zh-CN" sz="100" spc="-1" strike="noStrike">
                <a:solidFill>
                  <a:srgbClr val="002060"/>
                </a:solidFill>
                <a:latin typeface="Calibri"/>
              </a:rPr>
              <a:t>图表下载：</a:t>
            </a:r>
            <a:r>
              <a:rPr b="0" lang="en-US" sz="100" spc="-1" strike="noStrike">
                <a:solidFill>
                  <a:srgbClr val="002060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002060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00206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2060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002060"/>
                </a:solidFill>
                <a:latin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002060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002060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002060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002060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002060"/>
                </a:solidFill>
                <a:latin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002060"/>
                </a:solidFill>
                <a:latin typeface="Calibri"/>
              </a:rPr>
              <a:t>教程：</a:t>
            </a:r>
            <a:r>
              <a:rPr b="0" lang="en-US" sz="100" spc="-1" strike="noStrike">
                <a:solidFill>
                  <a:srgbClr val="002060"/>
                </a:solidFill>
                <a:latin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002060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002060"/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002060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002060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002060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002060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002060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002060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002060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002060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1"/>
          <p:cNvSpPr/>
          <p:nvPr/>
        </p:nvSpPr>
        <p:spPr>
          <a:xfrm>
            <a:off x="2151000" y="620640"/>
            <a:ext cx="51566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秋天的唯美意境通用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  <Words>99</Words>
  <Paragraphs>11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王玉清</cp:lastModifiedBy>
  <dcterms:modified xsi:type="dcterms:W3CDTF">2016-02-21T03:37:58Z</dcterms:modified>
  <cp:revision>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2</vt:r8>
  </property>
</Properties>
</file>