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66A-B435-49BF-ACE8-BA6500CB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A40-F3D6-4671-9079-BB486C9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2D6-31AC-42C2-A68F-9F1233CF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2D8-1624-43A5-B7C1-957F73BD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A8EF-7240-4231-A850-E568FD3F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320E-F889-4176-B27A-5B6BC109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4966-DB02-48BC-B9F6-5D0DF013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C7A-450D-42B1-A4B6-6C40718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0C09-59EF-479B-879F-970F07AF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C816-041D-4C0E-91AF-B2D268AE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8EF3-8F77-435C-A3A9-833559FE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490-6E9F-41A3-9542-7AA5ECE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3D44-E15A-453B-A416-1AAE22E0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4A2F-FC31-48CB-B502-8AA33AC4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BFCA-76C3-462D-90AA-828A4312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346-40C1-465E-8BC5-F07DA9DC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FCA2-DFDD-45B5-B170-BEE6A8AC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AB73-EB43-4988-A98D-2C81018C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E3F4-C229-409C-A328-CA21D4F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EC43-97DD-42C6-81E6-0D921AC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08B3-48BD-48CC-A8AA-F2BC709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63F3-0827-4717-AAC5-46EEE46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0F9-DFCF-45AD-B6B9-3E13339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2D16-27AF-441E-AB77-88C08B8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29C4-841E-48FF-82BD-E2C5D1DF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B1F7-E4B2-4B2E-94AA-3502549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D780-6C64-4F55-A86A-BD2A425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13ED-ED9E-4EF3-96E2-4F70923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724C-DB52-4F12-89E6-A1EF6FD9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9B3E-C89A-459E-88A2-BC1D67FD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0E3-BEFF-46DD-B1ED-90C9C7AB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5D4-90F2-4949-B0B0-54E11BC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05E-1B1E-4723-B1B8-1DFC4782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23B-87EE-4453-9059-5EC17DD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349-71E2-4028-9688-EF26B46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94A-992B-477B-BF65-E66C6C3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8A5C-7042-4B94-A5B6-CCB68987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272E-E935-4EE3-9494-2BD616CB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A1EC-C940-4C9E-A677-6174DE819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554040" y="662796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2048400" y="360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绿叶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707"/>
          <p:cNvSpPr/>
          <p:nvPr/>
        </p:nvSpPr>
        <p:spPr>
          <a:xfrm>
            <a:off x="2519280" y="1738440"/>
            <a:ext cx="4789440" cy="54108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08"/>
          <p:cNvSpPr/>
          <p:nvPr/>
        </p:nvSpPr>
        <p:spPr>
          <a:xfrm>
            <a:off x="2519280" y="2351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09"/>
          <p:cNvSpPr/>
          <p:nvPr/>
        </p:nvSpPr>
        <p:spPr>
          <a:xfrm>
            <a:off x="2519280" y="29638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710"/>
          <p:cNvSpPr txBox="1"/>
          <p:nvPr/>
        </p:nvSpPr>
        <p:spPr>
          <a:xfrm>
            <a:off x="2879640" y="19177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0" name="WordArt 711"/>
          <p:cNvSpPr txBox="1"/>
          <p:nvPr/>
        </p:nvSpPr>
        <p:spPr>
          <a:xfrm>
            <a:off x="2879640" y="253044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1" name="WordArt 712"/>
          <p:cNvSpPr txBox="1"/>
          <p:nvPr/>
        </p:nvSpPr>
        <p:spPr>
          <a:xfrm>
            <a:off x="2879640" y="3141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2" name="AutoShape 713"/>
          <p:cNvSpPr/>
          <p:nvPr/>
        </p:nvSpPr>
        <p:spPr>
          <a:xfrm>
            <a:off x="2519280" y="357336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714"/>
          <p:cNvSpPr txBox="1"/>
          <p:nvPr/>
        </p:nvSpPr>
        <p:spPr>
          <a:xfrm>
            <a:off x="2879640" y="3751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4" name="AutoShape 715"/>
          <p:cNvSpPr/>
          <p:nvPr/>
        </p:nvSpPr>
        <p:spPr>
          <a:xfrm>
            <a:off x="2519280" y="418608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16"/>
          <p:cNvSpPr txBox="1"/>
          <p:nvPr/>
        </p:nvSpPr>
        <p:spPr>
          <a:xfrm>
            <a:off x="2879640" y="4363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6" name="AutoShape 717"/>
          <p:cNvSpPr/>
          <p:nvPr/>
        </p:nvSpPr>
        <p:spPr>
          <a:xfrm>
            <a:off x="2519280" y="4797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718"/>
          <p:cNvSpPr txBox="1"/>
          <p:nvPr/>
        </p:nvSpPr>
        <p:spPr>
          <a:xfrm>
            <a:off x="2879640" y="4975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8" name="AutoShape 719"/>
          <p:cNvSpPr/>
          <p:nvPr/>
        </p:nvSpPr>
        <p:spPr>
          <a:xfrm>
            <a:off x="2519280" y="541008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720"/>
          <p:cNvSpPr txBox="1"/>
          <p:nvPr/>
        </p:nvSpPr>
        <p:spPr>
          <a:xfrm>
            <a:off x="2879640" y="5587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40" name="Oval 722"/>
          <p:cNvSpPr/>
          <p:nvPr/>
        </p:nvSpPr>
        <p:spPr>
          <a:xfrm>
            <a:off x="1908000" y="1773360"/>
            <a:ext cx="46548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23"/>
          <p:cNvSpPr/>
          <p:nvPr/>
        </p:nvSpPr>
        <p:spPr>
          <a:xfrm>
            <a:off x="2073240" y="1782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1908000" y="2386080"/>
            <a:ext cx="465480" cy="468360"/>
            <a:chOff x="1908000" y="2386080"/>
            <a:chExt cx="465480" cy="468360"/>
          </a:xfrm>
        </p:grpSpPr>
        <p:sp>
          <p:nvSpPr>
            <p:cNvPr id="143" name="Oval 725"/>
            <p:cNvSpPr/>
            <p:nvPr/>
          </p:nvSpPr>
          <p:spPr>
            <a:xfrm>
              <a:off x="1908000" y="2386080"/>
              <a:ext cx="46548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26"/>
            <p:cNvSpPr/>
            <p:nvPr/>
          </p:nvSpPr>
          <p:spPr>
            <a:xfrm>
              <a:off x="2073240" y="2395440"/>
              <a:ext cx="123840" cy="12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728"/>
          <p:cNvSpPr/>
          <p:nvPr/>
        </p:nvSpPr>
        <p:spPr>
          <a:xfrm>
            <a:off x="1908000" y="2997360"/>
            <a:ext cx="465480" cy="4680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29"/>
          <p:cNvSpPr/>
          <p:nvPr/>
        </p:nvSpPr>
        <p:spPr>
          <a:xfrm>
            <a:off x="2073240" y="3006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5"/>
          <p:cNvGrpSpPr/>
          <p:nvPr/>
        </p:nvGrpSpPr>
        <p:grpSpPr>
          <a:xfrm>
            <a:off x="1908000" y="3610080"/>
            <a:ext cx="465480" cy="468360"/>
            <a:chOff x="1908000" y="3610080"/>
            <a:chExt cx="465480" cy="468360"/>
          </a:xfrm>
        </p:grpSpPr>
        <p:sp>
          <p:nvSpPr>
            <p:cNvPr id="148" name="Oval 731"/>
            <p:cNvSpPr/>
            <p:nvPr/>
          </p:nvSpPr>
          <p:spPr>
            <a:xfrm>
              <a:off x="1908000" y="3610080"/>
              <a:ext cx="46548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32"/>
            <p:cNvSpPr/>
            <p:nvPr/>
          </p:nvSpPr>
          <p:spPr>
            <a:xfrm>
              <a:off x="2073240" y="3619440"/>
              <a:ext cx="123840" cy="12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734"/>
          <p:cNvSpPr/>
          <p:nvPr/>
        </p:nvSpPr>
        <p:spPr>
          <a:xfrm>
            <a:off x="1908000" y="4221000"/>
            <a:ext cx="46548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35"/>
          <p:cNvSpPr/>
          <p:nvPr/>
        </p:nvSpPr>
        <p:spPr>
          <a:xfrm>
            <a:off x="2073240" y="4230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0"/>
          <p:cNvGrpSpPr/>
          <p:nvPr/>
        </p:nvGrpSpPr>
        <p:grpSpPr>
          <a:xfrm>
            <a:off x="1908000" y="4834080"/>
            <a:ext cx="465480" cy="468000"/>
            <a:chOff x="1908000" y="4834080"/>
            <a:chExt cx="465480" cy="468000"/>
          </a:xfrm>
        </p:grpSpPr>
        <p:sp>
          <p:nvSpPr>
            <p:cNvPr id="153" name="Oval 737"/>
            <p:cNvSpPr/>
            <p:nvPr/>
          </p:nvSpPr>
          <p:spPr>
            <a:xfrm>
              <a:off x="1908000" y="4834080"/>
              <a:ext cx="46548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38"/>
            <p:cNvSpPr/>
            <p:nvPr/>
          </p:nvSpPr>
          <p:spPr>
            <a:xfrm>
              <a:off x="2073240" y="4843440"/>
              <a:ext cx="123840" cy="12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Oval 740"/>
          <p:cNvSpPr/>
          <p:nvPr/>
        </p:nvSpPr>
        <p:spPr>
          <a:xfrm>
            <a:off x="1908000" y="5445000"/>
            <a:ext cx="46548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41"/>
          <p:cNvSpPr/>
          <p:nvPr/>
        </p:nvSpPr>
        <p:spPr>
          <a:xfrm>
            <a:off x="2073240" y="5454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36:32Z</dcterms:created>
  <dc:creator/>
  <dc:description/>
  <dc:language>en-US</dc:language>
  <cp:lastModifiedBy>王玉清</cp:lastModifiedBy>
  <dcterms:modified xsi:type="dcterms:W3CDTF">2016-02-21T03:37:36Z</dcterms:modified>
  <cp:revision>15</cp:revision>
  <dc:subject/>
  <dc:title>幻灯片 1</dc:title>
</cp:coreProperties>
</file>