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19C5-59E6-4759-8191-6F7AD53C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E76-4796-491A-BF55-D7F5FFC2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4265-C51C-41B6-BEE8-AD968E53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0BD2-6082-4F83-91A1-2934322B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3371-D9A4-4D12-9422-E4F878E1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06C9-1308-4E56-8EA0-5A27BBA6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19E0-F2B8-4F79-8ED3-197D755A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4EE-4736-447C-B08E-C228578A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8C0-BAEB-475D-BF0D-D8B64B4A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FB00-DD4F-4D5A-A037-4A2826F0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2020-0150-4BAB-8820-93E6D204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5FE8-7FD9-45E6-8C2E-A5AD8A45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4EF6085-6B13-4A9B-84E6-0D1B3E08A4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1979640" y="4149000"/>
            <a:ext cx="67312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3f0e2"/>
                </a:solidFill>
                <a:latin typeface="时尚中黑简体"/>
                <a:ea typeface="时尚中黑简体"/>
              </a:rPr>
              <a:t>千纸鹤通用</a:t>
            </a:r>
            <a:r>
              <a:rPr b="1" lang="en-US" sz="4000" spc="-1" strike="noStrike">
                <a:solidFill>
                  <a:srgbClr val="f3f0e2"/>
                </a:solidFill>
                <a:latin typeface="时尚中黑简体"/>
                <a:ea typeface="时尚中黑简体"/>
              </a:rPr>
              <a:t>PPT</a:t>
            </a:r>
            <a:r>
              <a:rPr b="1" lang="zh-CN" sz="4000" spc="-1" strike="noStrike">
                <a:solidFill>
                  <a:srgbClr val="f3f0e2"/>
                </a:solidFill>
                <a:latin typeface="时尚中黑简体"/>
                <a:ea typeface="时尚中黑简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1440" y="430200"/>
            <a:ext cx="71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2664720" y="4213440"/>
            <a:ext cx="673128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000" spc="-1" strike="noStrike">
                <a:solidFill>
                  <a:srgbClr val="f3f0e2"/>
                </a:solidFill>
                <a:latin typeface="时尚中黑简体"/>
                <a:ea typeface="时尚中黑简体"/>
              </a:rPr>
              <a:t>谢谢观看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  <Words>101</Words>
  <Paragraphs>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20T03:27:19Z</dcterms:modified>
  <cp:revision>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