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477-D561-4632-984F-1088539A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A7D-F6FE-4CBB-8FE6-10B81CF3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8E2-1674-4274-8E4D-724CC91B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AE8-BD3D-44EA-BD27-18EE3241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0579-93D5-4172-ADEA-8FF26FA5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3E6C-A7DB-4FC9-95DC-889D5F23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EB9F-5A52-4C7B-9802-6042F280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0CD8-D254-43E9-B754-90B31121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2649-329D-49D2-B7F5-1153B372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BB2F-3629-412E-AA59-FD5F5B7F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24BE-3E4F-481E-96F0-DDCA7571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43F-8239-467A-9129-ADFEFDDB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017B-0852-48CC-B211-D0490D09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954F-3409-45F9-94F5-527BBA11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A090-7B8C-42A7-B39A-2F1AB886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489B-79B1-43B7-890F-0543ABF7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BB0D-F489-474B-8FA5-406BC867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7B8-4033-40E2-9983-61D1594B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EBF-42BE-4F66-B306-E0E01C82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D07-8EF9-452B-A88A-2E0F4729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D32-F499-4889-B8D3-6FAFA7F2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53C-D8C5-4A14-8829-3CEC8C38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1B2-F276-4FD4-9D91-690C0659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504-D493-4F93-B426-A562195E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B826-1163-4560-BF1B-42F5E64AD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F1EB-A8AE-4D31-BEBD-85A460168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987640" y="4292280"/>
            <a:ext cx="464040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42920" y="2781000"/>
            <a:ext cx="7561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人比花娇通用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模板免费下载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7:25:32Z</dcterms:created>
  <dc:creator>keke</dc:creator>
  <dc:description/>
  <dc:language>en-US</dc:language>
  <cp:lastModifiedBy>王玉清</cp:lastModifiedBy>
  <dcterms:modified xsi:type="dcterms:W3CDTF">2016-02-22T03:44:4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