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C2F-2CE2-43EA-9AC8-EA2E521F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3433-039E-49A6-8D3A-D77D8D41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6E1-0AE1-4189-8089-976A8B23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285-3F41-4097-BF70-9F89FFA6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28B-0BAA-4466-BF34-C2E92E53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C438-E8EB-4E38-B1D1-E07ACA6E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009-9427-4E0D-88E2-DB0E5518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A2C-CE00-4E81-AB4D-9DD15A0A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51A-2C33-44EC-A0E3-84F0D71E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65B-5270-4FC1-B848-7B27C3E9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FF0-A5D5-464D-BE68-F84547F3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1814-6D72-4E51-8F47-17D06BE7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7E86-5641-4F0D-AC19-7FB6D7B4F87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A5A1-71E3-47DB-8FD5-CCDAB9BBCB1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7"/>
          <p:cNvSpPr/>
          <p:nvPr/>
        </p:nvSpPr>
        <p:spPr>
          <a:xfrm>
            <a:off x="3327480" y="836640"/>
            <a:ext cx="2489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4"/>
          <p:cNvSpPr/>
          <p:nvPr/>
        </p:nvSpPr>
        <p:spPr>
          <a:xfrm>
            <a:off x="2963880" y="1351080"/>
            <a:ext cx="3301920" cy="0"/>
          </a:xfrm>
          <a:prstGeom prst="line">
            <a:avLst/>
          </a:prstGeom>
          <a:ln w="1260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urved Down Arrow 145"/>
          <p:cNvSpPr/>
          <p:nvPr/>
        </p:nvSpPr>
        <p:spPr>
          <a:xfrm rot="20520000">
            <a:off x="2493720" y="2172960"/>
            <a:ext cx="4503600" cy="1523880"/>
          </a:xfrm>
          <a:custGeom>
            <a:avLst/>
            <a:gdLst>
              <a:gd name="textAreaLeft" fmla="*/ 1041120 w 4503600"/>
              <a:gd name="textAreaRight" fmla="*/ 3322440 w 450360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86" hR="21600" stAng="10800000" swAng="5400000"/>
                <a:lnTo>
                  <a:pt x="10941" y="0"/>
                </a:lnTo>
                <a:arcTo wR="9986" hR="21600" stAng="-5400000" swAng="3552538"/>
                <a:lnTo>
                  <a:pt x="21241" y="15863"/>
                </a:lnTo>
                <a:lnTo>
                  <a:pt x="20450" y="21600"/>
                </a:lnTo>
                <a:lnTo>
                  <a:pt x="18940" y="15863"/>
                </a:lnTo>
                <a:lnTo>
                  <a:pt x="19613" y="15863"/>
                </a:lnTo>
                <a:arcTo wR="9986" hR="21600" stAng="-1847462" swAng="-3476467"/>
                <a:lnTo>
                  <a:pt x="10464" y="25"/>
                </a:lnTo>
                <a:arcTo wR="9986" hR="21600" stAng="-5476071" swAng="-5323929"/>
                <a:close/>
              </a:path>
              <a:path fill="darkenLess" w="21600" h="21600">
                <a:moveTo>
                  <a:pt x="0" y="21600"/>
                </a:moveTo>
                <a:arcTo wR="9986" hR="21600" stAng="10800000" swAng="5400000"/>
                <a:lnTo>
                  <a:pt x="9986" y="0"/>
                </a:lnTo>
                <a:arcTo wR="9986" hR="21600" stAng="-5400000" swAng="76071"/>
                <a:lnTo>
                  <a:pt x="10464" y="25"/>
                </a:lnTo>
                <a:arcTo wR="9986" hR="21600" stAng="-5476071" swAng="-5323929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1"/>
          <p:cNvGrpSpPr/>
          <p:nvPr/>
        </p:nvGrpSpPr>
        <p:grpSpPr>
          <a:xfrm>
            <a:off x="315360" y="1858320"/>
            <a:ext cx="8606520" cy="4338000"/>
            <a:chOff x="315360" y="1858320"/>
            <a:chExt cx="8606520" cy="4338000"/>
          </a:xfrm>
        </p:grpSpPr>
        <p:sp>
          <p:nvSpPr>
            <p:cNvPr id="45" name="矩形 210"/>
            <p:cNvSpPr/>
            <p:nvPr/>
          </p:nvSpPr>
          <p:spPr>
            <a:xfrm>
              <a:off x="1565640" y="2860920"/>
              <a:ext cx="64800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模板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mob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行业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hangye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节日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jier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素材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背景图片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beijing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图表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tub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优秀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xiaza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powerpoint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Word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word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程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excel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资料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zil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课件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keji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范文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fanwe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试卷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shit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案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jiao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2"/>
            <p:cNvGrpSpPr/>
            <p:nvPr/>
          </p:nvGrpSpPr>
          <p:grpSpPr>
            <a:xfrm>
              <a:off x="315360" y="1858320"/>
              <a:ext cx="8606520" cy="4338000"/>
              <a:chOff x="315360" y="1858320"/>
              <a:chExt cx="8606520" cy="4338000"/>
            </a:xfrm>
          </p:grpSpPr>
          <p:grpSp>
            <p:nvGrpSpPr>
              <p:cNvPr id="47" name="Group 284"/>
              <p:cNvGrpSpPr/>
              <p:nvPr/>
            </p:nvGrpSpPr>
            <p:grpSpPr>
              <a:xfrm>
                <a:off x="315360" y="1860840"/>
                <a:ext cx="8330760" cy="4335480"/>
                <a:chOff x="315360" y="1860840"/>
                <a:chExt cx="8330760" cy="4335480"/>
              </a:xfrm>
            </p:grpSpPr>
            <p:sp>
              <p:nvSpPr>
                <p:cNvPr id="48" name="Freeform 285"/>
                <p:cNvSpPr/>
                <p:nvPr/>
              </p:nvSpPr>
              <p:spPr>
                <a:xfrm rot="21312000">
                  <a:off x="8580240" y="4449240"/>
                  <a:ext cx="53640" cy="525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286"/>
                <p:cNvSpPr/>
                <p:nvPr/>
              </p:nvSpPr>
              <p:spPr>
                <a:xfrm rot="21312000">
                  <a:off x="8534160" y="4964400"/>
                  <a:ext cx="103680" cy="19260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287"/>
                <p:cNvSpPr/>
                <p:nvPr/>
              </p:nvSpPr>
              <p:spPr>
                <a:xfrm rot="21312000">
                  <a:off x="8386200" y="5135040"/>
                  <a:ext cx="183600" cy="16200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288"/>
                <p:cNvSpPr/>
                <p:nvPr/>
              </p:nvSpPr>
              <p:spPr>
                <a:xfrm rot="21312000">
                  <a:off x="8277840" y="4595760"/>
                  <a:ext cx="71280" cy="583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289"/>
                <p:cNvSpPr/>
                <p:nvPr/>
              </p:nvSpPr>
              <p:spPr>
                <a:xfrm rot="21312000">
                  <a:off x="7115400" y="4383360"/>
                  <a:ext cx="921600" cy="7988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290"/>
                <p:cNvSpPr/>
                <p:nvPr/>
              </p:nvSpPr>
              <p:spPr>
                <a:xfrm rot="21312000">
                  <a:off x="7876800" y="5181480"/>
                  <a:ext cx="95040" cy="860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291"/>
                <p:cNvSpPr/>
                <p:nvPr/>
              </p:nvSpPr>
              <p:spPr>
                <a:xfrm rot="21312000">
                  <a:off x="7336800" y="2855520"/>
                  <a:ext cx="391320" cy="3682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292"/>
                <p:cNvSpPr/>
                <p:nvPr/>
              </p:nvSpPr>
              <p:spPr>
                <a:xfrm rot="21312000">
                  <a:off x="7475760" y="4098240"/>
                  <a:ext cx="449640" cy="28620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293"/>
                <p:cNvSpPr/>
                <p:nvPr/>
              </p:nvSpPr>
              <p:spPr>
                <a:xfrm rot="21312000">
                  <a:off x="7380720" y="4036320"/>
                  <a:ext cx="43560" cy="993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294"/>
                <p:cNvSpPr/>
                <p:nvPr/>
              </p:nvSpPr>
              <p:spPr>
                <a:xfrm rot="21312000">
                  <a:off x="7283520" y="3760920"/>
                  <a:ext cx="48240" cy="496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295"/>
                <p:cNvSpPr/>
                <p:nvPr/>
              </p:nvSpPr>
              <p:spPr>
                <a:xfrm rot="21312000">
                  <a:off x="7322040" y="4323960"/>
                  <a:ext cx="81720" cy="7560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Freeform 296"/>
                <p:cNvSpPr/>
                <p:nvPr/>
              </p:nvSpPr>
              <p:spPr>
                <a:xfrm rot="21312000">
                  <a:off x="7225200" y="3856680"/>
                  <a:ext cx="131400" cy="946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297"/>
                <p:cNvSpPr/>
                <p:nvPr/>
              </p:nvSpPr>
              <p:spPr>
                <a:xfrm rot="21312000">
                  <a:off x="7228800" y="3801960"/>
                  <a:ext cx="71280" cy="568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298"/>
                <p:cNvSpPr/>
                <p:nvPr/>
              </p:nvSpPr>
              <p:spPr>
                <a:xfrm rot="21312000">
                  <a:off x="7157880" y="3434400"/>
                  <a:ext cx="53640" cy="802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99"/>
                <p:cNvSpPr/>
                <p:nvPr/>
              </p:nvSpPr>
              <p:spPr>
                <a:xfrm rot="21312000">
                  <a:off x="7219080" y="4074480"/>
                  <a:ext cx="111960" cy="453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300"/>
                <p:cNvSpPr/>
                <p:nvPr/>
              </p:nvSpPr>
              <p:spPr>
                <a:xfrm rot="21312000">
                  <a:off x="7216920" y="4365360"/>
                  <a:ext cx="39240" cy="453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301"/>
                <p:cNvSpPr/>
                <p:nvPr/>
              </p:nvSpPr>
              <p:spPr>
                <a:xfrm rot="21312000">
                  <a:off x="7191360" y="4135680"/>
                  <a:ext cx="116640" cy="1339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302"/>
                <p:cNvSpPr/>
                <p:nvPr/>
              </p:nvSpPr>
              <p:spPr>
                <a:xfrm rot="21312000">
                  <a:off x="7164720" y="3596400"/>
                  <a:ext cx="125280" cy="2203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303"/>
                <p:cNvSpPr/>
                <p:nvPr/>
              </p:nvSpPr>
              <p:spPr>
                <a:xfrm rot="21312000">
                  <a:off x="6953760" y="3938040"/>
                  <a:ext cx="242280" cy="3052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304"/>
                <p:cNvSpPr/>
                <p:nvPr/>
              </p:nvSpPr>
              <p:spPr>
                <a:xfrm rot="21312000">
                  <a:off x="6645960" y="4001040"/>
                  <a:ext cx="449640" cy="3855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305"/>
                <p:cNvSpPr/>
                <p:nvPr/>
              </p:nvSpPr>
              <p:spPr>
                <a:xfrm rot="21312000">
                  <a:off x="6702840" y="3882600"/>
                  <a:ext cx="147240" cy="24660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6"/>
                <p:cNvSpPr/>
                <p:nvPr/>
              </p:nvSpPr>
              <p:spPr>
                <a:xfrm rot="21312000">
                  <a:off x="6273000" y="3935880"/>
                  <a:ext cx="43560" cy="993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07"/>
                <p:cNvSpPr/>
                <p:nvPr/>
              </p:nvSpPr>
              <p:spPr>
                <a:xfrm rot="21312000">
                  <a:off x="5466240" y="2106360"/>
                  <a:ext cx="402840" cy="2073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08"/>
                <p:cNvSpPr/>
                <p:nvPr/>
              </p:nvSpPr>
              <p:spPr>
                <a:xfrm rot="21312000">
                  <a:off x="5505480" y="4591440"/>
                  <a:ext cx="160560" cy="3722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09"/>
                <p:cNvSpPr/>
                <p:nvPr/>
              </p:nvSpPr>
              <p:spPr>
                <a:xfrm rot="21312000">
                  <a:off x="4655160" y="3265200"/>
                  <a:ext cx="84600" cy="626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10"/>
                <p:cNvSpPr/>
                <p:nvPr/>
              </p:nvSpPr>
              <p:spPr>
                <a:xfrm rot="21312000">
                  <a:off x="4550040" y="3198240"/>
                  <a:ext cx="45360" cy="669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11"/>
                <p:cNvSpPr/>
                <p:nvPr/>
              </p:nvSpPr>
              <p:spPr>
                <a:xfrm rot="21312000">
                  <a:off x="4425840" y="3241800"/>
                  <a:ext cx="25920" cy="2160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12"/>
                <p:cNvSpPr/>
                <p:nvPr/>
              </p:nvSpPr>
              <p:spPr>
                <a:xfrm rot="21312000">
                  <a:off x="3973320" y="2045520"/>
                  <a:ext cx="4539600" cy="31060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313"/>
                <p:cNvSpPr/>
                <p:nvPr/>
              </p:nvSpPr>
              <p:spPr>
                <a:xfrm rot="21312000">
                  <a:off x="3741840" y="2569680"/>
                  <a:ext cx="218880" cy="860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314"/>
                <p:cNvSpPr/>
                <p:nvPr/>
              </p:nvSpPr>
              <p:spPr>
                <a:xfrm rot="21312000">
                  <a:off x="2615400" y="1973880"/>
                  <a:ext cx="1266120" cy="8341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315"/>
                <p:cNvSpPr/>
                <p:nvPr/>
              </p:nvSpPr>
              <p:spPr>
                <a:xfrm rot="21312000">
                  <a:off x="2887560" y="3960000"/>
                  <a:ext cx="30240" cy="4104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16"/>
                <p:cNvSpPr/>
                <p:nvPr/>
              </p:nvSpPr>
              <p:spPr>
                <a:xfrm rot="21312000">
                  <a:off x="2724480" y="3939480"/>
                  <a:ext cx="125640" cy="712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17"/>
                <p:cNvSpPr/>
                <p:nvPr/>
              </p:nvSpPr>
              <p:spPr>
                <a:xfrm rot="21312000">
                  <a:off x="2625120" y="4009680"/>
                  <a:ext cx="45360" cy="392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18"/>
                <p:cNvSpPr/>
                <p:nvPr/>
              </p:nvSpPr>
              <p:spPr>
                <a:xfrm rot="21312000">
                  <a:off x="2475720" y="3865680"/>
                  <a:ext cx="219240" cy="8640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19"/>
                <p:cNvSpPr/>
                <p:nvPr/>
              </p:nvSpPr>
              <p:spPr>
                <a:xfrm rot="21312000">
                  <a:off x="2608200" y="3818160"/>
                  <a:ext cx="32040" cy="259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20"/>
                <p:cNvSpPr/>
                <p:nvPr/>
              </p:nvSpPr>
              <p:spPr>
                <a:xfrm rot="21312000">
                  <a:off x="2464560" y="2802240"/>
                  <a:ext cx="27720" cy="277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321"/>
                <p:cNvSpPr/>
                <p:nvPr/>
              </p:nvSpPr>
              <p:spPr>
                <a:xfrm rot="21312000">
                  <a:off x="2404080" y="2785680"/>
                  <a:ext cx="23040" cy="2592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22"/>
                <p:cNvSpPr/>
                <p:nvPr/>
              </p:nvSpPr>
              <p:spPr>
                <a:xfrm rot="21312000">
                  <a:off x="2088360" y="2464200"/>
                  <a:ext cx="49680" cy="273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323"/>
                <p:cNvSpPr/>
                <p:nvPr/>
              </p:nvSpPr>
              <p:spPr>
                <a:xfrm rot="21312000">
                  <a:off x="2092320" y="2497680"/>
                  <a:ext cx="103680" cy="453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324"/>
                <p:cNvSpPr/>
                <p:nvPr/>
              </p:nvSpPr>
              <p:spPr>
                <a:xfrm rot="21312000">
                  <a:off x="2049840" y="2367360"/>
                  <a:ext cx="404280" cy="1209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325"/>
                <p:cNvSpPr/>
                <p:nvPr/>
              </p:nvSpPr>
              <p:spPr>
                <a:xfrm rot="21312000">
                  <a:off x="1947600" y="2526480"/>
                  <a:ext cx="125640" cy="799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326"/>
                <p:cNvSpPr/>
                <p:nvPr/>
              </p:nvSpPr>
              <p:spPr>
                <a:xfrm rot="21312000">
                  <a:off x="1891080" y="2449440"/>
                  <a:ext cx="153360" cy="669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327"/>
                <p:cNvSpPr/>
                <p:nvPr/>
              </p:nvSpPr>
              <p:spPr>
                <a:xfrm rot="21312000">
                  <a:off x="1861560" y="2367000"/>
                  <a:ext cx="151920" cy="568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28"/>
                <p:cNvSpPr/>
                <p:nvPr/>
              </p:nvSpPr>
              <p:spPr>
                <a:xfrm rot="21312000">
                  <a:off x="1679760" y="2398320"/>
                  <a:ext cx="79920" cy="583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329"/>
                <p:cNvSpPr/>
                <p:nvPr/>
              </p:nvSpPr>
              <p:spPr>
                <a:xfrm rot="21312000">
                  <a:off x="579600" y="2402640"/>
                  <a:ext cx="3071880" cy="36712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330"/>
                <p:cNvSpPr/>
                <p:nvPr/>
              </p:nvSpPr>
              <p:spPr>
                <a:xfrm rot="21312000">
                  <a:off x="486360" y="3014280"/>
                  <a:ext cx="32040" cy="406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331"/>
                <p:cNvSpPr/>
                <p:nvPr/>
              </p:nvSpPr>
              <p:spPr>
                <a:xfrm rot="21312000">
                  <a:off x="466560" y="3181320"/>
                  <a:ext cx="66960" cy="669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332"/>
                <p:cNvSpPr/>
                <p:nvPr/>
              </p:nvSpPr>
              <p:spPr>
                <a:xfrm rot="21312000">
                  <a:off x="316440" y="3242160"/>
                  <a:ext cx="80280" cy="320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Freeform 95"/>
              <p:cNvSpPr/>
              <p:nvPr/>
            </p:nvSpPr>
            <p:spPr>
              <a:xfrm>
                <a:off x="3180240" y="4483440"/>
                <a:ext cx="22932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13"/>
              <p:cNvSpPr/>
              <p:nvPr/>
            </p:nvSpPr>
            <p:spPr>
              <a:xfrm>
                <a:off x="5100120" y="2755800"/>
                <a:ext cx="22932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14"/>
              <p:cNvSpPr/>
              <p:nvPr/>
            </p:nvSpPr>
            <p:spPr>
              <a:xfrm>
                <a:off x="6553440" y="3361680"/>
                <a:ext cx="22932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Box 135"/>
              <p:cNvSpPr/>
              <p:nvPr/>
            </p:nvSpPr>
            <p:spPr>
              <a:xfrm>
                <a:off x="615600" y="4273560"/>
                <a:ext cx="1672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Lorem Ipsum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 replace tex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Straight Connector 63"/>
              <p:cNvSpPr/>
              <p:nvPr/>
            </p:nvSpPr>
            <p:spPr>
              <a:xfrm flipV="1">
                <a:off x="685440" y="4672440"/>
                <a:ext cx="2609640" cy="2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137"/>
              <p:cNvSpPr/>
              <p:nvPr/>
            </p:nvSpPr>
            <p:spPr>
              <a:xfrm>
                <a:off x="6883560" y="2023200"/>
                <a:ext cx="1672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Lorem Ipsum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 replace tex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Straight Connector 70"/>
              <p:cNvSpPr/>
              <p:nvPr/>
            </p:nvSpPr>
            <p:spPr>
              <a:xfrm flipV="1">
                <a:off x="5426640" y="2430000"/>
                <a:ext cx="297288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Box 139"/>
              <p:cNvSpPr/>
              <p:nvPr/>
            </p:nvSpPr>
            <p:spPr>
              <a:xfrm>
                <a:off x="7249320" y="3912840"/>
                <a:ext cx="1672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Lorem Ipsum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 replace tex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Straight Connector 72"/>
              <p:cNvSpPr/>
              <p:nvPr/>
            </p:nvSpPr>
            <p:spPr>
              <a:xfrm flipV="1">
                <a:off x="7107840" y="4319640"/>
                <a:ext cx="168336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Straight Connector 75"/>
              <p:cNvSpPr/>
              <p:nvPr/>
            </p:nvSpPr>
            <p:spPr>
              <a:xfrm flipH="1">
                <a:off x="5189760" y="2444040"/>
                <a:ext cx="236880" cy="46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Straight Connector 76"/>
              <p:cNvSpPr/>
              <p:nvPr/>
            </p:nvSpPr>
            <p:spPr>
              <a:xfrm flipH="1" flipV="1">
                <a:off x="6670080" y="3561840"/>
                <a:ext cx="437760" cy="76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14"/>
              <p:cNvSpPr/>
              <p:nvPr/>
            </p:nvSpPr>
            <p:spPr>
              <a:xfrm>
                <a:off x="4768920" y="4673520"/>
                <a:ext cx="22932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Box 144"/>
              <p:cNvSpPr/>
              <p:nvPr/>
            </p:nvSpPr>
            <p:spPr>
              <a:xfrm>
                <a:off x="5464800" y="5224680"/>
                <a:ext cx="1672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Lorem Ipsum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 replace tex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Straight Connector 80"/>
              <p:cNvSpPr/>
              <p:nvPr/>
            </p:nvSpPr>
            <p:spPr>
              <a:xfrm flipV="1">
                <a:off x="5322960" y="5631480"/>
                <a:ext cx="168336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Straight Connector 81"/>
              <p:cNvSpPr/>
              <p:nvPr/>
            </p:nvSpPr>
            <p:spPr>
              <a:xfrm flipH="1" flipV="1">
                <a:off x="4885200" y="4874040"/>
                <a:ext cx="437760" cy="76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142"/>
              <p:cNvSpPr/>
              <p:nvPr/>
            </p:nvSpPr>
            <p:spPr>
              <a:xfrm>
                <a:off x="6599160" y="2760480"/>
                <a:ext cx="658800" cy="65916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43"/>
              <p:cNvSpPr/>
              <p:nvPr/>
            </p:nvSpPr>
            <p:spPr>
              <a:xfrm>
                <a:off x="6696720" y="2860920"/>
                <a:ext cx="456480" cy="45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144"/>
              <p:cNvSpPr/>
              <p:nvPr/>
            </p:nvSpPr>
            <p:spPr>
              <a:xfrm>
                <a:off x="6823440" y="2984760"/>
                <a:ext cx="210600" cy="210960"/>
              </a:xfrm>
              <a:prstGeom prst="ellipse">
                <a:avLst/>
              </a:prstGeom>
              <a:solidFill>
                <a:srgbClr val="17365d"/>
              </a:solidFill>
              <a:ln w="3240">
                <a:solidFill>
                  <a:srgbClr val="36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147"/>
              <p:cNvSpPr/>
              <p:nvPr/>
            </p:nvSpPr>
            <p:spPr>
              <a:xfrm>
                <a:off x="2521800" y="3928320"/>
                <a:ext cx="658800" cy="65916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148"/>
              <p:cNvSpPr/>
              <p:nvPr/>
            </p:nvSpPr>
            <p:spPr>
              <a:xfrm>
                <a:off x="2619360" y="4028760"/>
                <a:ext cx="456480" cy="45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149"/>
              <p:cNvSpPr/>
              <p:nvPr/>
            </p:nvSpPr>
            <p:spPr>
              <a:xfrm>
                <a:off x="2745720" y="4152600"/>
                <a:ext cx="210600" cy="210960"/>
              </a:xfrm>
              <a:prstGeom prst="ellipse">
                <a:avLst/>
              </a:prstGeom>
              <a:solidFill>
                <a:srgbClr val="17365d"/>
              </a:solidFill>
              <a:ln w="3240">
                <a:solidFill>
                  <a:srgbClr val="36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"/>
              <p:cNvSpPr/>
              <p:nvPr/>
            </p:nvSpPr>
            <p:spPr>
              <a:xfrm rot="4327200">
                <a:off x="4055040" y="1927080"/>
                <a:ext cx="644400" cy="686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7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7160" y="11736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世界地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插图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BA14-06E3-42FC-AC3F-AC2DA915F4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40:46Z</dcterms:modified>
  <cp:revision>98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