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4C7-AFF3-440E-A396-1C962F8A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A64-313F-49C0-9634-4E6A34D4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667-A2AC-49A2-869F-ED927187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6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6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C77-7B3A-414B-8F67-2D5FC176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73FB-F9AD-4B6E-A5E4-915BC527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657D-BDA1-4E66-8A59-C902A836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7B86-6A2A-4D72-879D-46CE50E4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C944-3E1C-481E-A606-2F90038A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87DC-630D-4A77-8169-F3B6733E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57120"/>
            <a:ext cx="79930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0CFD-3BF2-4CE9-AEF7-A7ACCF7B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460A-4A7D-4794-8495-220A0362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FA4-51D3-422F-A495-520D4CCD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309F-E235-42B9-AE80-FD48D8F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7E9-31E5-4C94-88EA-DF0B267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D39A-B32D-40B2-84BC-D0D7F471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69FA-7469-4177-A74B-882A0EF7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16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46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16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46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7469-503B-4335-803E-5A792C9B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4F2-6D31-4CFB-8654-EBCC6210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55F-837F-46FC-988C-A95B3AB8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DCF-E0E7-48CD-9FF0-1B0D6F1C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57120"/>
            <a:ext cx="79930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340-3DE8-47A2-90C7-770CAEB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D9D-9E33-4836-BF39-694AB951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ED1-34B3-468B-9655-3BA2AF1C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3C8-D86D-4F23-A16E-870F723F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3868-603B-4883-8CD1-F158DA38E1BF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E1A0-FBD5-40B3-9CE4-E892E9A11DDF}" type="slidenum">
              <a:rPr b="0" lang="zh-CN" sz="1400" spc="-1" strike="noStrike">
                <a:solidFill>
                  <a:srgbClr val="003366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413160"/>
            <a:ext cx="727236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时间管理商务</a:t>
            </a:r>
            <a:r>
              <a:rPr b="0" lang="en-US" sz="4000" spc="-1" strike="noStrike">
                <a:solidFill>
                  <a:srgbClr val="003366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模板免费下载</a:t>
            </a:r>
            <a:endParaRPr b="0" lang="en-US" sz="40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4327200"/>
            <a:ext cx="693432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9:53:01Z</dcterms:created>
  <dc:creator>ppt宝藏</dc:creator>
  <dc:description/>
  <dc:language>en-US</dc:language>
  <cp:lastModifiedBy>a</cp:lastModifiedBy>
  <dcterms:modified xsi:type="dcterms:W3CDTF">2015-07-25T06:48:20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82052</vt:lpwstr>
  </property>
</Properties>
</file>