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CA5-098F-4755-AF49-5562619E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739-3B08-4843-B9B7-9E4E5DF4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6DF-8064-4E03-9B1D-261C4E37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D91-C196-4EA9-BB88-768123E2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78A-17DC-46D1-A413-EB56EF0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3B7-8E52-47C5-8396-853AE8F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A30-96B0-4810-A33C-70EE002E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DA9-3965-42BB-8BD5-6A01A407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F7B-7711-4254-AAD7-74E33732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03F-DB9B-4D44-9085-568E5C9D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E92-9432-4E73-8251-8C415A7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4F0-BCD1-4967-9C24-18CD363B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289E-8632-4825-B8E8-75443FCDA6A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D08C-A265-4CE7-956A-9410F106E9C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2900520" y="1123920"/>
            <a:ext cx="3111480" cy="4149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3348000" y="5734080"/>
            <a:ext cx="2602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7" descr=""/>
          <p:cNvPicPr/>
          <p:nvPr/>
        </p:nvPicPr>
        <p:blipFill>
          <a:blip r:embed="rId2"/>
          <a:stretch/>
        </p:blipFill>
        <p:spPr>
          <a:xfrm>
            <a:off x="179280" y="1339920"/>
            <a:ext cx="295596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"/>
          <p:cNvPicPr/>
          <p:nvPr/>
        </p:nvPicPr>
        <p:blipFill>
          <a:blip r:embed="rId3"/>
          <a:srcRect l="35434" t="17002" r="27162" b="31421"/>
          <a:stretch/>
        </p:blipFill>
        <p:spPr>
          <a:xfrm flipH="1">
            <a:off x="5549400" y="1844640"/>
            <a:ext cx="3419640" cy="314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012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65A-C070-45F7-9D48-5614FB36BC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8:15Z</dcterms:modified>
  <cp:revision>9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