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A35-83DE-4FA5-820D-44EE2BDC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65A-4297-4A99-A4B7-0A45D8B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8F3-D8E3-454D-A3D3-A6124AC7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BF0-21FF-4543-BDAF-E6198F69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A23-A21F-4640-9BAB-BFFB8F1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A66-3E1D-4A40-A041-FECF152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B04-0F11-410F-8183-3D3E784D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C20-9691-4714-8987-5A2BCA14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9C9-CAAD-426F-A000-6AD8812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9F9-08FF-4471-B641-C3A5081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9ED-6939-4825-B592-5F77607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450-633A-45C2-ADC4-B29BC45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9E5F43-7D96-4562-A113-AB7A045958DA}" type="slidenum">
              <a: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72d6"/>
            </a:gs>
            <a:gs pos="100000">
              <a:srgbClr val="1ea2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  <p:sp>
        <p:nvSpPr>
          <p:cNvPr id="44" name="文本框 5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3380040" y="1812960"/>
            <a:ext cx="5501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时尚数码产品展示通用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f68f70"/>
            </a:gs>
            <a:gs pos="100000">
              <a:srgbClr val="f76f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48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51357d"/>
            </a:gs>
            <a:gs pos="100000">
              <a:srgbClr val="7163b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dfe5ed"/>
            </a:gs>
            <a:gs pos="100000">
              <a:srgbClr val="e7ec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95959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Pink Shock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15362"/>
      </a:accent1>
      <a:accent2>
        <a:srgbClr val="a63843"/>
      </a:accent2>
      <a:accent3>
        <a:srgbClr val="f2c2b3"/>
      </a:accent3>
      <a:accent4>
        <a:srgbClr val="a6857b"/>
      </a:accent4>
      <a:accent5>
        <a:srgbClr val="0d0d0d"/>
      </a:accent5>
      <a:accent6>
        <a:srgbClr val="f2f2f2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  <Words>34</Words>
  <Paragraphs>10</Paragraphs>
  <Company>MideaGrou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2:00:20Z</dcterms:created>
  <dc:creator>龙卉</dc:creator>
  <dc:description/>
  <dc:language>en-US</dc:language>
  <cp:lastModifiedBy>王玉清</cp:lastModifiedBy>
  <dcterms:modified xsi:type="dcterms:W3CDTF">2016-02-23T03:49:19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