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f07f09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bfbfbf"/>
              </a:solidFill>
              <a:ln w="0">
                <a:noFill/>
              </a:ln>
            </c:spPr>
          </c:dPt>
          <c:dPt>
            <c:idx val="1"/>
            <c:invertIfNegative val="0"/>
            <c:spPr>
              <a:solidFill>
                <a:srgbClr val="bfbfbf"/>
              </a:solidFill>
              <a:ln w="0">
                <a:noFill/>
              </a:ln>
            </c:spPr>
          </c:dPt>
          <c:dPt>
            <c:idx val="2"/>
            <c:invertIfNegative val="0"/>
            <c:spPr>
              <a:solidFill>
                <a:srgbClr val="bfbfbf"/>
              </a:solidFill>
              <a:ln w="0">
                <a:noFill/>
              </a:ln>
            </c:spPr>
          </c:dPt>
          <c:dPt>
            <c:idx val="3"/>
            <c:invertIfNegative val="0"/>
            <c:spPr>
              <a:solidFill>
                <a:srgbClr val="ff7300"/>
              </a:solidFill>
              <a:ln w="0">
                <a:noFill/>
              </a:ln>
            </c:spPr>
          </c:dPt>
          <c:dPt>
            <c:idx val="4"/>
            <c:invertIfNegative val="0"/>
            <c:spPr>
              <a:solidFill>
                <a:srgbClr val="bfbfbf"/>
              </a:solidFill>
              <a:ln w="0">
                <a:noFill/>
              </a:ln>
            </c:spPr>
          </c:dPt>
          <c:dLbls>
            <c:numFmt formatCode="General" sourceLinked="0"/>
            <c:dLbl>
              <c:idx val="0"/>
              <c:numFmt formatCode="General" sourceLinked="0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40404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numFmt formatCode="General" sourceLinked="0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40404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numFmt formatCode="General" sourceLinked="0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40404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3"/>
              <c:numFmt formatCode="General" sourceLinked="0"/>
              <c:txPr>
                <a:bodyPr wrap="square"/>
                <a:lstStyle/>
                <a:p>
                  <a:pPr>
                    <a:defRPr b="1" sz="2000" spc="-1" strike="noStrike">
                      <a:solidFill>
                        <a:srgbClr val="ff73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4"/>
              <c:numFmt formatCode="General" sourceLinked="0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40404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400" spc="-1" strike="noStrike">
                    <a:solidFill>
                      <a:srgbClr val="40404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YOUR TEXT</c:v>
                </c:pt>
                <c:pt idx="1">
                  <c:v>YOUR TEXT</c:v>
                </c:pt>
                <c:pt idx="2">
                  <c:v>YOUR TEXT</c:v>
                </c:pt>
                <c:pt idx="3">
                  <c:v>YOUR TEXT</c:v>
                </c:pt>
                <c:pt idx="4">
                  <c:v>YOUR TEXT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  <c:pt idx="4">
                  <c:v>3.8</c:v>
                </c:pt>
              </c:numCache>
            </c:numRef>
          </c:val>
        </c:ser>
        <c:gapWidth val="50"/>
        <c:overlap val="0"/>
        <c:axId val="23402049"/>
        <c:axId val="72999449"/>
      </c:barChart>
      <c:catAx>
        <c:axId val="23402049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d9d9d9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595959"/>
                </a:solidFill>
                <a:latin typeface="Arial"/>
              </a:defRPr>
            </a:pPr>
          </a:p>
        </c:txPr>
        <c:crossAx val="72999449"/>
        <c:crosses val="autoZero"/>
        <c:auto val="1"/>
        <c:lblAlgn val="ctr"/>
        <c:lblOffset val="100"/>
        <c:noMultiLvlLbl val="0"/>
      </c:catAx>
      <c:valAx>
        <c:axId val="72999449"/>
        <c:scaling>
          <c:orientation val="minMax"/>
        </c:scaling>
        <c:delete val="1"/>
        <c:axPos val="l"/>
        <c:numFmt formatCode="General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402049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7AFA-C731-4888-B61C-EA9D84459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85ED-7000-46FF-A3AF-79B6199E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0C59-D873-47E4-B9DC-C905B6ECF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4ED7-AADA-41C6-8B75-BE7CF064D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9BAE-1EF1-4C88-97CA-481E84ED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4D3D-4601-4B4A-BB18-9B01159F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227A-3D33-4143-B4DE-909D928C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6E4A-A0E9-469D-84D7-99FC43E3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05FF-C382-45D5-889E-80AF5ACF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5A8F-0E5D-465A-9690-D210D0BE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B9EC-6FE1-46AF-91BB-1E59F535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3258-9E0E-4D5F-A2ED-41844F56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角三角形 1"/>
          <p:cNvSpPr/>
          <p:nvPr/>
        </p:nvSpPr>
        <p:spPr>
          <a:xfrm rot="5400000">
            <a:off x="-14040" y="-14400"/>
            <a:ext cx="2017080" cy="2017080"/>
          </a:xfrm>
          <a:prstGeom prst="rtTriangle">
            <a:avLst/>
          </a:prstGeom>
          <a:solidFill>
            <a:srgbClr val="ff73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EBC973-E3F8-467A-BFFE-EEE96BE33B56}" type="slidenum">
              <a:rPr b="0" lang="en-US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直角三角形 11"/>
          <p:cNvSpPr/>
          <p:nvPr/>
        </p:nvSpPr>
        <p:spPr>
          <a:xfrm rot="16200000">
            <a:off x="10189080" y="4856760"/>
            <a:ext cx="2015640" cy="2015640"/>
          </a:xfrm>
          <a:prstGeom prst="rtTriangle">
            <a:avLst/>
          </a:prstGeom>
          <a:solidFill>
            <a:srgbClr val="efb6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图表 10"/>
          <p:cNvGraphicFramePr/>
          <p:nvPr/>
        </p:nvGraphicFramePr>
        <p:xfrm>
          <a:off x="5486400" y="1563840"/>
          <a:ext cx="5973480" cy="38034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44" name="矩形 11"/>
          <p:cNvSpPr/>
          <p:nvPr/>
        </p:nvSpPr>
        <p:spPr>
          <a:xfrm>
            <a:off x="1105560" y="2327760"/>
            <a:ext cx="38487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7300"/>
                </a:solidFill>
                <a:latin typeface="Arial"/>
              </a:rPr>
              <a:t>商务简洁柱形</a:t>
            </a:r>
            <a:r>
              <a:rPr b="1" lang="en-US" sz="4000" spc="-1" strike="noStrike">
                <a:solidFill>
                  <a:srgbClr val="ff73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7300"/>
                </a:solidFill>
                <a:latin typeface="Arial"/>
              </a:rPr>
              <a:t>图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视点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  <Words>13</Words>
  <Paragraphs>3</Paragraphs>
  <Company>提供最新电脑系统下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4T14:23:09Z</dcterms:created>
  <dc:creator>mycomputer</dc:creator>
  <dc:description/>
  <dc:language>en-US</dc:language>
  <cp:lastModifiedBy>a</cp:lastModifiedBy>
  <dcterms:modified xsi:type="dcterms:W3CDTF">2015-07-25T08:26:54Z</dcterms:modified>
  <cp:revision>10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2</vt:r8>
  </property>
</Properties>
</file>