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ACD-D74A-4251-98DF-1647249E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5A9-B08D-42E9-98A5-63F6A45E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F4C-D381-48C0-8F5B-A9FF86AA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033-223D-4919-88A1-6BE7311A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E5B-456E-4BC4-BB43-2C654433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FED-306B-457C-AB56-40F98CDF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0F3-8787-4715-9FFA-C4ABCB9A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73B-9B82-41C2-A6E5-2D07C6C7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A1C-BF49-41D5-B85E-D9C3E165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838-75D6-4803-A6A6-049A848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355-BE27-4AE3-8057-0A948B40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230-275E-4871-A1EC-19AF438E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75B58C-52D4-437B-8D11-1EC417984F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06240" y="1341360"/>
            <a:ext cx="3533760" cy="75996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在此处添加幻灯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06520" y="2084400"/>
            <a:ext cx="4277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宋体"/>
              </a:rPr>
              <a:t>ZAICICHUTIANJIAHUANDENGPIANBIAO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105280" y="245592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叶草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1181160" y="189000"/>
            <a:ext cx="2101320" cy="63828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在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100160" y="1755720"/>
            <a:ext cx="164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黑体"/>
              </a:rPr>
              <a:t>此处添加正文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06360" y="6381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漂亮的绿色花朵底纹PPT模板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漂亮的绿色花朵底纹PPT模板</Template>
  <TotalTime>1</TotalTime>
  <Application>LibreOffice/7.4.7.2$Linux_X86_64 LibreOffice_project/40$Build-2</Application>
  <AppVersion>15.0000</AppVersion>
  <Words>44</Words>
  <Paragraphs>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9:14:39Z</dcterms:created>
  <dc:creator>jccook</dc:creator>
  <dc:description/>
  <dc:language>en-US</dc:language>
  <cp:lastModifiedBy>王玉清</cp:lastModifiedBy>
  <dcterms:modified xsi:type="dcterms:W3CDTF">2016-02-22T03:43:37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