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05C-C8BE-4BE1-8091-215B4D66B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573-8D58-4E94-9BD2-5DFBCA880C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6AD-962E-4818-87A3-F4ECDB56AD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9D9-76D8-481D-A7CB-91D9CE9231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7C2-44C5-488F-BE45-087C79C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052-6D50-45EC-9D80-52E40FD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0A8-23EF-4CC7-8E06-9A013350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D9C-4562-4146-9787-9B1C5E23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EB2-4192-4FDB-9439-2085CBD8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EDC-E936-4BAB-BA42-7B18B6E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903B-BD41-491C-A475-02F115D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98F-EF1E-4125-BECA-5731ADB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C83A-CF07-4A59-AA25-CB10DDB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1FE-3FAA-4F82-A18A-7F256B5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BAC-C757-4ED1-AD05-F00C63E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5B1-4E27-4876-B901-9CFFAB3A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162-5810-4E24-8210-E1AE500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41A9-B2F7-42C8-BD4E-A9EA5EC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558-5DFB-481F-BAC7-04E4BBC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BC8C-1E57-41F5-931E-A077CF8B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A84-B4BF-4465-8476-0FA589CA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9C6-D9BB-4604-A77E-94BB8E9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CE9-A8D2-4182-8289-D278DB9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001-0412-4D9B-BA2A-66EE349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D3F-4AEB-4C0D-8A7A-39A4A4A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1EF-E343-4C23-A64B-29F4CCE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0D0-9692-4872-B3B1-FAC16E4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C04-3FEF-4258-A21D-10F09F5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1a3a15">
                  <a:alpha val="85098"/>
                </a:srgbClr>
              </a:gs>
              <a:gs pos="100000">
                <a:srgbClr val="1a3a1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449-F7F1-4003-90EF-FC829726AA5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1a3a15">
                  <a:alpha val="85098"/>
                </a:srgbClr>
              </a:gs>
              <a:gs pos="100000">
                <a:srgbClr val="1a3a1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51000" y="33480"/>
            <a:ext cx="8569080" cy="1368360"/>
          </a:xfrm>
          <a:prstGeom prst="rect">
            <a:avLst/>
          </a:prstGeom>
          <a:gradFill rotWithShape="0">
            <a:gsLst>
              <a:gs pos="0">
                <a:srgbClr val="1a3a15">
                  <a:alpha val="60000"/>
                </a:srgbClr>
              </a:gs>
              <a:gs pos="100000">
                <a:srgbClr val="1a3a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875-CAFB-486D-BAA2-8E0B4B71108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0" y="88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帅鹰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59000" y="8110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1a3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1a3a15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0" y="6361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6:41Z</dcterms:modified>
  <cp:revision>12</cp:revision>
  <dc:subject/>
  <dc:title>Bird of Prey PowerPoint Presentation</dc:title>
</cp:coreProperties>
</file>