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37C-959C-43D0-8340-D222D71A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6BB-9DF8-4F6A-95EB-104F5BBA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6BE-17C7-47D8-A495-A21DCEF5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DA9-259B-46F3-8602-3961B7B8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B17E-B6A8-411E-83A1-7BB66A18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883-1089-40E8-863A-E0337854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540E-6519-4DB0-823E-590678C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5031-7D99-4328-8717-698A245B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3ED4-08A2-44BD-B679-3761B662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C34F-97F3-45B6-A48E-2A0AB15C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2D3-D4EF-417F-87CD-78FD05A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96F-D7DF-4E5B-9767-52B79253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FD0-3D30-4044-B6E4-CB809DD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B8CB-2B32-4DB3-8337-9FC07F7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2BBC-814C-4F3A-8582-8AD4BB2E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FA18-20CC-4C90-87DF-9C0A1E51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9B8E-AD90-48F5-B66E-F624DC93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685A-311B-4F99-B2BE-B3065446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4413-62D3-4673-A35B-325756B2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4F67-AEAC-4830-B4A3-E1AD8695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BEAA-8971-4DFA-9189-1F89B62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84BC-1303-4FAF-8D1A-63330F77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0E-FF3C-4805-8F61-D0BA5D1D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65E5-159D-4FBF-ABA8-9FA48931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B58B-8CFC-4290-B869-42CEA44B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1AC83-AC36-45D7-B543-6D713FB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8BAD-4410-4230-ADD6-A62C6D45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838D-FEF5-4881-A0CB-F937E000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8D22-7997-4D32-A3B0-FBA72ABD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B3305-573F-4E8A-A434-4F64E30F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31A-941D-4267-9CA2-BCA02AC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007-77D8-4D8D-8AB5-9928DC5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8BA-91AE-4943-BA1C-BC214D11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FEF-B278-4B19-85A2-8A8514BD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170-0A0A-46FD-9DCA-9A1104C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9F5-0966-4497-A83A-3D8E679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0AC8-B227-4A23-823E-C9B2D954F8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（除）绿叶 树叶 水珠 撕裂 纸张 瓢虫 动感线条 曲线 背景 矢量素材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（除）绿叶 树叶 水珠 撕裂 纸张 瓢虫 动感线条 曲线 背景 矢量素材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p_large_N0Nc_58171l01701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7F45-DE94-4C07-BAC2-9B99A6E908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（除）绿叶 树叶 水珠 撕裂 纸张 瓢虫 动感线条 曲线 背景 矢量素材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（除）绿叶 树叶 水珠 撕裂 纸张 瓢虫 动感线条 曲线 背景 矢量素材图片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589C-D2CB-44B3-907F-A348442924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藤</a:t>
            </a:r>
            <a:r>
              <a:rPr b="0" lang="zh-CN" sz="40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蔓通用</a:t>
            </a:r>
            <a:r>
              <a:rPr b="0" lang="en-US" sz="40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808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2d050"/>
              </a:solidFill>
              <a:latin typeface="汉仪大宋简"/>
              <a:ea typeface="汉仪大宋简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8:25:30Z</dcterms:created>
  <dc:creator>雨林木风</dc:creator>
  <dc:description/>
  <dc:language>en-US</dc:language>
  <cp:lastModifiedBy>王玉清</cp:lastModifiedBy>
  <dcterms:modified xsi:type="dcterms:W3CDTF">2016-02-22T03:11:26Z</dcterms:modified>
  <cp:revision>3</cp:revision>
  <dc:subject/>
  <dc:title>幻灯片 1</dc:title>
</cp:coreProperties>
</file>