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567-1670-4E56-AE8A-ECB7D687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A9A-FE9E-4B53-9035-5FFDA2A1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1C6-98D1-4CD7-9462-800BE4C8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036-47D3-4074-A921-EC870748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E31-4DF9-4B5F-B741-9ACF012D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0B9-ECEA-41DA-9FD1-29590C83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91F-7554-4270-9371-C8A4C748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28B-5E13-485F-9AE9-2504B566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241-AC59-404C-B5E0-8845B580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418-C8F7-47CC-816B-4EA43E3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535-C484-42BD-B274-7A124A26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90A-E5BE-47AA-A967-299E30BF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38FC-1F22-4C33-8A75-FD3C4E3B77A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00DD-6911-4AA8-ADF9-DAE1DF6EF8D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836640"/>
            <a:ext cx="9001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916360" y="1628640"/>
            <a:ext cx="3622680" cy="4845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7012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问号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151-9D40-40FF-9BCB-11DF552A5A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27:50Z</dcterms:modified>
  <cp:revision>8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