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A8F-5A75-4772-B4AB-0974F4B7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2FF-8DE5-4471-8C5E-E3A16127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9865-0CAE-4DDC-9A84-5BBC763C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8A0-1460-4BD2-9D41-03597489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0CB6-AD18-4DA7-8FB7-C3539A90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FCB5-8255-40EE-96AF-A42D00EA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A8BD-2685-45EF-9FC1-C8BEDCC5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0670-B2E0-4865-9B2E-36615EBD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68E5-638B-4574-BF72-C98B0CFF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0520" y="151920"/>
            <a:ext cx="717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09B1-C4F6-4380-9AF3-BF9AE3B5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EA6E-F8C8-42C5-8E11-5C3615E3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215-71C7-40CC-93F9-8B3FDFFB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EF7E-E572-44BC-B88E-6488207E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CEDB-ED3F-474F-B41E-A2995431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C3C3-C223-401F-BC8E-42B19C23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A4C6-B2C3-4237-9141-81CA642B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D322-26C9-42BE-8EAE-053B60C7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93B-E440-4CD8-B71B-14D6F998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400-548F-4341-9EF7-7D70FC25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F7D-E8EC-45D1-A31E-032952EC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0520" y="151920"/>
            <a:ext cx="717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C0A-FA2A-4845-A1C8-ECB2030D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4BD-5AAA-4DFE-B9C9-7E1BFD50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CC7-B9F2-4BA5-917C-D7D776EA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B72-4202-47C4-86F5-9DE43C7F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0D90-AE50-49DE-AB4C-89996046DEC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8EF8-1316-4114-97FA-971C76265CA2}" type="slidenum">
              <a: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4876920"/>
            <a:ext cx="75438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ahoma"/>
                <a:ea typeface="宋体"/>
              </a:rPr>
              <a:t>文件繁多商务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宋体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Tahoma"/>
                <a:ea typeface="宋体"/>
              </a:rPr>
              <a:t>模板完整版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5866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66"/>
              </a:solidFill>
              <a:latin typeface="Tahoma"/>
              <a:ea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0:34:34Z</dcterms:created>
  <dc:creator>ppt宝藏</dc:creator>
  <dc:description/>
  <dc:language>en-US</dc:language>
  <cp:lastModifiedBy>a</cp:lastModifiedBy>
  <dcterms:modified xsi:type="dcterms:W3CDTF">2015-07-25T06:48:16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32052</vt:lpwstr>
  </property>
</Properties>
</file>