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4D4-E788-48C4-8247-72C87287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FF4-2894-42DD-85DA-301598B6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842-E301-4C4B-81E4-1DFF757C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B21-31E2-40D9-A810-34259BA9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E1B-C2EC-4D40-8E3B-B8221635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F66-548D-45B8-84E2-265E98FE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4CD-329C-4C81-9930-3C5B8DF9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01F-7ADD-4B34-BD1B-2E79F4D8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405-018B-4A74-9001-688F4C01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EAC-DC4C-42F7-8DA7-51072AE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96C-A012-4329-B8F7-7784F4A4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F3B-406B-41A7-9A78-F84F4D7B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B54A-1534-43BB-A1F2-58F0133BB4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E45F-8D28-4A88-884C-7E84589005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u=3878269170,1774242558&amp;fm=23&amp;gp=0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290600" y="155736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19000" y="18900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玩具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2360" y="1628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见过会爬的玩具吗？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Administrator\Desktop\u=1888815560,3914880644&amp;fm=21&amp;gp=0[1].jpg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Administrator\Desktop\u=4116949494,132607494&amp;fm=23&amp;gp=0[1].jpg"/>
          <p:cNvPicPr/>
          <p:nvPr/>
        </p:nvPicPr>
        <p:blipFill>
          <a:blip r:embed="rId1"/>
          <a:stretch/>
        </p:blipFill>
        <p:spPr>
          <a:xfrm>
            <a:off x="428760" y="379440"/>
            <a:ext cx="82566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Administrator\Desktop\u=3878269170,1774242558&amp;fm=23&amp;gp=0[1]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2426400" y="21430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会爬的玩具是怎么做出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1214280" y="2571840"/>
            <a:ext cx="650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动起手来做一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3"/>
          <p:cNvSpPr/>
          <p:nvPr/>
        </p:nvSpPr>
        <p:spPr>
          <a:xfrm>
            <a:off x="4352040" y="25002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制作一个会爬的玩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428120" y="11430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FDC-AD94-4BD0-BE18-B043EEB867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16:5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57:0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