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6E51-B05F-4095-99D4-964F3ED1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C349-C0CE-4729-9049-D058B4AD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B94C-EE1B-4050-B033-F768C994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CEF5-C8C6-41A8-B5DA-10179EB20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BA45-5ACF-4318-8159-0557CA83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54A7-4684-4970-8CD9-14426D74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0C3D-7887-40A4-8C56-03485CBB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23BF-603C-4B00-93CC-38F03840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2128-E9C5-4050-8198-C06FEDAC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12E8-6666-416D-97AF-DCB075F4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EC6A-2361-4D78-A1AE-CD818D7E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D01C-1094-4AED-B6B8-26A1B057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6591-CF14-4863-8B1E-6D87470D8C8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F087-4718-4598-B0D4-105581D545A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3708360" y="1500120"/>
            <a:ext cx="53276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1440" y="4734000"/>
            <a:ext cx="46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44360" y="5544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握手主题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4CC9-0F89-4FEF-8C9A-94E90BB606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6:50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17:46Z</dcterms:modified>
  <cp:revision>38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