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BF8D8-B4E8-4540-A6C5-F3C63F77051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7F53C-008B-48A7-AD43-66023884A700}" type="slidenum"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3E173-9F3A-4320-9EF9-22D4A71F1F91}" type="slidenum"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F0AFB-8656-4CCB-A929-570212DBCFF1}" type="slidenum"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D1F1-05B9-47D4-8D90-DC106E062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3C80-60BC-4144-9C8A-800D873E1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B376-FEF4-43FA-82FA-15336A93A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1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1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4E9F-2E28-45D0-A427-32A0F1A4E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65774-F98A-4B67-9F00-220B5E2C5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E58E8-03EF-49A8-802B-A74B4E6FE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C2373-F1ED-46C2-A2CB-9A91A75D2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8F836-51F2-4409-91DC-5B176C257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1EEA8-69A4-4300-94B4-0D1AA939C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21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CA1AF-6576-423F-933D-19D381E58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20132-59A1-4687-A626-20A4D9F7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7559-E0E8-4010-8260-654C23225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1C6EB-BDE8-4193-A08E-0B9D8AFC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9A3D0-BBAB-4891-99D2-72C59846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FD517-4215-4406-9A4B-C38BC9E35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A5CBB-EF90-4A5A-8AE6-1F07E7867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33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1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33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1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7F412-7D2C-4BD6-963A-96F63931B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31E1-86C6-42D4-B42A-D9CAA771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CA1D-C210-4383-A301-6C00D3146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75B3-D999-459F-8E2B-ADBDD5887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21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63AD-BBEC-4B8A-8C11-42B7E50A2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A93D-A5E4-4F29-A78C-1D223241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96AF-10F1-4141-9C5C-256940A9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E9C9-56D3-4A59-87B6-C769175A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7236000" cy="1440000"/>
          </a:xfrm>
          <a:prstGeom prst="rect">
            <a:avLst/>
          </a:prstGeom>
          <a:gradFill rotWithShape="0">
            <a:gsLst>
              <a:gs pos="0">
                <a:srgbClr val="dcedfd">
                  <a:alpha val="85098"/>
                </a:srgbClr>
              </a:gs>
              <a:gs pos="100000">
                <a:srgbClr val="dcedfd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036C6-0C11-46E9-B5C1-127D7000BF69}" type="slidenum">
              <a:rPr b="0" lang="en-GB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0" descr=""/>
          <p:cNvPicPr/>
          <p:nvPr/>
        </p:nvPicPr>
        <p:blipFill>
          <a:blip r:embed="rId2"/>
          <a:stretch/>
        </p:blipFill>
        <p:spPr>
          <a:xfrm>
            <a:off x="6996240" y="-22320"/>
            <a:ext cx="2165400" cy="1462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0" y="0"/>
            <a:ext cx="7236000" cy="1440000"/>
          </a:xfrm>
          <a:prstGeom prst="rect">
            <a:avLst/>
          </a:prstGeom>
          <a:gradFill rotWithShape="0">
            <a:gsLst>
              <a:gs pos="0">
                <a:srgbClr val="dcedfd">
                  <a:alpha val="85098"/>
                </a:srgbClr>
              </a:gs>
              <a:gs pos="100000">
                <a:srgbClr val="dcedfd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0" descr=""/>
          <p:cNvPicPr/>
          <p:nvPr/>
        </p:nvPicPr>
        <p:blipFill>
          <a:blip r:embed="rId2"/>
          <a:stretch/>
        </p:blipFill>
        <p:spPr>
          <a:xfrm>
            <a:off x="6996240" y="-22320"/>
            <a:ext cx="2165400" cy="1462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"/>
          <p:cNvPicPr/>
          <p:nvPr/>
        </p:nvPicPr>
        <p:blipFill>
          <a:blip r:embed="rId3"/>
          <a:srcRect l="1174" t="0" r="0" b="1035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"/>
          <p:cNvSpPr/>
          <p:nvPr/>
        </p:nvSpPr>
        <p:spPr>
          <a:xfrm>
            <a:off x="324000" y="444600"/>
            <a:ext cx="8569080" cy="1368360"/>
          </a:xfrm>
          <a:prstGeom prst="rect">
            <a:avLst/>
          </a:prstGeom>
          <a:gradFill rotWithShape="0">
            <a:gsLst>
              <a:gs pos="0">
                <a:srgbClr val="dcedfd">
                  <a:alpha val="60000"/>
                </a:srgbClr>
              </a:gs>
              <a:gs pos="100000">
                <a:srgbClr val="dcedfd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F0A2D-EAA3-4D47-AEE0-86F790A2033D}" type="slidenum">
              <a:rPr b="0" lang="en-GB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00040"/>
            <a:ext cx="777240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雪地里的萌狗通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32000" y="1222200"/>
            <a:ext cx="640080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Your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Example Bullet Point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06440" y="1663560"/>
            <a:ext cx="8229600" cy="43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ullet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ullet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ub Bul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ample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Content Placeholder 3" descr=""/>
          <p:cNvPicPr/>
          <p:nvPr/>
        </p:nvPicPr>
        <p:blipFill>
          <a:blip r:embed="rId1"/>
          <a:stretch/>
        </p:blipFill>
        <p:spPr>
          <a:xfrm>
            <a:off x="901800" y="1790640"/>
            <a:ext cx="734040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Colour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3571920" y="2863800"/>
            <a:ext cx="826920" cy="61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4648320" y="2863800"/>
            <a:ext cx="826920" cy="6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2519280" y="4478400"/>
            <a:ext cx="827280" cy="611280"/>
          </a:xfrm>
          <a:prstGeom prst="rect">
            <a:avLst/>
          </a:prstGeom>
          <a:solidFill>
            <a:srgbClr val="dced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3587760" y="4478400"/>
            <a:ext cx="826920" cy="611280"/>
          </a:xfrm>
          <a:prstGeom prst="rect">
            <a:avLst/>
          </a:prstGeom>
          <a:solidFill>
            <a:srgbClr val="6ba7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4656240" y="4478400"/>
            <a:ext cx="826920" cy="611280"/>
          </a:xfrm>
          <a:prstGeom prst="rect">
            <a:avLst/>
          </a:prstGeom>
          <a:solidFill>
            <a:srgbClr val="0b6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5726160" y="4478400"/>
            <a:ext cx="826920" cy="611280"/>
          </a:xfrm>
          <a:prstGeom prst="rect">
            <a:avLst/>
          </a:prstGeom>
          <a:solidFill>
            <a:srgbClr val="237d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5708520" y="2863800"/>
            <a:ext cx="827280" cy="61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2503440" y="2863800"/>
            <a:ext cx="827280" cy="6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2285640" y="2224080"/>
            <a:ext cx="12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Backgroun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3603960" y="2101680"/>
            <a:ext cx="76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Text &amp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Lin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4553640" y="222408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Shadow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5834520" y="2101680"/>
            <a:ext cx="57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2661840" y="3838680"/>
            <a:ext cx="5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Fil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3609360" y="383868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Acc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4543560" y="3716280"/>
            <a:ext cx="102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Accent &amp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Hyperlin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 Box 18"/>
          <p:cNvSpPr/>
          <p:nvPr/>
        </p:nvSpPr>
        <p:spPr>
          <a:xfrm>
            <a:off x="5624640" y="3714840"/>
            <a:ext cx="102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Follow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Hyperlin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Pictur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27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Bullet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Bullet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IMG_9271"/>
          <p:cNvPicPr/>
          <p:nvPr/>
        </p:nvPicPr>
        <p:blipFill>
          <a:blip r:embed="rId1"/>
          <a:stretch/>
        </p:blipFill>
        <p:spPr>
          <a:xfrm>
            <a:off x="5256360" y="2205000"/>
            <a:ext cx="3097080" cy="3853080"/>
          </a:xfrm>
          <a:prstGeom prst="rect">
            <a:avLst/>
          </a:prstGeom>
          <a:ln w="57240">
            <a:solidFill>
              <a:srgbClr val="dcedfd"/>
            </a:solidFill>
            <a:miter/>
          </a:ln>
        </p:spPr>
      </p:pic>
      <p:sp>
        <p:nvSpPr>
          <p:cNvPr id="122" name="Text Box 3"/>
          <p:cNvSpPr/>
          <p:nvPr/>
        </p:nvSpPr>
        <p:spPr>
          <a:xfrm>
            <a:off x="539640" y="61945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b6def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11:56:50Z</dcterms:created>
  <dc:creator>jontypearce</dc:creator>
  <dc:description/>
  <dc:language>en-US</dc:language>
  <cp:lastModifiedBy>王玉清</cp:lastModifiedBy>
  <dcterms:modified xsi:type="dcterms:W3CDTF">2016-03-02T07:27:18Z</dcterms:modified>
  <cp:revision>14</cp:revision>
  <dc:subject/>
  <dc:title>PowerPoint Presentation</dc:title>
</cp:coreProperties>
</file>