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52FA-7FC4-43EA-B65A-881EA958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81280"/>
            <a:ext cx="8153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3B3-5F21-45C0-BCDA-E9F1ED37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8128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58128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9AD-4E03-4273-81C7-18B45323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91440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91440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8128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58128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58128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7F1-F98B-4F99-9D34-7AD03352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B50B-4893-4FA4-91F9-558F3210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D6AF-84E6-4FEE-9484-DE24534F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FFE8-8311-4AD9-898E-DC7ADB8A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397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914400"/>
            <a:ext cx="397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0D07-A963-4F2E-9232-DEFE057B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8A41-AC09-4E0A-BBA0-566BF425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A138-CF38-407C-B498-378C38DB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914400"/>
            <a:ext cx="397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8128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3CF9-C644-4493-81FC-F77647D3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8A2-7318-4511-A9F5-3F7E7A5A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397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58128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E7FD-C803-4512-8DE1-D857D25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81280"/>
            <a:ext cx="8153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4F3F-B53E-43DC-9615-9E7B331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81280"/>
            <a:ext cx="8153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7C42-284A-4DAA-B1B9-E2612A39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8128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58128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233C-9305-47E7-9B3E-50FEBEE2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91440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91440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8128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58128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581280"/>
            <a:ext cx="262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362A-D9D1-4DD3-88DE-5EFF41E3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C63-93BF-4266-B969-25814FF8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397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914400"/>
            <a:ext cx="397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987-44C0-4B57-8534-D85A279A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D08-481B-4B63-8D91-A2CB199B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097-25B3-437D-945E-574F7801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914400"/>
            <a:ext cx="397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8128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5CD-1403-46C1-ABF4-56F73035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397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58128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F65-5A4C-4EE5-9CD1-4493406A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914400"/>
            <a:ext cx="397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81280"/>
            <a:ext cx="8153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4FC-0259-4667-948A-7F21EAC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5d5d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4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621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621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621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F89F-3536-4BA9-B7CA-451BE584C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5d5d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9144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621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621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621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10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6210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6210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7644-A10D-42ED-9C16-823FA98A80F4}" type="slidenum">
              <a:rPr b="0" lang="en-US" sz="1400" spc="-1" strike="noStrike">
                <a:solidFill>
                  <a:srgbClr val="c6210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895480"/>
            <a:ext cx="9067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5d5d5"/>
                </a:solidFill>
                <a:latin typeface="Arial"/>
              </a:rPr>
              <a:t>献给老婆通用</a:t>
            </a:r>
            <a:r>
              <a:rPr b="1" lang="en-US" sz="4000" spc="-1" strike="noStrike">
                <a:solidFill>
                  <a:srgbClr val="d5d5d5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d5d5d5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62106"/>
              </a:solidFill>
              <a:latin typeface="Arial"/>
              <a:ea typeface="黑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928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d5d5d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2106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2106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c62106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2106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2106"/>
                </a:solidFill>
                <a:latin typeface="Arial"/>
              </a:rPr>
              <a:t>默认设置：</a:t>
            </a: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首页主标题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36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）加粗；副标题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）加粗</a:t>
            </a: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62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内页标题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）加粗；内页内容文字</a:t>
            </a:r>
            <a:r>
              <a:rPr b="0" lang="en-US" sz="1800" spc="-1" strike="noStrike">
                <a:solidFill>
                  <a:srgbClr val="c62106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c62106"/>
                </a:solidFill>
                <a:latin typeface="Arial"/>
              </a:rPr>
              <a:t>号（宋体）</a:t>
            </a: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6210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0T04:30:0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