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BD4-353F-42D9-A808-F34B7CA34E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3EEF-75CA-46E5-8411-BA2FD5AE84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E9F-EAE5-4AF1-8134-0F70514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6F0-745B-4709-9395-926F3E5C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8F1-5CE4-49EB-834A-3F438847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50B-956F-4B96-93A0-3971F7A6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AB47-DA59-4CA2-8677-E08755C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D37-40CF-4188-A176-5AC3D97E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44DB-0B8B-4F7D-9E86-10D5C68D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3A97-4EFA-4738-9D2D-033EA629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FAE4-F039-488F-B5C6-2717CD16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B72-2869-4068-90CB-6BA3EC4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3C0-2B55-4E20-802A-0BFAAED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A7D-67E4-44DB-99AE-E6BBC36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0C71-E8E1-4DE1-AE63-FC99D38D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20B3-8920-4039-B2ED-200A2A1F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CC4-CB50-44E2-89A4-E13D4B92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8420-22CC-4C89-9576-454FCA6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488-4A0F-479B-8859-81862FE1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00D-8604-4A9E-89FC-F8095790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42E-4867-44DD-9D46-87594A4F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3F4-468D-4A37-A5CF-DF9C9212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4A8-D57A-4039-99F6-5E8858D0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A2B-751F-4316-A327-D1802D2B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068-BFE8-4E0A-8B2C-9D3DEED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3B7-C8B8-4F21-A8D2-F390C14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EF8B-B960-4606-8964-3CC761931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5C3F-25AD-4E5B-8A96-B018B9568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4286160" y="2457360"/>
            <a:ext cx="3857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击添加署名或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3429000" y="1600200"/>
            <a:ext cx="4813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 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850040" y="1779480"/>
            <a:ext cx="59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西红柿蔬菜水果通用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8600" y="6689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ce14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/>
  <dc:description/>
  <cp:keywords/>
  <dc:language>en-US</dc:language>
  <cp:lastModifiedBy>王玉清</cp:lastModifiedBy>
  <dcterms:modified xsi:type="dcterms:W3CDTF">2016-03-01T07:27:05Z</dcterms:modified>
  <cp:revision>51</cp:revision>
  <dc:subject/>
  <dc:title>ppt.glzy8.com提供海量PPT模板免费下载！</dc:title>
</cp:coreProperties>
</file>