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EDE-A550-4C75-9090-68882878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4C9-318C-46AC-89B8-FA5F2733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3B8-A5F5-4D49-BD62-1A830510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1C6-7E6C-4B04-A9D5-96649CEA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C9E-7919-4683-B81D-C0B13452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E58-A746-4ABF-B500-679064FF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796-D12E-47D9-94B2-32E34D8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E69-9089-4CC1-9BBB-EA2B42A6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16E-5417-44FE-8934-03E14A05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503-6B3B-4C9F-80B7-6A480B0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2B8-806C-4101-AD2D-FB24BD97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181-DACF-4363-895D-3CC96ACE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D:\Documents and Settings\Administrator\桌面\20\06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F4E8-0513-402C-9E55-7E90BE4BC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写字楼间的阳光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1:45:22Z</dcterms:created>
  <dc:creator>ppt宝藏</dc:creator>
  <dc:description/>
  <dc:language>en-US</dc:language>
  <cp:lastModifiedBy>a</cp:lastModifiedBy>
  <dcterms:modified xsi:type="dcterms:W3CDTF">2015-07-25T07:08:22Z</dcterms:modified>
  <cp:revision>8</cp:revision>
  <dc:subject/>
  <dc:title>www.pptbz.com</dc:title>
</cp:coreProperties>
</file>