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DF9C-5D09-4EA3-8F2A-88DABD46B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D6F1-9336-4A07-9C22-755B031C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80BE-9F3E-4DA5-91B4-3E0CD4116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1E26-EB46-4403-B9AB-03B7AD59F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05572-BEEF-4B8E-A5C2-DBA477866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588CF-9C33-47EC-A2AD-3E150B01A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1B1B0-9A2F-4DA1-9EE9-33DDA472E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0AF13-3265-457A-BA7E-4E9647968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932C9-B256-48CA-A7CA-040118850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D7E98-1688-4A37-BF8C-5E990DCEC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7A483-5641-45B2-955F-A7EC6D4C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AAD3-ED88-460A-829D-9BCC2A4D4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4BCED-9BFE-4EB8-83AF-83563F03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25699-2A69-48C3-B8CE-93F32A2B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1DB93-C8C5-43DA-9DEB-A25E20A85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DD8E6-8B0F-459F-9310-96D4FBAB3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C5E4E-A5D2-4545-A9E0-E989DE780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D571-10DF-4700-B414-9F42D9ED1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C1D1-7010-45BE-B205-CE3272783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F096-3262-45A1-BA17-0C272F54D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259F-4DEC-4010-A787-ACE5A8383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A5B2-0E58-4E5B-8D9F-C6B55EBD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D4C4-70CC-42A6-B0F5-81AA75B9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C478-6B9E-4C14-BA6C-ABE93378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960"/>
            <a:ext cx="2966400" cy="3296880"/>
            <a:chOff x="6273360" y="-21960"/>
            <a:chExt cx="2966400" cy="329688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5120" cy="753840"/>
              <a:chOff x="7566840" y="2500200"/>
              <a:chExt cx="100512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4760" cy="753840"/>
              <a:chOff x="6328800" y="0"/>
              <a:chExt cx="100476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52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960"/>
              <a:ext cx="2966400" cy="3296880"/>
              <a:chOff x="6273360" y="-21960"/>
              <a:chExt cx="2966400" cy="32968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320" cy="1104480"/>
                <a:chOff x="6990840" y="402840"/>
                <a:chExt cx="149832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32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960"/>
                <a:ext cx="2867400" cy="2269440"/>
                <a:chOff x="6273360" y="-21960"/>
                <a:chExt cx="2867400" cy="226944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3960" y="843120"/>
                  <a:ext cx="1064880" cy="1141200"/>
                  <a:chOff x="7833960" y="843120"/>
                  <a:chExt cx="1064880" cy="114120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160" y="1133280"/>
                    <a:ext cx="8856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200" y="1600560"/>
                    <a:ext cx="47520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6120" cy="1053000"/>
                  <a:chOff x="7844760" y="770760"/>
                  <a:chExt cx="1266120" cy="105300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560" y="142560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440" cy="828720"/>
                  <a:chOff x="7840440" y="735480"/>
                  <a:chExt cx="128844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200" y="92520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128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600"/>
                  <a:chOff x="7837200" y="695880"/>
                  <a:chExt cx="1303560" cy="66960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2920" cy="417600"/>
                  <a:chOff x="7852680" y="657720"/>
                  <a:chExt cx="1222920" cy="41760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4960" y="796680"/>
                    <a:ext cx="42552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400" y="632880"/>
                  <a:ext cx="1107000" cy="184320"/>
                  <a:chOff x="7871400" y="632880"/>
                  <a:chExt cx="110700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48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160" cy="326880"/>
                  <a:chOff x="7845480" y="419760"/>
                  <a:chExt cx="98316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600" y="906120"/>
                  <a:ext cx="1065240" cy="1140840"/>
                  <a:chOff x="6537600" y="906120"/>
                  <a:chExt cx="10652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680" y="119664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5960" y="1663920"/>
                    <a:ext cx="47484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680"/>
                  <a:ext cx="1303200" cy="668160"/>
                  <a:chOff x="6273360" y="787680"/>
                  <a:chExt cx="1303200" cy="66816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0400" y="916200"/>
                    <a:ext cx="86004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120"/>
                  <a:ext cx="902520" cy="627480"/>
                  <a:chOff x="6751800" y="222120"/>
                  <a:chExt cx="902520" cy="6274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400" y="572760"/>
                    <a:ext cx="6336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880" y="302040"/>
                    <a:ext cx="34020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2160" y="15840"/>
                  <a:ext cx="607320" cy="784800"/>
                  <a:chOff x="7112160" y="15840"/>
                  <a:chExt cx="60732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38880" y="476280"/>
                    <a:ext cx="5655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4320" y="103680"/>
                    <a:ext cx="303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960"/>
                  <a:ext cx="466200" cy="810000"/>
                  <a:chOff x="7287840" y="-21960"/>
                  <a:chExt cx="466200" cy="8100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1400" y="458640"/>
                    <a:ext cx="5450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5240" y="58680"/>
                    <a:ext cx="29268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2920" y="272160"/>
                  <a:ext cx="964080" cy="462960"/>
                  <a:chOff x="7792920" y="272160"/>
                  <a:chExt cx="96408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400" y="509760"/>
                    <a:ext cx="63252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480" cy="604800"/>
                  <a:chOff x="7737840" y="136080"/>
                  <a:chExt cx="91548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288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2960" y="213120"/>
                    <a:ext cx="33984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6360" y="482400"/>
                  <a:ext cx="527040" cy="7488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840" y="-11160"/>
                  <a:ext cx="496800" cy="790920"/>
                  <a:chOff x="7665840" y="-11160"/>
                  <a:chExt cx="49680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4240" y="466920"/>
                    <a:ext cx="543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120"/>
                    <a:ext cx="291600" cy="148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160"/>
                  <a:ext cx="785880" cy="747720"/>
                  <a:chOff x="7662600" y="38160"/>
                  <a:chExt cx="785880" cy="74772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0840" y="454320"/>
                    <a:ext cx="59256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080" y="119160"/>
                    <a:ext cx="317880" cy="217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280"/>
                  <a:chOff x="7708680" y="-1440"/>
                  <a:chExt cx="177840" cy="74628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480" y="478080"/>
                    <a:ext cx="48780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2200" y="98280"/>
                    <a:ext cx="26172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3680" cy="1249200"/>
                  <a:chOff x="6711120" y="929880"/>
                  <a:chExt cx="913680" cy="124920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440" y="125604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84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2320" y="1001160"/>
                  <a:ext cx="363960" cy="1218240"/>
                  <a:chOff x="7312320" y="1001160"/>
                  <a:chExt cx="363960" cy="121824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5560" y="1328040"/>
                    <a:ext cx="78588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4000" y="1876320"/>
                    <a:ext cx="421560" cy="22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000"/>
                  <a:ext cx="949680" cy="1230120"/>
                  <a:chOff x="7798680" y="909000"/>
                  <a:chExt cx="949680" cy="123012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240" y="1228320"/>
                    <a:ext cx="8856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5600" y="1747440"/>
                    <a:ext cx="47520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800" y="956160"/>
                  <a:ext cx="732600" cy="1262160"/>
                  <a:chOff x="7786800" y="956160"/>
                  <a:chExt cx="732600" cy="126216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7320" y="1289880"/>
                    <a:ext cx="84672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79840" y="1839960"/>
                    <a:ext cx="453960" cy="24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560" y="1005120"/>
                  <a:ext cx="510840" cy="1242360"/>
                  <a:chOff x="7756560" y="1005120"/>
                  <a:chExt cx="510840" cy="124236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240" y="1351440"/>
                    <a:ext cx="82224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100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5400" cy="1131840"/>
                  <a:chOff x="7500960" y="1077480"/>
                  <a:chExt cx="2754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0960" y="1401840"/>
                    <a:ext cx="738720" cy="9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000" y="1928520"/>
                    <a:ext cx="39636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600" y="911880"/>
                <a:ext cx="218052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68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0520" y="5994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480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52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0760" y="1101960"/>
                <a:ext cx="22644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240" y="457920"/>
                <a:ext cx="3567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769DA-FA71-47AE-82E1-59237472573B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160"/>
            <a:ext cx="7128000" cy="7923600"/>
            <a:chOff x="2010960" y="24516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200"/>
              <a:chOff x="3483000" y="954000"/>
              <a:chExt cx="946080" cy="70920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960"/>
                <a:ext cx="227880" cy="1328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160"/>
              <a:ext cx="7128000" cy="7706520"/>
              <a:chOff x="2010960" y="245160"/>
              <a:chExt cx="7128000" cy="770652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160"/>
                <a:ext cx="6891120" cy="5452200"/>
                <a:chOff x="2010960" y="24516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160"/>
                  <a:ext cx="6891120" cy="5452200"/>
                  <a:chOff x="2010960" y="24516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2360"/>
                    <a:ext cx="2559600" cy="2742840"/>
                    <a:chOff x="5761080" y="2322360"/>
                    <a:chExt cx="255960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3600" y="3020400"/>
                      <a:ext cx="21283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2680" y="4143600"/>
                      <a:ext cx="114192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920" cy="2529720"/>
                    <a:chOff x="5787720" y="2148480"/>
                    <a:chExt cx="304092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440" y="3721680"/>
                      <a:ext cx="1200960" cy="67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5840" y="2065320"/>
                    <a:ext cx="3096720" cy="1992600"/>
                    <a:chOff x="5775840" y="2065320"/>
                    <a:chExt cx="309672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7760"/>
                    <a:chOff x="5768280" y="1970280"/>
                    <a:chExt cx="3133800" cy="160776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380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7080" y="2212920"/>
                      <a:ext cx="102312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3760" cy="787320"/>
                    <a:chOff x="5788440" y="1303920"/>
                    <a:chExt cx="236376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000" y="2474640"/>
                    <a:ext cx="2558160" cy="2741040"/>
                    <a:chOff x="2646000" y="2474640"/>
                    <a:chExt cx="255816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3320" y="3172680"/>
                      <a:ext cx="21283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1000" y="4295520"/>
                      <a:ext cx="11415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720" cy="1992600"/>
                    <a:chOff x="2040840" y="2283480"/>
                    <a:chExt cx="309672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4720" y="2739240"/>
                      <a:ext cx="214056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520" cy="1607760"/>
                    <a:chOff x="2010960" y="2188440"/>
                    <a:chExt cx="313452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4680" y="249768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280"/>
                      <a:ext cx="1730880" cy="26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960"/>
                    <a:ext cx="2325240" cy="1083960"/>
                    <a:chOff x="2887200" y="1236960"/>
                    <a:chExt cx="2325240" cy="108396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720" y="1370520"/>
                      <a:ext cx="81612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6520" y="1022760"/>
                      <a:ext cx="81612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600" y="335520"/>
                    <a:ext cx="1462320" cy="1886040"/>
                    <a:chOff x="4026600" y="335520"/>
                    <a:chExt cx="1462320" cy="188604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5480" y="1441800"/>
                      <a:ext cx="1359000" cy="26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000" y="546840"/>
                      <a:ext cx="73008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7800" y="245160"/>
                    <a:ext cx="1122480" cy="1946880"/>
                    <a:chOff x="4447800" y="245160"/>
                    <a:chExt cx="1122480" cy="194688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3280" y="1399680"/>
                      <a:ext cx="1310400" cy="26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39560"/>
                      <a:ext cx="704160" cy="418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2800" y="14626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1240" y="534960"/>
                    <a:ext cx="68040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6440" y="270000"/>
                    <a:ext cx="1195200" cy="1901160"/>
                    <a:chOff x="5356440" y="270000"/>
                    <a:chExt cx="119520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8600" y="1419120"/>
                      <a:ext cx="1306800" cy="22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7800" y="484200"/>
                      <a:ext cx="701280" cy="35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800" y="388080"/>
                    <a:ext cx="1891080" cy="1798200"/>
                    <a:chOff x="5347800" y="388080"/>
                    <a:chExt cx="1891080" cy="179820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8080" y="1388880"/>
                      <a:ext cx="1424160" cy="33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3320" y="583560"/>
                      <a:ext cx="764280" cy="522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3040"/>
                    <a:ext cx="427680" cy="1794960"/>
                    <a:chOff x="5458320" y="293040"/>
                    <a:chExt cx="427680" cy="179496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960" y="1446840"/>
                      <a:ext cx="117360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3200" y="533520"/>
                      <a:ext cx="63000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6000" cy="3002760"/>
                    <a:chOff x="3062880" y="2530440"/>
                    <a:chExt cx="2196000" cy="300276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18560" y="3314880"/>
                      <a:ext cx="21279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1080"/>
                      <a:ext cx="11415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8640" y="2703240"/>
                    <a:ext cx="874800" cy="2927520"/>
                    <a:chOff x="450864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4920" y="3489120"/>
                      <a:ext cx="1888920" cy="34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8600" y="4806360"/>
                      <a:ext cx="1013400" cy="54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7200" y="2482920"/>
                    <a:ext cx="2281680" cy="2953800"/>
                    <a:chOff x="5677200" y="2482920"/>
                    <a:chExt cx="228168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120" y="3250440"/>
                      <a:ext cx="212796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799680" y="4496760"/>
                      <a:ext cx="114192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7880" cy="3033000"/>
                    <a:chOff x="5648400" y="2593440"/>
                    <a:chExt cx="1757880" cy="303300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720" y="3395520"/>
                      <a:ext cx="2034360" cy="36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0760" y="4718160"/>
                      <a:ext cx="1091160" cy="58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5680" y="2710800"/>
                    <a:ext cx="1225800" cy="2986560"/>
                    <a:chOff x="5575680" y="2710800"/>
                    <a:chExt cx="1225800" cy="298656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5400" y="3544200"/>
                      <a:ext cx="19764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000" y="4880880"/>
                      <a:ext cx="106020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7560"/>
                    <a:ext cx="663120" cy="2717280"/>
                    <a:chOff x="4961160" y="2887560"/>
                    <a:chExt cx="663120" cy="271728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0240" y="3665880"/>
                      <a:ext cx="177444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560" y="4930920"/>
                      <a:ext cx="95184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9120"/>
                <a:chOff x="2175120" y="682560"/>
                <a:chExt cx="6963840" cy="726912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9120"/>
                  <a:chOff x="2175120" y="682560"/>
                  <a:chExt cx="6963840" cy="726912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88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40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640" y="2181240"/>
                  <a:ext cx="54468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440"/>
              <a:ext cx="6410160" cy="7456320"/>
              <a:chOff x="2342880" y="71244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24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24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184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000"/>
                <a:ext cx="36730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280"/>
                <a:ext cx="5824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60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36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768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472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788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60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60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44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388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3ECCE-007D-43FD-B136-D995DEEB175F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Black"/>
                <a:ea typeface="宋体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  <a:ea typeface="宋体"/>
              </a:rPr>
              <a:t>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"/>
          <p:cNvSpPr/>
          <p:nvPr/>
        </p:nvSpPr>
        <p:spPr>
          <a:xfrm>
            <a:off x="66600" y="63831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690200" y="293760"/>
            <a:ext cx="31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烟花爆竹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宋体"/>
              </a:rPr>
              <a:t>素材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Black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 Black"/>
              </a:rPr>
              <a:t>：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 Black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 Black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 Black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 Black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 Black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 Black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 Black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 Black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 Black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 Black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 Black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 Black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 Black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 Black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 Black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 Black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 Black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 Black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33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33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 Black"/>
              </a:rPr>
              <a:t>特别说明：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 Black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 Black"/>
              </a:rPr>
              <a:t>：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33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ff33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33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ff33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ff33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33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ff33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33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ff33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33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ff33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33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ff33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33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ff33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33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33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33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33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cc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6702-7595-49F7-83B0-CAAA49C85B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1T12:02:33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7:39:31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4</vt:r8>
  </property>
</Properties>
</file>