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93B-5BA4-44ED-8099-155F670F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7A9-008E-43B9-8F17-20A3F8E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3B9-B8AA-45DC-8530-60014FA1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E54-E339-468B-9B15-9760B9E7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7B0-8F2A-4E00-AA03-D222E53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92C-1C10-4FEB-9FD9-1E8A2B32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3D3-53DD-4F7C-96FD-59D7A007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8AA-4C28-4FDF-A9EC-DE65E3B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292-2675-498A-AFCB-0695E96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126-0DD7-4016-952C-7401A7C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62F-77E4-4F60-9A3E-7295725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970-18F7-41E8-9B72-44074744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D002-65E6-44C5-8D28-214C271A3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2613960" y="191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浴火迈克通用</a:t>
            </a:r>
            <a:r>
              <a:rPr b="0" lang="en-US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6:33:27Z</dcterms:created>
  <dc:creator>User</dc:creator>
  <dc:description/>
  <dc:language>en-US</dc:language>
  <cp:lastModifiedBy>王玉清</cp:lastModifiedBy>
  <dcterms:modified xsi:type="dcterms:W3CDTF">2016-02-21T07:19:29Z</dcterms:modified>
  <cp:revision>2</cp:revision>
  <dc:subject/>
  <dc:title>幻灯片 1</dc:title>
</cp:coreProperties>
</file>