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24BAF-B51D-411E-B5D8-520F2FD5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FBD33-97B8-4848-8D35-4EABD5EB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B7204-1855-49A2-A3B6-8A1F0683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83AD0-5971-4859-AE52-C1F01B77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67A5C-C81D-4487-B95F-F86673D6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09F21-AE31-4428-8CBA-50B10F0D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84768-98FB-4141-8B0C-E850D56E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8CAAB-3E5E-421D-B286-2778EA7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01FAE-7E4F-4D46-9B4D-1542D772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F1DDD-CB8D-4D99-B02A-6AF44401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4CA48-7532-4519-8286-E27C6524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E9FF2-F18C-4979-BCA7-E9479BA4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920000" y="6578640"/>
            <a:ext cx="1332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飞守角制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237D-1207-4090-9304-C3C4908D0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859040" y="3149640"/>
            <a:ext cx="667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汉仪中圆简"/>
                <a:ea typeface="汉仪中圆简"/>
              </a:rPr>
              <a:t>植物通用</a:t>
            </a:r>
            <a:r>
              <a:rPr b="0" lang="en-US" sz="4000" spc="-1" strike="noStrike">
                <a:solidFill>
                  <a:srgbClr val="ffc000"/>
                </a:solidFill>
                <a:latin typeface="汉仪中圆简"/>
                <a:ea typeface="汉仪中圆简"/>
              </a:rPr>
              <a:t>PPT</a:t>
            </a:r>
            <a:r>
              <a:rPr b="0" lang="zh-CN" sz="4000" spc="-1" strike="noStrike">
                <a:solidFill>
                  <a:srgbClr val="ffc000"/>
                </a:solidFill>
                <a:latin typeface="汉仪中圆简"/>
                <a:ea typeface="汉仪中圆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3"/>
          <p:cNvSpPr/>
          <p:nvPr/>
        </p:nvSpPr>
        <p:spPr>
          <a:xfrm>
            <a:off x="7920000" y="6578640"/>
            <a:ext cx="1332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小飞守角制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10:14Z</dcterms:created>
  <dc:creator>微软用户</dc:creator>
  <dc:description/>
  <dc:language>en-US</dc:language>
  <cp:lastModifiedBy>王玉清</cp:lastModifiedBy>
  <dcterms:modified xsi:type="dcterms:W3CDTF">2016-02-22T03:36:4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