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808080"/>
                </a:solidFill>
                <a:latin typeface="微软雅黑"/>
                <a:ea typeface="微软雅黑"/>
              </a:defRPr>
            </a:pPr>
            <a:r>
              <a:rPr b="1" sz="2160" spc="-1" strike="noStrike">
                <a:solidFill>
                  <a:srgbClr val="808080"/>
                </a:solidFill>
                <a:latin typeface="微软雅黑"/>
                <a:ea typeface="微软雅黑"/>
              </a:rPr>
              <a:t>销售额</a:t>
            </a:r>
          </a:p>
        </c:rich>
      </c:tx>
      <c:layout>
        <c:manualLayout>
          <c:xMode val="edge"/>
          <c:yMode val="edge"/>
          <c:x val="0.0845390845390845"/>
          <c:y val="0.02402402402402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02921102921103"/>
          <c:y val="0.236281736281736"/>
          <c:w val="0.448175448175448"/>
          <c:h val="0.672126672126672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3aee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80808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</c:v>
                </c:pt>
                <c:pt idx="1">
                  <c:v>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808080"/>
              </a:solidFill>
              <a:latin typeface="微软雅黑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4EF-A495-44D1-BDDA-87D2E74C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AEF-33DF-47F3-8E07-FF135769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E9D-2413-4B98-AF32-ADBC8648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1F3-42D1-4DF1-8781-F3CE6594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827-CE75-4ACA-85D4-A322887C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A8E-416B-4A62-9C04-A3DA11D1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63F-A721-4C61-A5A5-34403556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544-8272-4DAC-9E01-525673A0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C99-A72D-4F4D-A81A-927E46D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4BD-19EE-45BB-8649-02F6C783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4DD-4793-4C9B-93F7-561B8E6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600-B536-4D95-8471-4150DB9D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FA6638-DF68-46AC-86B5-EF230E4C078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5"/>
          <p:cNvSpPr/>
          <p:nvPr/>
        </p:nvSpPr>
        <p:spPr>
          <a:xfrm>
            <a:off x="2349360" y="4923720"/>
            <a:ext cx="612360" cy="431280"/>
          </a:xfrm>
          <a:custGeom>
            <a:avLst/>
            <a:gdLst>
              <a:gd name="textAreaLeft" fmla="*/ 0 w 612360"/>
              <a:gd name="textAreaRight" fmla="*/ 612720 w 612360"/>
              <a:gd name="textAreaTop" fmla="*/ 0 h 431280"/>
              <a:gd name="textAreaBottom" fmla="*/ 431640 h 431280"/>
            </a:gdLst>
            <a:ahLst/>
            <a:rect l="textAreaLeft" t="textAreaTop" r="textAreaRight" b="textAreaBottom"/>
            <a:pathLst>
              <a:path w="612777" h="431801">
                <a:moveTo>
                  <a:pt x="0" y="5557"/>
                </a:moveTo>
                <a:lnTo>
                  <a:pt x="492125" y="0"/>
                </a:lnTo>
                <a:lnTo>
                  <a:pt x="612777" y="431801"/>
                </a:lnTo>
                <a:lnTo>
                  <a:pt x="0" y="5557"/>
                </a:lnTo>
                <a:close/>
              </a:path>
            </a:pathLst>
          </a:custGeom>
          <a:solidFill>
            <a:srgbClr val="6a89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等腰三角形 5"/>
          <p:cNvSpPr/>
          <p:nvPr/>
        </p:nvSpPr>
        <p:spPr>
          <a:xfrm>
            <a:off x="9825120" y="5785920"/>
            <a:ext cx="1013400" cy="851400"/>
          </a:xfrm>
          <a:custGeom>
            <a:avLst/>
            <a:gdLst>
              <a:gd name="textAreaLeft" fmla="*/ 0 w 1013400"/>
              <a:gd name="textAreaRight" fmla="*/ 1013760 w 1013400"/>
              <a:gd name="textAreaTop" fmla="*/ 0 h 851400"/>
              <a:gd name="textAreaBottom" fmla="*/ 851760 h 851400"/>
            </a:gdLst>
            <a:ahLst/>
            <a:rect l="textAreaLeft" t="textAreaTop" r="textAreaRight" b="textAreaBottom"/>
            <a:pathLst>
              <a:path w="1013621" h="851693">
                <a:moveTo>
                  <a:pt x="306389" y="0"/>
                </a:moveTo>
                <a:lnTo>
                  <a:pt x="1013621" y="155573"/>
                </a:lnTo>
                <a:lnTo>
                  <a:pt x="195265" y="851693"/>
                </a:lnTo>
                <a:lnTo>
                  <a:pt x="0" y="629042"/>
                </a:lnTo>
                <a:lnTo>
                  <a:pt x="306389" y="0"/>
                </a:lnTo>
                <a:close/>
              </a:path>
            </a:pathLst>
          </a:custGeom>
          <a:solidFill>
            <a:srgbClr val="1d8a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等腰三角形 5"/>
          <p:cNvSpPr/>
          <p:nvPr/>
        </p:nvSpPr>
        <p:spPr>
          <a:xfrm>
            <a:off x="9242280" y="5166000"/>
            <a:ext cx="1596600" cy="776880"/>
          </a:xfrm>
          <a:custGeom>
            <a:avLst/>
            <a:gdLst>
              <a:gd name="textAreaLeft" fmla="*/ 0 w 1596600"/>
              <a:gd name="textAreaRight" fmla="*/ 1596960 w 1596600"/>
              <a:gd name="textAreaTop" fmla="*/ 0 h 776880"/>
              <a:gd name="textAreaBottom" fmla="*/ 777240 h 776880"/>
            </a:gdLst>
            <a:ahLst/>
            <a:rect l="textAreaLeft" t="textAreaTop" r="textAreaRight" b="textAreaBottom"/>
            <a:pathLst>
              <a:path w="1597026" h="777083">
                <a:moveTo>
                  <a:pt x="0" y="636589"/>
                </a:moveTo>
                <a:lnTo>
                  <a:pt x="1529557" y="0"/>
                </a:lnTo>
                <a:lnTo>
                  <a:pt x="1597026" y="777083"/>
                </a:lnTo>
                <a:lnTo>
                  <a:pt x="0" y="636589"/>
                </a:lnTo>
                <a:close/>
              </a:path>
            </a:pathLst>
          </a:custGeom>
          <a:solidFill>
            <a:srgbClr val="3bc5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1285920" y="1957320"/>
            <a:ext cx="10200960" cy="2971440"/>
          </a:xfrm>
          <a:custGeom>
            <a:avLst/>
            <a:gdLst>
              <a:gd name="textAreaLeft" fmla="*/ 0 w 10200960"/>
              <a:gd name="textAreaRight" fmla="*/ 10201320 w 10200960"/>
              <a:gd name="textAreaTop" fmla="*/ 0 h 2971440"/>
              <a:gd name="textAreaBottom" fmla="*/ 2971800 h 2971440"/>
            </a:gdLst>
            <a:ahLst/>
            <a:rect l="textAreaLeft" t="textAreaTop" r="textAreaRight" b="textAreaBottom"/>
            <a:pathLst>
              <a:path w="10201274" h="2971800">
                <a:moveTo>
                  <a:pt x="0" y="0"/>
                </a:moveTo>
                <a:lnTo>
                  <a:pt x="9744074" y="0"/>
                </a:lnTo>
                <a:lnTo>
                  <a:pt x="10201274" y="2957513"/>
                </a:lnTo>
                <a:lnTo>
                  <a:pt x="0" y="2971800"/>
                </a:lnTo>
                <a:lnTo>
                  <a:pt x="0" y="0"/>
                </a:lnTo>
                <a:close/>
              </a:path>
            </a:pathLst>
          </a:custGeom>
          <a:solidFill>
            <a:srgbClr val="3bc5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等腰三角形 5"/>
          <p:cNvSpPr/>
          <p:nvPr/>
        </p:nvSpPr>
        <p:spPr>
          <a:xfrm>
            <a:off x="1549440" y="1515960"/>
            <a:ext cx="436320" cy="441000"/>
          </a:xfrm>
          <a:custGeom>
            <a:avLst/>
            <a:gdLst>
              <a:gd name="textAreaLeft" fmla="*/ 0 w 436320"/>
              <a:gd name="textAreaRight" fmla="*/ 436680 w 43632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436564" h="441326">
                <a:moveTo>
                  <a:pt x="0" y="441326"/>
                </a:moveTo>
                <a:lnTo>
                  <a:pt x="304007" y="0"/>
                </a:lnTo>
                <a:lnTo>
                  <a:pt x="436564" y="441326"/>
                </a:lnTo>
                <a:lnTo>
                  <a:pt x="0" y="441326"/>
                </a:lnTo>
                <a:close/>
              </a:path>
            </a:pathLst>
          </a:custGeom>
          <a:solidFill>
            <a:srgbClr val="6a89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等腰三角形 5"/>
          <p:cNvSpPr/>
          <p:nvPr/>
        </p:nvSpPr>
        <p:spPr>
          <a:xfrm>
            <a:off x="9256680" y="4907520"/>
            <a:ext cx="2234160" cy="886320"/>
          </a:xfrm>
          <a:custGeom>
            <a:avLst/>
            <a:gdLst>
              <a:gd name="textAreaLeft" fmla="*/ 0 w 2234160"/>
              <a:gd name="textAreaRight" fmla="*/ 2234520 w 2234160"/>
              <a:gd name="textAreaTop" fmla="*/ 0 h 886320"/>
              <a:gd name="textAreaBottom" fmla="*/ 886680 h 886320"/>
            </a:gdLst>
            <a:ahLst/>
            <a:rect l="textAreaLeft" t="textAreaTop" r="textAreaRight" b="textAreaBottom"/>
            <a:pathLst>
              <a:path w="2234406" h="886621">
                <a:moveTo>
                  <a:pt x="168274" y="3177"/>
                </a:moveTo>
                <a:lnTo>
                  <a:pt x="2234406" y="0"/>
                </a:lnTo>
                <a:lnTo>
                  <a:pt x="0" y="886621"/>
                </a:lnTo>
                <a:lnTo>
                  <a:pt x="168274" y="3177"/>
                </a:lnTo>
                <a:close/>
              </a:path>
            </a:pathLst>
          </a:custGeom>
          <a:solidFill>
            <a:srgbClr val="1d8a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1852560" y="1522440"/>
            <a:ext cx="3271320" cy="3843000"/>
          </a:xfrm>
          <a:custGeom>
            <a:avLst/>
            <a:gdLst>
              <a:gd name="textAreaLeft" fmla="*/ 0 w 3271320"/>
              <a:gd name="textAreaRight" fmla="*/ 3271680 w 3271320"/>
              <a:gd name="textAreaTop" fmla="*/ 0 h 3843000"/>
              <a:gd name="textAreaBottom" fmla="*/ 3843360 h 3843000"/>
            </a:gdLst>
            <a:ahLst/>
            <a:rect l="textAreaLeft" t="textAreaTop" r="textAreaRight" b="textAreaBottom"/>
            <a:pathLst>
              <a:path w="3271838" h="3843338">
                <a:moveTo>
                  <a:pt x="0" y="0"/>
                </a:moveTo>
                <a:lnTo>
                  <a:pt x="3271838" y="400050"/>
                </a:lnTo>
                <a:lnTo>
                  <a:pt x="2586037" y="3843338"/>
                </a:lnTo>
                <a:lnTo>
                  <a:pt x="1109663" y="3833812"/>
                </a:lnTo>
                <a:lnTo>
                  <a:pt x="0" y="0"/>
                </a:lnTo>
                <a:close/>
              </a:path>
            </a:pathLst>
          </a:custGeom>
          <a:solidFill>
            <a:srgbClr val="aeea01"/>
          </a:solidFill>
          <a:ln>
            <a:solidFill>
              <a:srgbClr val="aeea0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等腰三角形 5"/>
          <p:cNvSpPr/>
          <p:nvPr/>
        </p:nvSpPr>
        <p:spPr>
          <a:xfrm>
            <a:off x="9561960" y="6377040"/>
            <a:ext cx="718920" cy="484560"/>
          </a:xfrm>
          <a:custGeom>
            <a:avLst/>
            <a:gdLst>
              <a:gd name="textAreaLeft" fmla="*/ 0 w 718920"/>
              <a:gd name="textAreaRight" fmla="*/ 719280 w 718920"/>
              <a:gd name="textAreaTop" fmla="*/ 0 h 484560"/>
              <a:gd name="textAreaBottom" fmla="*/ 484920 h 484560"/>
            </a:gdLst>
            <a:ahLst/>
            <a:rect l="textAreaLeft" t="textAreaTop" r="textAreaRight" b="textAreaBottom"/>
            <a:pathLst>
              <a:path w="719140" h="484981">
                <a:moveTo>
                  <a:pt x="280989" y="0"/>
                </a:moveTo>
                <a:lnTo>
                  <a:pt x="719140" y="484981"/>
                </a:lnTo>
                <a:lnTo>
                  <a:pt x="0" y="484580"/>
                </a:lnTo>
                <a:lnTo>
                  <a:pt x="280989" y="0"/>
                </a:ln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文本框 27"/>
          <p:cNvSpPr/>
          <p:nvPr/>
        </p:nvSpPr>
        <p:spPr>
          <a:xfrm>
            <a:off x="2876400" y="2834280"/>
            <a:ext cx="155268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517800"/>
                </a:solidFill>
                <a:latin typeface="微软雅黑"/>
                <a:ea typeface="微软雅黑"/>
              </a:rPr>
              <a:t>从逻辑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517800"/>
                </a:solidFill>
                <a:latin typeface="微软雅黑"/>
                <a:ea typeface="微软雅黑"/>
              </a:rPr>
              <a:t>到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1"/>
          <p:cNvSpPr/>
          <p:nvPr/>
        </p:nvSpPr>
        <p:spPr>
          <a:xfrm>
            <a:off x="7531560" y="3754080"/>
            <a:ext cx="300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著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宅和人  译：郭菀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2"/>
          <p:cNvSpPr/>
          <p:nvPr/>
        </p:nvSpPr>
        <p:spPr>
          <a:xfrm>
            <a:off x="8097480" y="4201200"/>
            <a:ext cx="2675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万管家爱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3794040" y="218124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折纸风微粒体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1"/>
          <p:cNvGrpSpPr/>
          <p:nvPr/>
        </p:nvGrpSpPr>
        <p:grpSpPr>
          <a:xfrm>
            <a:off x="6095880" y="232200"/>
            <a:ext cx="5770800" cy="1083600"/>
            <a:chOff x="6095880" y="232200"/>
            <a:chExt cx="5770800" cy="1083600"/>
          </a:xfrm>
        </p:grpSpPr>
        <p:sp>
          <p:nvSpPr>
            <p:cNvPr id="186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矩形 4"/>
            <p:cNvSpPr/>
            <p:nvPr/>
          </p:nvSpPr>
          <p:spPr>
            <a:xfrm flipH="1">
              <a:off x="6095880" y="232200"/>
              <a:ext cx="5348160" cy="746280"/>
            </a:xfrm>
            <a:custGeom>
              <a:avLst/>
              <a:gdLst>
                <a:gd name="textAreaLeft" fmla="*/ 360 w 5348160"/>
                <a:gd name="textAreaRight" fmla="*/ 5348880 w 534816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文本框 6"/>
          <p:cNvSpPr/>
          <p:nvPr/>
        </p:nvSpPr>
        <p:spPr>
          <a:xfrm>
            <a:off x="6441840" y="296280"/>
            <a:ext cx="4902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建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分解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9"/>
          <p:cNvSpPr/>
          <p:nvPr/>
        </p:nvSpPr>
        <p:spPr>
          <a:xfrm flipH="1">
            <a:off x="1350720" y="186768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2" name="组合 37"/>
          <p:cNvGrpSpPr/>
          <p:nvPr/>
        </p:nvGrpSpPr>
        <p:grpSpPr>
          <a:xfrm>
            <a:off x="175320" y="1617480"/>
            <a:ext cx="1993680" cy="1993680"/>
            <a:chOff x="175320" y="1617480"/>
            <a:chExt cx="1993680" cy="1993680"/>
          </a:xfrm>
        </p:grpSpPr>
        <p:sp>
          <p:nvSpPr>
            <p:cNvPr id="193" name="椭圆 39"/>
            <p:cNvSpPr/>
            <p:nvPr/>
          </p:nvSpPr>
          <p:spPr>
            <a:xfrm>
              <a:off x="175320" y="161748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椭圆 40"/>
            <p:cNvSpPr/>
            <p:nvPr/>
          </p:nvSpPr>
          <p:spPr>
            <a:xfrm>
              <a:off x="367920" y="181008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5" name="文本框 38"/>
          <p:cNvSpPr/>
          <p:nvPr/>
        </p:nvSpPr>
        <p:spPr>
          <a:xfrm>
            <a:off x="745920" y="222984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5"/>
          <p:cNvSpPr/>
          <p:nvPr/>
        </p:nvSpPr>
        <p:spPr>
          <a:xfrm>
            <a:off x="654120" y="459144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文本框 34"/>
          <p:cNvSpPr/>
          <p:nvPr/>
        </p:nvSpPr>
        <p:spPr>
          <a:xfrm>
            <a:off x="2189520" y="2306160"/>
            <a:ext cx="9155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手进行分解找不到答案的议题，直到可解答的程度为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35"/>
          <p:cNvGrpSpPr/>
          <p:nvPr/>
        </p:nvGrpSpPr>
        <p:grpSpPr>
          <a:xfrm>
            <a:off x="9873000" y="4341240"/>
            <a:ext cx="1993680" cy="1993680"/>
            <a:chOff x="9873000" y="4341240"/>
            <a:chExt cx="1993680" cy="1993680"/>
          </a:xfrm>
        </p:grpSpPr>
        <p:sp>
          <p:nvSpPr>
            <p:cNvPr id="199" name="椭圆 43"/>
            <p:cNvSpPr/>
            <p:nvPr/>
          </p:nvSpPr>
          <p:spPr>
            <a:xfrm>
              <a:off x="9873000" y="434124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椭圆 44"/>
            <p:cNvSpPr/>
            <p:nvPr/>
          </p:nvSpPr>
          <p:spPr>
            <a:xfrm>
              <a:off x="10065600" y="453420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1" name="文本框 45"/>
          <p:cNvSpPr/>
          <p:nvPr/>
        </p:nvSpPr>
        <p:spPr>
          <a:xfrm>
            <a:off x="10443600" y="495360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6"/>
          <p:cNvSpPr/>
          <p:nvPr/>
        </p:nvSpPr>
        <p:spPr>
          <a:xfrm>
            <a:off x="729000" y="5029920"/>
            <a:ext cx="9155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调查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查目标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查方法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查问卷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连接符 19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1"/>
          <p:cNvGrpSpPr/>
          <p:nvPr/>
        </p:nvGrpSpPr>
        <p:grpSpPr>
          <a:xfrm>
            <a:off x="4476600" y="232200"/>
            <a:ext cx="7390080" cy="1083600"/>
            <a:chOff x="4476600" y="232200"/>
            <a:chExt cx="7390080" cy="1083600"/>
          </a:xfrm>
        </p:grpSpPr>
        <p:sp>
          <p:nvSpPr>
            <p:cNvPr id="205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矩形 4"/>
            <p:cNvSpPr/>
            <p:nvPr/>
          </p:nvSpPr>
          <p:spPr>
            <a:xfrm flipH="1">
              <a:off x="4476600" y="232200"/>
              <a:ext cx="6967440" cy="746280"/>
            </a:xfrm>
            <a:custGeom>
              <a:avLst/>
              <a:gdLst>
                <a:gd name="textAreaLeft" fmla="*/ 360 w 6967440"/>
                <a:gd name="textAreaRight" fmla="*/ 6968160 w 69674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4705200" y="296280"/>
            <a:ext cx="6620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建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编辑与组排故事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9"/>
          <p:cNvSpPr/>
          <p:nvPr/>
        </p:nvSpPr>
        <p:spPr>
          <a:xfrm flipH="1">
            <a:off x="1350720" y="186768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组合 37"/>
          <p:cNvGrpSpPr/>
          <p:nvPr/>
        </p:nvGrpSpPr>
        <p:grpSpPr>
          <a:xfrm>
            <a:off x="175320" y="1617480"/>
            <a:ext cx="1993680" cy="1993680"/>
            <a:chOff x="175320" y="1617480"/>
            <a:chExt cx="1993680" cy="1993680"/>
          </a:xfrm>
        </p:grpSpPr>
        <p:sp>
          <p:nvSpPr>
            <p:cNvPr id="212" name="椭圆 39"/>
            <p:cNvSpPr/>
            <p:nvPr/>
          </p:nvSpPr>
          <p:spPr>
            <a:xfrm>
              <a:off x="175320" y="161748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椭圆 40"/>
            <p:cNvSpPr/>
            <p:nvPr/>
          </p:nvSpPr>
          <p:spPr>
            <a:xfrm>
              <a:off x="367920" y="181008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文本框 38"/>
          <p:cNvSpPr/>
          <p:nvPr/>
        </p:nvSpPr>
        <p:spPr>
          <a:xfrm>
            <a:off x="745920" y="222984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5"/>
          <p:cNvSpPr/>
          <p:nvPr/>
        </p:nvSpPr>
        <p:spPr>
          <a:xfrm>
            <a:off x="654120" y="459144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文本框 34"/>
          <p:cNvSpPr/>
          <p:nvPr/>
        </p:nvSpPr>
        <p:spPr>
          <a:xfrm>
            <a:off x="2189520" y="2137680"/>
            <a:ext cx="9155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理由或具体的实践方法以“并列”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列出，以此支持该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35"/>
          <p:cNvGrpSpPr/>
          <p:nvPr/>
        </p:nvGrpSpPr>
        <p:grpSpPr>
          <a:xfrm>
            <a:off x="9873000" y="4341240"/>
            <a:ext cx="1993680" cy="1993680"/>
            <a:chOff x="9873000" y="4341240"/>
            <a:chExt cx="1993680" cy="1993680"/>
          </a:xfrm>
        </p:grpSpPr>
        <p:sp>
          <p:nvSpPr>
            <p:cNvPr id="218" name="椭圆 43"/>
            <p:cNvSpPr/>
            <p:nvPr/>
          </p:nvSpPr>
          <p:spPr>
            <a:xfrm>
              <a:off x="9873000" y="434124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椭圆 44"/>
            <p:cNvSpPr/>
            <p:nvPr/>
          </p:nvSpPr>
          <p:spPr>
            <a:xfrm>
              <a:off x="10065600" y="453420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0" name="文本框 45"/>
          <p:cNvSpPr/>
          <p:nvPr/>
        </p:nvSpPr>
        <p:spPr>
          <a:xfrm>
            <a:off x="10443600" y="495360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46"/>
          <p:cNvSpPr/>
          <p:nvPr/>
        </p:nvSpPr>
        <p:spPr>
          <a:xfrm>
            <a:off x="717120" y="5065920"/>
            <a:ext cx="9155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该投资项目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” =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由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+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由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+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由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7"/>
          <p:cNvGrpSpPr/>
          <p:nvPr/>
        </p:nvGrpSpPr>
        <p:grpSpPr>
          <a:xfrm>
            <a:off x="8745840" y="1482480"/>
            <a:ext cx="2253600" cy="947520"/>
            <a:chOff x="8745840" y="1482480"/>
            <a:chExt cx="2253600" cy="947520"/>
          </a:xfrm>
        </p:grpSpPr>
        <p:sp>
          <p:nvSpPr>
            <p:cNvPr id="223" name="矩形 4"/>
            <p:cNvSpPr/>
            <p:nvPr/>
          </p:nvSpPr>
          <p:spPr>
            <a:xfrm>
              <a:off x="8745840" y="1482480"/>
              <a:ext cx="2253600" cy="394920"/>
            </a:xfrm>
            <a:custGeom>
              <a:avLst/>
              <a:gdLst>
                <a:gd name="textAreaLeft" fmla="*/ 0 w 2253600"/>
                <a:gd name="textAreaRight" fmla="*/ 2253960 w 225360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1569241" h="395287">
                  <a:moveTo>
                    <a:pt x="214312" y="128587"/>
                  </a:moveTo>
                  <a:lnTo>
                    <a:pt x="1414462" y="0"/>
                  </a:lnTo>
                  <a:lnTo>
                    <a:pt x="1569241" y="395287"/>
                  </a:lnTo>
                  <a:lnTo>
                    <a:pt x="0" y="395286"/>
                  </a:lnTo>
                  <a:lnTo>
                    <a:pt x="214312" y="128587"/>
                  </a:lnTo>
                  <a:close/>
                </a:path>
              </a:pathLst>
            </a:custGeom>
            <a:solidFill>
              <a:srgbClr val="64880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矩形 2"/>
            <p:cNvSpPr/>
            <p:nvPr/>
          </p:nvSpPr>
          <p:spPr>
            <a:xfrm>
              <a:off x="9020520" y="1485000"/>
              <a:ext cx="1750320" cy="945000"/>
            </a:xfrm>
            <a:custGeom>
              <a:avLst/>
              <a:gdLst>
                <a:gd name="textAreaLeft" fmla="*/ 0 w 1750320"/>
                <a:gd name="textAreaRight" fmla="*/ 1750680 w 175032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1141066" h="945355">
                  <a:moveTo>
                    <a:pt x="21517" y="121443"/>
                  </a:moveTo>
                  <a:lnTo>
                    <a:pt x="1141066" y="0"/>
                  </a:lnTo>
                  <a:lnTo>
                    <a:pt x="1038225" y="945355"/>
                  </a:lnTo>
                  <a:lnTo>
                    <a:pt x="0" y="835817"/>
                  </a:lnTo>
                  <a:lnTo>
                    <a:pt x="21517" y="121443"/>
                  </a:lnTo>
                  <a:close/>
                </a:path>
              </a:pathLst>
            </a:custGeom>
            <a:solidFill>
              <a:srgbClr val="abe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5" name="文本框 8"/>
          <p:cNvSpPr/>
          <p:nvPr/>
        </p:nvSpPr>
        <p:spPr>
          <a:xfrm>
            <a:off x="9305280" y="1542240"/>
            <a:ext cx="10954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模板</a:t>
            </a:r>
            <a:r>
              <a:rPr b="1" lang="en-US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并列为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直接连接符 23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1"/>
          <p:cNvGrpSpPr/>
          <p:nvPr/>
        </p:nvGrpSpPr>
        <p:grpSpPr>
          <a:xfrm>
            <a:off x="4476600" y="232200"/>
            <a:ext cx="7390080" cy="1083600"/>
            <a:chOff x="4476600" y="232200"/>
            <a:chExt cx="7390080" cy="1083600"/>
          </a:xfrm>
        </p:grpSpPr>
        <p:sp>
          <p:nvSpPr>
            <p:cNvPr id="228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矩形 4"/>
            <p:cNvSpPr/>
            <p:nvPr/>
          </p:nvSpPr>
          <p:spPr>
            <a:xfrm flipH="1">
              <a:off x="4476600" y="232200"/>
              <a:ext cx="6967440" cy="746280"/>
            </a:xfrm>
            <a:custGeom>
              <a:avLst/>
              <a:gdLst>
                <a:gd name="textAreaLeft" fmla="*/ 360 w 6967440"/>
                <a:gd name="textAreaRight" fmla="*/ 6968160 w 69674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2" name="文本框 6"/>
          <p:cNvSpPr/>
          <p:nvPr/>
        </p:nvSpPr>
        <p:spPr>
          <a:xfrm>
            <a:off x="4705200" y="296280"/>
            <a:ext cx="6620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建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编辑与组排故事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9"/>
          <p:cNvSpPr/>
          <p:nvPr/>
        </p:nvSpPr>
        <p:spPr>
          <a:xfrm flipH="1">
            <a:off x="1350720" y="1867680"/>
            <a:ext cx="10158120" cy="149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4" name="组合 37"/>
          <p:cNvGrpSpPr/>
          <p:nvPr/>
        </p:nvGrpSpPr>
        <p:grpSpPr>
          <a:xfrm>
            <a:off x="175320" y="1617480"/>
            <a:ext cx="1993680" cy="1993680"/>
            <a:chOff x="175320" y="1617480"/>
            <a:chExt cx="1993680" cy="1993680"/>
          </a:xfrm>
        </p:grpSpPr>
        <p:sp>
          <p:nvSpPr>
            <p:cNvPr id="235" name="椭圆 39"/>
            <p:cNvSpPr/>
            <p:nvPr/>
          </p:nvSpPr>
          <p:spPr>
            <a:xfrm>
              <a:off x="175320" y="1617480"/>
              <a:ext cx="1993680" cy="19936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椭圆 40"/>
            <p:cNvSpPr/>
            <p:nvPr/>
          </p:nvSpPr>
          <p:spPr>
            <a:xfrm>
              <a:off x="367920" y="1810080"/>
              <a:ext cx="1608480" cy="160848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7" name="文本框 38"/>
          <p:cNvSpPr/>
          <p:nvPr/>
        </p:nvSpPr>
        <p:spPr>
          <a:xfrm>
            <a:off x="745920" y="222984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654120" y="4042440"/>
            <a:ext cx="10158120" cy="2303640"/>
          </a:xfrm>
          <a:prstGeom prst="rect">
            <a:avLst/>
          </a:prstGeom>
          <a:solidFill>
            <a:srgbClr val="41c4e9"/>
          </a:solidFill>
          <a:ln>
            <a:noFill/>
          </a:ln>
          <a:effectLst>
            <a:innerShdw blurRad="63500" dir="18900000" dist="762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文本框 34"/>
          <p:cNvSpPr/>
          <p:nvPr/>
        </p:nvSpPr>
        <p:spPr>
          <a:xfrm>
            <a:off x="2354400" y="2152080"/>
            <a:ext cx="9155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空：确认课题      雨：深掘课题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伞：做出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35"/>
          <p:cNvGrpSpPr/>
          <p:nvPr/>
        </p:nvGrpSpPr>
        <p:grpSpPr>
          <a:xfrm>
            <a:off x="9527040" y="3824640"/>
            <a:ext cx="2577240" cy="2577240"/>
            <a:chOff x="9527040" y="3824640"/>
            <a:chExt cx="2577240" cy="2577240"/>
          </a:xfrm>
        </p:grpSpPr>
        <p:sp>
          <p:nvSpPr>
            <p:cNvPr id="241" name="椭圆 43"/>
            <p:cNvSpPr/>
            <p:nvPr/>
          </p:nvSpPr>
          <p:spPr>
            <a:xfrm>
              <a:off x="9527040" y="3824640"/>
              <a:ext cx="2577240" cy="25772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椭圆 44"/>
            <p:cNvSpPr/>
            <p:nvPr/>
          </p:nvSpPr>
          <p:spPr>
            <a:xfrm>
              <a:off x="9776160" y="4073760"/>
              <a:ext cx="2079360" cy="207936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3" name="文本框 45"/>
          <p:cNvSpPr/>
          <p:nvPr/>
        </p:nvSpPr>
        <p:spPr>
          <a:xfrm>
            <a:off x="10367640" y="4651920"/>
            <a:ext cx="1004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6"/>
          <p:cNvSpPr/>
          <p:nvPr/>
        </p:nvSpPr>
        <p:spPr>
          <a:xfrm>
            <a:off x="740160" y="4253760"/>
            <a:ext cx="91555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题为“是否该带伞出门”，通过下述流程判断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空：西边的天空好晴朗啊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雨：以现在的天空情况来看，短时间应该不会下雨吧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伞：这样的话，今天出门就不用带伞了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7"/>
          <p:cNvGrpSpPr/>
          <p:nvPr/>
        </p:nvGrpSpPr>
        <p:grpSpPr>
          <a:xfrm>
            <a:off x="8745840" y="1482480"/>
            <a:ext cx="2253600" cy="947520"/>
            <a:chOff x="8745840" y="1482480"/>
            <a:chExt cx="2253600" cy="947520"/>
          </a:xfrm>
        </p:grpSpPr>
        <p:sp>
          <p:nvSpPr>
            <p:cNvPr id="246" name="矩形 4"/>
            <p:cNvSpPr/>
            <p:nvPr/>
          </p:nvSpPr>
          <p:spPr>
            <a:xfrm>
              <a:off x="8745840" y="1482480"/>
              <a:ext cx="2253600" cy="394920"/>
            </a:xfrm>
            <a:custGeom>
              <a:avLst/>
              <a:gdLst>
                <a:gd name="textAreaLeft" fmla="*/ 0 w 2253600"/>
                <a:gd name="textAreaRight" fmla="*/ 2253960 w 225360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1569241" h="395287">
                  <a:moveTo>
                    <a:pt x="214312" y="128587"/>
                  </a:moveTo>
                  <a:lnTo>
                    <a:pt x="1414462" y="0"/>
                  </a:lnTo>
                  <a:lnTo>
                    <a:pt x="1569241" y="395287"/>
                  </a:lnTo>
                  <a:lnTo>
                    <a:pt x="0" y="395286"/>
                  </a:lnTo>
                  <a:lnTo>
                    <a:pt x="214312" y="128587"/>
                  </a:lnTo>
                  <a:close/>
                </a:path>
              </a:pathLst>
            </a:custGeom>
            <a:solidFill>
              <a:srgbClr val="64880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矩形 2"/>
            <p:cNvSpPr/>
            <p:nvPr/>
          </p:nvSpPr>
          <p:spPr>
            <a:xfrm>
              <a:off x="9020520" y="1485000"/>
              <a:ext cx="1750320" cy="945000"/>
            </a:xfrm>
            <a:custGeom>
              <a:avLst/>
              <a:gdLst>
                <a:gd name="textAreaLeft" fmla="*/ 0 w 1750320"/>
                <a:gd name="textAreaRight" fmla="*/ 1750680 w 175032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1141066" h="945355">
                  <a:moveTo>
                    <a:pt x="21517" y="121443"/>
                  </a:moveTo>
                  <a:lnTo>
                    <a:pt x="1141066" y="0"/>
                  </a:lnTo>
                  <a:lnTo>
                    <a:pt x="1038225" y="945355"/>
                  </a:lnTo>
                  <a:lnTo>
                    <a:pt x="0" y="835817"/>
                  </a:lnTo>
                  <a:lnTo>
                    <a:pt x="21517" y="121443"/>
                  </a:lnTo>
                  <a:close/>
                </a:path>
              </a:pathLst>
            </a:custGeom>
            <a:solidFill>
              <a:srgbClr val="abe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8" name="文本框 8"/>
          <p:cNvSpPr/>
          <p:nvPr/>
        </p:nvSpPr>
        <p:spPr>
          <a:xfrm>
            <a:off x="9456120" y="1542240"/>
            <a:ext cx="793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模板</a:t>
            </a:r>
            <a:r>
              <a:rPr b="1" lang="en-US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648806"/>
                </a:solidFill>
                <a:latin typeface="微软雅黑"/>
                <a:ea typeface="微软雅黑"/>
              </a:rPr>
              <a:t>空、雨、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15"/>
          <p:cNvGrpSpPr/>
          <p:nvPr/>
        </p:nvGrpSpPr>
        <p:grpSpPr>
          <a:xfrm>
            <a:off x="3501000" y="1316160"/>
            <a:ext cx="5221800" cy="4317120"/>
            <a:chOff x="3501000" y="1316160"/>
            <a:chExt cx="5221800" cy="4317120"/>
          </a:xfrm>
        </p:grpSpPr>
        <p:sp>
          <p:nvSpPr>
            <p:cNvPr id="250" name="椭圆 1"/>
            <p:cNvSpPr/>
            <p:nvPr/>
          </p:nvSpPr>
          <p:spPr>
            <a:xfrm>
              <a:off x="6921000" y="3699360"/>
              <a:ext cx="1801800" cy="180180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椭圆 2"/>
            <p:cNvSpPr/>
            <p:nvPr/>
          </p:nvSpPr>
          <p:spPr>
            <a:xfrm>
              <a:off x="3854880" y="1670040"/>
              <a:ext cx="3750480" cy="3750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3"/>
            <p:cNvSpPr/>
            <p:nvPr/>
          </p:nvSpPr>
          <p:spPr>
            <a:xfrm>
              <a:off x="3501000" y="1316160"/>
              <a:ext cx="4317120" cy="431712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椭圆 4"/>
            <p:cNvSpPr/>
            <p:nvPr/>
          </p:nvSpPr>
          <p:spPr>
            <a:xfrm>
              <a:off x="7125840" y="3904200"/>
              <a:ext cx="1473840" cy="1473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椭圆 5"/>
            <p:cNvSpPr/>
            <p:nvPr/>
          </p:nvSpPr>
          <p:spPr>
            <a:xfrm>
              <a:off x="7336800" y="4115160"/>
              <a:ext cx="1051920" cy="1051920"/>
            </a:xfrm>
            <a:prstGeom prst="ellipse">
              <a:avLst/>
            </a:prstGeom>
            <a:solidFill>
              <a:srgbClr val="43aeed"/>
            </a:solidFill>
            <a:ln w="25400"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55" name="组合 13"/>
            <p:cNvGrpSpPr/>
            <p:nvPr/>
          </p:nvGrpSpPr>
          <p:grpSpPr>
            <a:xfrm>
              <a:off x="3972240" y="2918880"/>
              <a:ext cx="3515400" cy="1257840"/>
              <a:chOff x="3972240" y="2918880"/>
              <a:chExt cx="3515400" cy="1257840"/>
            </a:xfrm>
          </p:grpSpPr>
          <p:sp>
            <p:nvSpPr>
              <p:cNvPr id="256" name="TextBox 9"/>
              <p:cNvSpPr/>
              <p:nvPr/>
            </p:nvSpPr>
            <p:spPr>
              <a:xfrm>
                <a:off x="4343400" y="2918880"/>
                <a:ext cx="2773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4400" spc="-1" strike="noStrike">
                    <a:solidFill>
                      <a:srgbClr val="43aeed"/>
                    </a:solidFill>
                    <a:latin typeface="微软雅黑"/>
                    <a:ea typeface="微软雅黑"/>
                  </a:rPr>
                  <a:t>成果思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42"/>
              <p:cNvSpPr/>
              <p:nvPr/>
            </p:nvSpPr>
            <p:spPr>
              <a:xfrm>
                <a:off x="3972240" y="3730680"/>
                <a:ext cx="3515400" cy="4460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Arial"/>
                  </a:rPr>
                  <a:t>RESULTS THINK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文本框 11"/>
            <p:cNvSpPr/>
            <p:nvPr/>
          </p:nvSpPr>
          <p:spPr>
            <a:xfrm>
              <a:off x="7484400" y="4318200"/>
              <a:ext cx="756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7"/>
          <p:cNvSpPr/>
          <p:nvPr/>
        </p:nvSpPr>
        <p:spPr>
          <a:xfrm>
            <a:off x="145080" y="61941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17"/>
          <p:cNvGrpSpPr/>
          <p:nvPr/>
        </p:nvGrpSpPr>
        <p:grpSpPr>
          <a:xfrm>
            <a:off x="7657920" y="232200"/>
            <a:ext cx="4208760" cy="1083600"/>
            <a:chOff x="7657920" y="232200"/>
            <a:chExt cx="4208760" cy="1083600"/>
          </a:xfrm>
        </p:grpSpPr>
        <p:sp>
          <p:nvSpPr>
            <p:cNvPr id="261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2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3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矩形 4"/>
            <p:cNvSpPr/>
            <p:nvPr/>
          </p:nvSpPr>
          <p:spPr>
            <a:xfrm flipH="1">
              <a:off x="7657560" y="232200"/>
              <a:ext cx="3786120" cy="746280"/>
            </a:xfrm>
            <a:custGeom>
              <a:avLst/>
              <a:gdLst>
                <a:gd name="textAreaLeft" fmla="*/ -360 w 3786120"/>
                <a:gd name="textAreaRight" fmla="*/ 3786120 w 378612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5" name="文本框 6"/>
          <p:cNvSpPr/>
          <p:nvPr/>
        </p:nvSpPr>
        <p:spPr>
          <a:xfrm>
            <a:off x="8020080" y="296280"/>
            <a:ext cx="3123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先有答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菱形 32"/>
          <p:cNvSpPr/>
          <p:nvPr/>
        </p:nvSpPr>
        <p:spPr>
          <a:xfrm rot="8097000">
            <a:off x="274320" y="75888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b8b8b8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文本框 37"/>
          <p:cNvSpPr/>
          <p:nvPr/>
        </p:nvSpPr>
        <p:spPr>
          <a:xfrm>
            <a:off x="1445760" y="3397680"/>
            <a:ext cx="3856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要只搜集那些可验证自己的假说是正确的资料，而没有验证假说是否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菱形 4"/>
          <p:cNvSpPr/>
          <p:nvPr/>
        </p:nvSpPr>
        <p:spPr>
          <a:xfrm>
            <a:off x="1180080" y="201888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文本框 38"/>
          <p:cNvSpPr/>
          <p:nvPr/>
        </p:nvSpPr>
        <p:spPr>
          <a:xfrm>
            <a:off x="1186560" y="214344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菱形 29"/>
          <p:cNvSpPr/>
          <p:nvPr/>
        </p:nvSpPr>
        <p:spPr>
          <a:xfrm rot="8097000">
            <a:off x="5703840" y="75888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ebebeb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菱形 4"/>
          <p:cNvSpPr/>
          <p:nvPr/>
        </p:nvSpPr>
        <p:spPr>
          <a:xfrm>
            <a:off x="6609240" y="201888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文本框 38"/>
          <p:cNvSpPr/>
          <p:nvPr/>
        </p:nvSpPr>
        <p:spPr>
          <a:xfrm>
            <a:off x="6615720" y="214344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39"/>
          <p:cNvSpPr/>
          <p:nvPr/>
        </p:nvSpPr>
        <p:spPr>
          <a:xfrm>
            <a:off x="6961320" y="3419280"/>
            <a:ext cx="3683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崔永元的转基因调研视频是否犯了“先入为主”和“选择性使用”材料的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直接连接符 15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组合 22"/>
          <p:cNvGrpSpPr/>
          <p:nvPr/>
        </p:nvGrpSpPr>
        <p:grpSpPr>
          <a:xfrm>
            <a:off x="6686280" y="232200"/>
            <a:ext cx="5180400" cy="1083600"/>
            <a:chOff x="6686280" y="232200"/>
            <a:chExt cx="5180400" cy="1083600"/>
          </a:xfrm>
        </p:grpSpPr>
        <p:sp>
          <p:nvSpPr>
            <p:cNvPr id="276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7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8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9" name="矩形 4"/>
            <p:cNvSpPr/>
            <p:nvPr/>
          </p:nvSpPr>
          <p:spPr>
            <a:xfrm flipH="1">
              <a:off x="6685920" y="232200"/>
              <a:ext cx="4757400" cy="746280"/>
            </a:xfrm>
            <a:custGeom>
              <a:avLst/>
              <a:gdLst>
                <a:gd name="textAreaLeft" fmla="*/ -360 w 4757400"/>
                <a:gd name="textAreaRight" fmla="*/ 4757400 w 47574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0" name="文本框 6"/>
          <p:cNvSpPr/>
          <p:nvPr/>
        </p:nvSpPr>
        <p:spPr>
          <a:xfrm>
            <a:off x="7086600" y="296280"/>
            <a:ext cx="4057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化之后再论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菱形 28"/>
          <p:cNvSpPr/>
          <p:nvPr/>
        </p:nvSpPr>
        <p:spPr>
          <a:xfrm rot="8097000">
            <a:off x="231480" y="80280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ebebeb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文本框 37"/>
          <p:cNvSpPr/>
          <p:nvPr/>
        </p:nvSpPr>
        <p:spPr>
          <a:xfrm>
            <a:off x="1530000" y="3659400"/>
            <a:ext cx="36021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对于目标对象一般理解后，再加以结构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菱形 4"/>
          <p:cNvSpPr/>
          <p:nvPr/>
        </p:nvSpPr>
        <p:spPr>
          <a:xfrm>
            <a:off x="1137240" y="206280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文本框 38"/>
          <p:cNvSpPr/>
          <p:nvPr/>
        </p:nvSpPr>
        <p:spPr>
          <a:xfrm>
            <a:off x="1143360" y="218772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菱形 36"/>
          <p:cNvSpPr/>
          <p:nvPr/>
        </p:nvSpPr>
        <p:spPr>
          <a:xfrm rot="8097000">
            <a:off x="5731200" y="80280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d9d9d9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文本框 37"/>
          <p:cNvSpPr/>
          <p:nvPr/>
        </p:nvSpPr>
        <p:spPr>
          <a:xfrm>
            <a:off x="7029720" y="3400920"/>
            <a:ext cx="36021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学习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=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基础操作能力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逻辑思维锻炼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+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设计能力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菱形 4"/>
          <p:cNvSpPr/>
          <p:nvPr/>
        </p:nvSpPr>
        <p:spPr>
          <a:xfrm>
            <a:off x="6636960" y="206280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文本框 38"/>
          <p:cNvSpPr/>
          <p:nvPr/>
        </p:nvSpPr>
        <p:spPr>
          <a:xfrm>
            <a:off x="6643440" y="218772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直接连接符 15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17"/>
          <p:cNvGrpSpPr/>
          <p:nvPr/>
        </p:nvGrpSpPr>
        <p:grpSpPr>
          <a:xfrm>
            <a:off x="6229080" y="232200"/>
            <a:ext cx="5637600" cy="1083600"/>
            <a:chOff x="6229080" y="232200"/>
            <a:chExt cx="5637600" cy="1083600"/>
          </a:xfrm>
        </p:grpSpPr>
        <p:sp>
          <p:nvSpPr>
            <p:cNvPr id="291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3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4" name="矩形 4"/>
            <p:cNvSpPr/>
            <p:nvPr/>
          </p:nvSpPr>
          <p:spPr>
            <a:xfrm flipH="1">
              <a:off x="6228720" y="232200"/>
              <a:ext cx="5214600" cy="746280"/>
            </a:xfrm>
            <a:custGeom>
              <a:avLst/>
              <a:gdLst>
                <a:gd name="textAreaLeft" fmla="*/ -360 w 5214600"/>
                <a:gd name="textAreaRight" fmla="*/ 5214600 w 52146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5" name="文本框 6"/>
          <p:cNvSpPr/>
          <p:nvPr/>
        </p:nvSpPr>
        <p:spPr>
          <a:xfrm>
            <a:off x="6580440" y="296280"/>
            <a:ext cx="456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视循环次数及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菱形 24"/>
          <p:cNvSpPr/>
          <p:nvPr/>
        </p:nvSpPr>
        <p:spPr>
          <a:xfrm rot="8097000">
            <a:off x="236160" y="79524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ffffff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文本框 37"/>
          <p:cNvSpPr/>
          <p:nvPr/>
        </p:nvSpPr>
        <p:spPr>
          <a:xfrm>
            <a:off x="1534680" y="3632760"/>
            <a:ext cx="3602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要追着数字在原地团团转，尽快整合才是重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菱形 4"/>
          <p:cNvSpPr/>
          <p:nvPr/>
        </p:nvSpPr>
        <p:spPr>
          <a:xfrm>
            <a:off x="1141920" y="205524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文本框 38"/>
          <p:cNvSpPr/>
          <p:nvPr/>
        </p:nvSpPr>
        <p:spPr>
          <a:xfrm>
            <a:off x="1148400" y="218016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菱形 28"/>
          <p:cNvSpPr/>
          <p:nvPr/>
        </p:nvSpPr>
        <p:spPr>
          <a:xfrm rot="8097000">
            <a:off x="5722920" y="814320"/>
            <a:ext cx="6199560" cy="6199560"/>
          </a:xfrm>
          <a:prstGeom prst="diamond">
            <a:avLst/>
          </a:prstGeom>
          <a:gradFill rotWithShape="0">
            <a:gsLst>
              <a:gs pos="1000">
                <a:srgbClr val="fcfcfc"/>
              </a:gs>
              <a:gs pos="100000">
                <a:srgbClr val="cccccc"/>
              </a:gs>
            </a:gsLst>
            <a:lin ang="9900000"/>
          </a:gradFill>
          <a:ln>
            <a:solidFill>
              <a:srgbClr val="ffffff"/>
            </a:solidFill>
          </a:ln>
          <a:effectLst>
            <a:outerShdw algn="ctr" blurRad="254160" dir="8155220" dist="126786" rotWithShape="0">
              <a:srgbClr val="000000">
                <a:alpha val="34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文本框 37"/>
          <p:cNvSpPr/>
          <p:nvPr/>
        </p:nvSpPr>
        <p:spPr>
          <a:xfrm>
            <a:off x="7021440" y="3393360"/>
            <a:ext cx="3602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想要一次产生高完成度的作品，进行多次处理，增加循环次数，可提升完成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菱形 4"/>
          <p:cNvSpPr/>
          <p:nvPr/>
        </p:nvSpPr>
        <p:spPr>
          <a:xfrm>
            <a:off x="6628320" y="2074320"/>
            <a:ext cx="678600" cy="1266120"/>
          </a:xfrm>
          <a:custGeom>
            <a:avLst/>
            <a:gdLst>
              <a:gd name="textAreaLeft" fmla="*/ 0 w 678600"/>
              <a:gd name="textAreaRight" fmla="*/ 678960 w 678600"/>
              <a:gd name="textAreaTop" fmla="*/ 0 h 1266120"/>
              <a:gd name="textAreaBottom" fmla="*/ 1266480 h 1266120"/>
            </a:gdLst>
            <a:ahLst/>
            <a:rect l="textAreaLeft" t="textAreaTop" r="textAreaRight" b="textAreaBottom"/>
            <a:pathLst>
              <a:path w="1158094" h="1225200">
                <a:moveTo>
                  <a:pt x="10" y="1212278"/>
                </a:moveTo>
                <a:cubicBezTo>
                  <a:pt x="-280" y="877810"/>
                  <a:pt x="5575" y="334468"/>
                  <a:pt x="5285" y="0"/>
                </a:cubicBezTo>
                <a:cubicBezTo>
                  <a:pt x="414042" y="4048"/>
                  <a:pt x="1137834" y="135953"/>
                  <a:pt x="1157835" y="583482"/>
                </a:cubicBezTo>
                <a:cubicBezTo>
                  <a:pt x="1176471" y="1000463"/>
                  <a:pt x="185958" y="1291095"/>
                  <a:pt x="10" y="1212278"/>
                </a:cubicBezTo>
                <a:close/>
              </a:path>
            </a:pathLst>
          </a:custGeom>
          <a:gradFill rotWithShape="0">
            <a:gsLst>
              <a:gs pos="0">
                <a:srgbClr val="3bc5e9"/>
              </a:gs>
              <a:gs pos="50000">
                <a:srgbClr val="3bc5e9"/>
              </a:gs>
              <a:gs pos="100000">
                <a:srgbClr val="3bc5e9"/>
              </a:gs>
            </a:gsLst>
            <a:lin ang="7200000"/>
          </a:gradFill>
          <a:ln>
            <a:solidFill>
              <a:srgbClr val="19b6df"/>
            </a:solidFill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文本框 38"/>
          <p:cNvSpPr/>
          <p:nvPr/>
        </p:nvSpPr>
        <p:spPr>
          <a:xfrm>
            <a:off x="6634800" y="2199240"/>
            <a:ext cx="918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组合 15"/>
          <p:cNvGrpSpPr/>
          <p:nvPr/>
        </p:nvGrpSpPr>
        <p:grpSpPr>
          <a:xfrm>
            <a:off x="3501000" y="1316160"/>
            <a:ext cx="5221800" cy="4317120"/>
            <a:chOff x="3501000" y="1316160"/>
            <a:chExt cx="5221800" cy="4317120"/>
          </a:xfrm>
        </p:grpSpPr>
        <p:sp>
          <p:nvSpPr>
            <p:cNvPr id="305" name="椭圆 1"/>
            <p:cNvSpPr/>
            <p:nvPr/>
          </p:nvSpPr>
          <p:spPr>
            <a:xfrm>
              <a:off x="6921000" y="3699360"/>
              <a:ext cx="1801800" cy="180180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椭圆 2"/>
            <p:cNvSpPr/>
            <p:nvPr/>
          </p:nvSpPr>
          <p:spPr>
            <a:xfrm>
              <a:off x="3854880" y="1670040"/>
              <a:ext cx="3750480" cy="3750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3"/>
            <p:cNvSpPr/>
            <p:nvPr/>
          </p:nvSpPr>
          <p:spPr>
            <a:xfrm>
              <a:off x="3501000" y="1316160"/>
              <a:ext cx="4317120" cy="431712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8" name="椭圆 4"/>
            <p:cNvSpPr/>
            <p:nvPr/>
          </p:nvSpPr>
          <p:spPr>
            <a:xfrm>
              <a:off x="7125840" y="3904200"/>
              <a:ext cx="1473840" cy="1473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椭圆 5"/>
            <p:cNvSpPr/>
            <p:nvPr/>
          </p:nvSpPr>
          <p:spPr>
            <a:xfrm>
              <a:off x="7336800" y="4115160"/>
              <a:ext cx="1051920" cy="1051920"/>
            </a:xfrm>
            <a:prstGeom prst="ellipse">
              <a:avLst/>
            </a:prstGeom>
            <a:solidFill>
              <a:srgbClr val="43aeed"/>
            </a:solidFill>
            <a:ln w="25400"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10" name="组合 13"/>
            <p:cNvGrpSpPr/>
            <p:nvPr/>
          </p:nvGrpSpPr>
          <p:grpSpPr>
            <a:xfrm>
              <a:off x="3972240" y="2918880"/>
              <a:ext cx="3515400" cy="1257840"/>
              <a:chOff x="3972240" y="2918880"/>
              <a:chExt cx="3515400" cy="1257840"/>
            </a:xfrm>
          </p:grpSpPr>
          <p:sp>
            <p:nvSpPr>
              <p:cNvPr id="311" name="TextBox 9"/>
              <p:cNvSpPr/>
              <p:nvPr/>
            </p:nvSpPr>
            <p:spPr>
              <a:xfrm>
                <a:off x="4343400" y="2918880"/>
                <a:ext cx="2773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4400" spc="-1" strike="noStrike">
                    <a:solidFill>
                      <a:srgbClr val="43aeed"/>
                    </a:solidFill>
                    <a:latin typeface="微软雅黑"/>
                    <a:ea typeface="微软雅黑"/>
                  </a:rPr>
                  <a:t>信息思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42"/>
              <p:cNvSpPr/>
              <p:nvPr/>
            </p:nvSpPr>
            <p:spPr>
              <a:xfrm>
                <a:off x="3972240" y="3730680"/>
                <a:ext cx="3515400" cy="4460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Arial"/>
                  </a:rPr>
                  <a:t>INFORMATION THINK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文本框 11"/>
            <p:cNvSpPr/>
            <p:nvPr/>
          </p:nvSpPr>
          <p:spPr>
            <a:xfrm>
              <a:off x="7484400" y="4318200"/>
              <a:ext cx="756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组合 14"/>
          <p:cNvGrpSpPr/>
          <p:nvPr/>
        </p:nvGrpSpPr>
        <p:grpSpPr>
          <a:xfrm>
            <a:off x="843120" y="2052000"/>
            <a:ext cx="1993680" cy="1993680"/>
            <a:chOff x="843120" y="2052000"/>
            <a:chExt cx="1993680" cy="1993680"/>
          </a:xfrm>
        </p:grpSpPr>
        <p:grpSp>
          <p:nvGrpSpPr>
            <p:cNvPr id="315" name="组合 54"/>
            <p:cNvGrpSpPr/>
            <p:nvPr/>
          </p:nvGrpSpPr>
          <p:grpSpPr>
            <a:xfrm>
              <a:off x="843120" y="2052000"/>
              <a:ext cx="1993680" cy="1993680"/>
              <a:chOff x="843120" y="2052000"/>
              <a:chExt cx="1993680" cy="1993680"/>
            </a:xfrm>
          </p:grpSpPr>
          <p:sp>
            <p:nvSpPr>
              <p:cNvPr id="316" name="椭圆 55"/>
              <p:cNvSpPr/>
              <p:nvPr/>
            </p:nvSpPr>
            <p:spPr>
              <a:xfrm>
                <a:off x="843120" y="205200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7" name="椭圆 56"/>
              <p:cNvSpPr/>
              <p:nvPr/>
            </p:nvSpPr>
            <p:spPr>
              <a:xfrm>
                <a:off x="1035720" y="224460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18" name="文本框 57"/>
            <p:cNvSpPr/>
            <p:nvPr/>
          </p:nvSpPr>
          <p:spPr>
            <a:xfrm>
              <a:off x="1413720" y="26640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释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文本框 17"/>
          <p:cNvSpPr/>
          <p:nvPr/>
        </p:nvSpPr>
        <p:spPr>
          <a:xfrm>
            <a:off x="895680" y="4189320"/>
            <a:ext cx="1887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是否能以清楚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基本结构完成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4642920" y="232200"/>
            <a:ext cx="7223760" cy="1083600"/>
            <a:chOff x="4642920" y="232200"/>
            <a:chExt cx="7223760" cy="1083600"/>
          </a:xfrm>
        </p:grpSpPr>
        <p:sp>
          <p:nvSpPr>
            <p:cNvPr id="321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3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矩形 4"/>
            <p:cNvSpPr/>
            <p:nvPr/>
          </p:nvSpPr>
          <p:spPr>
            <a:xfrm flipH="1">
              <a:off x="4642560" y="232200"/>
              <a:ext cx="6800760" cy="746280"/>
            </a:xfrm>
            <a:custGeom>
              <a:avLst/>
              <a:gdLst>
                <a:gd name="textAreaLeft" fmla="*/ -360 w 6800760"/>
                <a:gd name="textAreaRight" fmla="*/ 6800760 w 680076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文本框 6"/>
          <p:cNvSpPr/>
          <p:nvPr/>
        </p:nvSpPr>
        <p:spPr>
          <a:xfrm>
            <a:off x="5000760" y="296280"/>
            <a:ext cx="6586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敲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确认逻辑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6"/>
          <p:cNvGrpSpPr/>
          <p:nvPr/>
        </p:nvGrpSpPr>
        <p:grpSpPr>
          <a:xfrm>
            <a:off x="7845480" y="1391760"/>
            <a:ext cx="1286640" cy="1286640"/>
            <a:chOff x="7845480" y="1391760"/>
            <a:chExt cx="1286640" cy="1286640"/>
          </a:xfrm>
        </p:grpSpPr>
        <p:sp>
          <p:nvSpPr>
            <p:cNvPr id="327" name="椭圆 30"/>
            <p:cNvSpPr/>
            <p:nvPr/>
          </p:nvSpPr>
          <p:spPr>
            <a:xfrm>
              <a:off x="7845480" y="139176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文本框 2"/>
            <p:cNvSpPr/>
            <p:nvPr/>
          </p:nvSpPr>
          <p:spPr>
            <a:xfrm>
              <a:off x="8124120" y="1744920"/>
              <a:ext cx="668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9"/>
          <p:cNvGrpSpPr/>
          <p:nvPr/>
        </p:nvGrpSpPr>
        <p:grpSpPr>
          <a:xfrm>
            <a:off x="7845480" y="3322800"/>
            <a:ext cx="1286640" cy="1286640"/>
            <a:chOff x="7845480" y="3322800"/>
            <a:chExt cx="1286640" cy="1286640"/>
          </a:xfrm>
        </p:grpSpPr>
        <p:sp>
          <p:nvSpPr>
            <p:cNvPr id="330" name="椭圆 31"/>
            <p:cNvSpPr/>
            <p:nvPr/>
          </p:nvSpPr>
          <p:spPr>
            <a:xfrm>
              <a:off x="7845480" y="332280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文本框 32"/>
            <p:cNvSpPr/>
            <p:nvPr/>
          </p:nvSpPr>
          <p:spPr>
            <a:xfrm>
              <a:off x="8171640" y="3528360"/>
              <a:ext cx="6076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"/>
          <p:cNvGrpSpPr/>
          <p:nvPr/>
        </p:nvGrpSpPr>
        <p:grpSpPr>
          <a:xfrm>
            <a:off x="7845480" y="5289120"/>
            <a:ext cx="1286640" cy="1286640"/>
            <a:chOff x="7845480" y="5289120"/>
            <a:chExt cx="1286640" cy="1286640"/>
          </a:xfrm>
        </p:grpSpPr>
        <p:sp>
          <p:nvSpPr>
            <p:cNvPr id="333" name="椭圆 35"/>
            <p:cNvSpPr/>
            <p:nvPr/>
          </p:nvSpPr>
          <p:spPr>
            <a:xfrm>
              <a:off x="7845480" y="528912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文本框 36"/>
            <p:cNvSpPr/>
            <p:nvPr/>
          </p:nvSpPr>
          <p:spPr>
            <a:xfrm>
              <a:off x="8171640" y="5494680"/>
              <a:ext cx="6076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12"/>
          <p:cNvGrpSpPr/>
          <p:nvPr/>
        </p:nvGrpSpPr>
        <p:grpSpPr>
          <a:xfrm>
            <a:off x="10121760" y="5289120"/>
            <a:ext cx="1286640" cy="1286640"/>
            <a:chOff x="10121760" y="5289120"/>
            <a:chExt cx="1286640" cy="1286640"/>
          </a:xfrm>
        </p:grpSpPr>
        <p:sp>
          <p:nvSpPr>
            <p:cNvPr id="336" name="椭圆 40"/>
            <p:cNvSpPr/>
            <p:nvPr/>
          </p:nvSpPr>
          <p:spPr>
            <a:xfrm>
              <a:off x="10121760" y="528912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文本框 41"/>
            <p:cNvSpPr/>
            <p:nvPr/>
          </p:nvSpPr>
          <p:spPr>
            <a:xfrm>
              <a:off x="10447920" y="5494680"/>
              <a:ext cx="6076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驾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10"/>
          <p:cNvGrpSpPr/>
          <p:nvPr/>
        </p:nvGrpSpPr>
        <p:grpSpPr>
          <a:xfrm>
            <a:off x="10121760" y="3302280"/>
            <a:ext cx="1286640" cy="1286640"/>
            <a:chOff x="10121760" y="3302280"/>
            <a:chExt cx="1286640" cy="1286640"/>
          </a:xfrm>
        </p:grpSpPr>
        <p:sp>
          <p:nvSpPr>
            <p:cNvPr id="339" name="椭圆 44"/>
            <p:cNvSpPr/>
            <p:nvPr/>
          </p:nvSpPr>
          <p:spPr>
            <a:xfrm>
              <a:off x="10121760" y="330228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文本框 45"/>
            <p:cNvSpPr/>
            <p:nvPr/>
          </p:nvSpPr>
          <p:spPr>
            <a:xfrm>
              <a:off x="10447920" y="3508200"/>
              <a:ext cx="6076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监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8"/>
          <p:cNvGrpSpPr/>
          <p:nvPr/>
        </p:nvGrpSpPr>
        <p:grpSpPr>
          <a:xfrm>
            <a:off x="10121760" y="1315800"/>
            <a:ext cx="1286640" cy="1286640"/>
            <a:chOff x="10121760" y="1315800"/>
            <a:chExt cx="1286640" cy="1286640"/>
          </a:xfrm>
        </p:grpSpPr>
        <p:sp>
          <p:nvSpPr>
            <p:cNvPr id="342" name="椭圆 48"/>
            <p:cNvSpPr/>
            <p:nvPr/>
          </p:nvSpPr>
          <p:spPr>
            <a:xfrm>
              <a:off x="10121760" y="1315800"/>
              <a:ext cx="1286640" cy="1286640"/>
            </a:xfrm>
            <a:prstGeom prst="ellipse">
              <a:avLst/>
            </a:prstGeom>
            <a:solidFill>
              <a:srgbClr val="43aeed"/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文本框 49"/>
            <p:cNvSpPr/>
            <p:nvPr/>
          </p:nvSpPr>
          <p:spPr>
            <a:xfrm>
              <a:off x="10400400" y="1668960"/>
              <a:ext cx="668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总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5"/>
          <p:cNvGrpSpPr/>
          <p:nvPr/>
        </p:nvGrpSpPr>
        <p:grpSpPr>
          <a:xfrm>
            <a:off x="4357800" y="2052000"/>
            <a:ext cx="1993680" cy="1993680"/>
            <a:chOff x="4357800" y="2052000"/>
            <a:chExt cx="1993680" cy="1993680"/>
          </a:xfrm>
        </p:grpSpPr>
        <p:grpSp>
          <p:nvGrpSpPr>
            <p:cNvPr id="345" name="组合 62"/>
            <p:cNvGrpSpPr/>
            <p:nvPr/>
          </p:nvGrpSpPr>
          <p:grpSpPr>
            <a:xfrm>
              <a:off x="4357800" y="2052000"/>
              <a:ext cx="1993680" cy="1993680"/>
              <a:chOff x="4357800" y="2052000"/>
              <a:chExt cx="1993680" cy="1993680"/>
            </a:xfrm>
          </p:grpSpPr>
          <p:sp>
            <p:nvSpPr>
              <p:cNvPr id="346" name="椭圆 63"/>
              <p:cNvSpPr/>
              <p:nvPr/>
            </p:nvSpPr>
            <p:spPr>
              <a:xfrm>
                <a:off x="4357800" y="205200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7" name="椭圆 64"/>
              <p:cNvSpPr/>
              <p:nvPr/>
            </p:nvSpPr>
            <p:spPr>
              <a:xfrm>
                <a:off x="4550400" y="224460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48" name="文本框 65"/>
            <p:cNvSpPr/>
            <p:nvPr/>
          </p:nvSpPr>
          <p:spPr>
            <a:xfrm>
              <a:off x="4928760" y="26640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59"/>
          <p:cNvSpPr/>
          <p:nvPr/>
        </p:nvSpPr>
        <p:spPr>
          <a:xfrm>
            <a:off x="4410360" y="4189320"/>
            <a:ext cx="1887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人力资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毕业论文基本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下箭头 19"/>
          <p:cNvSpPr/>
          <p:nvPr/>
        </p:nvSpPr>
        <p:spPr>
          <a:xfrm>
            <a:off x="8263800" y="275076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下箭头 67"/>
          <p:cNvSpPr/>
          <p:nvPr/>
        </p:nvSpPr>
        <p:spPr>
          <a:xfrm>
            <a:off x="8263800" y="466992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2" name="下箭头 68"/>
          <p:cNvSpPr/>
          <p:nvPr/>
        </p:nvSpPr>
        <p:spPr>
          <a:xfrm rot="16200000">
            <a:off x="9402120" y="567432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下箭头 69"/>
          <p:cNvSpPr/>
          <p:nvPr/>
        </p:nvSpPr>
        <p:spPr>
          <a:xfrm flipV="1">
            <a:off x="10540080" y="470448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4" name="下箭头 70"/>
          <p:cNvSpPr/>
          <p:nvPr/>
        </p:nvSpPr>
        <p:spPr>
          <a:xfrm flipV="1">
            <a:off x="10540080" y="261396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下箭头 71"/>
          <p:cNvSpPr/>
          <p:nvPr/>
        </p:nvSpPr>
        <p:spPr>
          <a:xfrm rot="16200000">
            <a:off x="6787440" y="4247280"/>
            <a:ext cx="449640" cy="516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3aeed"/>
          </a:solidFill>
          <a:ln w="25400">
            <a:noFill/>
          </a:ln>
          <a:effectLst>
            <a:innerShdw blurRad="63500" dir="189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56" name="直接连接符 43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14"/>
          <p:cNvGrpSpPr/>
          <p:nvPr/>
        </p:nvGrpSpPr>
        <p:grpSpPr>
          <a:xfrm>
            <a:off x="2048040" y="2076840"/>
            <a:ext cx="1993680" cy="1993680"/>
            <a:chOff x="2048040" y="2076840"/>
            <a:chExt cx="1993680" cy="1993680"/>
          </a:xfrm>
        </p:grpSpPr>
        <p:grpSp>
          <p:nvGrpSpPr>
            <p:cNvPr id="358" name="组合 54"/>
            <p:cNvGrpSpPr/>
            <p:nvPr/>
          </p:nvGrpSpPr>
          <p:grpSpPr>
            <a:xfrm>
              <a:off x="2048040" y="2076840"/>
              <a:ext cx="1993680" cy="1993680"/>
              <a:chOff x="2048040" y="2076840"/>
              <a:chExt cx="1993680" cy="1993680"/>
            </a:xfrm>
          </p:grpSpPr>
          <p:sp>
            <p:nvSpPr>
              <p:cNvPr id="359" name="椭圆 55"/>
              <p:cNvSpPr/>
              <p:nvPr/>
            </p:nvSpPr>
            <p:spPr>
              <a:xfrm>
                <a:off x="2048040" y="207684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0" name="椭圆 56"/>
              <p:cNvSpPr/>
              <p:nvPr/>
            </p:nvSpPr>
            <p:spPr>
              <a:xfrm>
                <a:off x="2240640" y="226944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1" name="文本框 57"/>
            <p:cNvSpPr/>
            <p:nvPr/>
          </p:nvSpPr>
          <p:spPr>
            <a:xfrm>
              <a:off x="2618640" y="268884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释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15"/>
          <p:cNvGrpSpPr/>
          <p:nvPr/>
        </p:nvGrpSpPr>
        <p:grpSpPr>
          <a:xfrm>
            <a:off x="8179560" y="2058840"/>
            <a:ext cx="1993680" cy="1993680"/>
            <a:chOff x="8179560" y="2058840"/>
            <a:chExt cx="1993680" cy="1993680"/>
          </a:xfrm>
        </p:grpSpPr>
        <p:grpSp>
          <p:nvGrpSpPr>
            <p:cNvPr id="363" name="组合 62"/>
            <p:cNvGrpSpPr/>
            <p:nvPr/>
          </p:nvGrpSpPr>
          <p:grpSpPr>
            <a:xfrm>
              <a:off x="8179560" y="2058840"/>
              <a:ext cx="1993680" cy="1993680"/>
              <a:chOff x="8179560" y="2058840"/>
              <a:chExt cx="1993680" cy="1993680"/>
            </a:xfrm>
          </p:grpSpPr>
          <p:sp>
            <p:nvSpPr>
              <p:cNvPr id="364" name="椭圆 63"/>
              <p:cNvSpPr/>
              <p:nvPr/>
            </p:nvSpPr>
            <p:spPr>
              <a:xfrm>
                <a:off x="8179560" y="205884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5" name="椭圆 64"/>
              <p:cNvSpPr/>
              <p:nvPr/>
            </p:nvSpPr>
            <p:spPr>
              <a:xfrm>
                <a:off x="8372160" y="225180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6" name="文本框 65"/>
            <p:cNvSpPr/>
            <p:nvPr/>
          </p:nvSpPr>
          <p:spPr>
            <a:xfrm>
              <a:off x="8750160" y="26712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文本框 17"/>
          <p:cNvSpPr/>
          <p:nvPr/>
        </p:nvSpPr>
        <p:spPr>
          <a:xfrm>
            <a:off x="1439280" y="4409280"/>
            <a:ext cx="3210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先用“看图说故事形式的初稿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之后用“以人为对象的细腻定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66"/>
          <p:cNvSpPr/>
          <p:nvPr/>
        </p:nvSpPr>
        <p:spPr>
          <a:xfrm>
            <a:off x="7175160" y="4345560"/>
            <a:ext cx="4002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做好一个</a:t>
            </a:r>
            <a:r>
              <a:rPr b="0" lang="en-US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之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一边彩排      一边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30"/>
          <p:cNvGrpSpPr/>
          <p:nvPr/>
        </p:nvGrpSpPr>
        <p:grpSpPr>
          <a:xfrm>
            <a:off x="5621400" y="232200"/>
            <a:ext cx="6245280" cy="1083600"/>
            <a:chOff x="5621400" y="232200"/>
            <a:chExt cx="6245280" cy="1083600"/>
          </a:xfrm>
        </p:grpSpPr>
        <p:sp>
          <p:nvSpPr>
            <p:cNvPr id="370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1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2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3" name="矩形 4"/>
            <p:cNvSpPr/>
            <p:nvPr/>
          </p:nvSpPr>
          <p:spPr>
            <a:xfrm flipH="1">
              <a:off x="5621400" y="232200"/>
              <a:ext cx="5822640" cy="746280"/>
            </a:xfrm>
            <a:custGeom>
              <a:avLst/>
              <a:gdLst>
                <a:gd name="textAreaLeft" fmla="*/ 360 w 5822640"/>
                <a:gd name="textAreaRight" fmla="*/ 5823360 w 58226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4" name="文本框 6"/>
          <p:cNvSpPr/>
          <p:nvPr/>
        </p:nvSpPr>
        <p:spPr>
          <a:xfrm>
            <a:off x="5943600" y="296280"/>
            <a:ext cx="5570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敲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琢磨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右箭头 36"/>
          <p:cNvSpPr/>
          <p:nvPr/>
        </p:nvSpPr>
        <p:spPr>
          <a:xfrm>
            <a:off x="8872920" y="5059080"/>
            <a:ext cx="241560" cy="2167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278ba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76" name="直接连接符 20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3"/>
          <p:cNvSpPr/>
          <p:nvPr/>
        </p:nvSpPr>
        <p:spPr>
          <a:xfrm rot="11846400">
            <a:off x="2065680" y="6286680"/>
            <a:ext cx="641520" cy="583920"/>
          </a:xfrm>
          <a:custGeom>
            <a:avLst/>
            <a:gdLst>
              <a:gd name="textAreaLeft" fmla="*/ 0 w 641520"/>
              <a:gd name="textAreaRight" fmla="*/ 641880 w 64152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1524084" h="1278727">
                <a:moveTo>
                  <a:pt x="1" y="1278727"/>
                </a:moveTo>
                <a:lnTo>
                  <a:pt x="1524084" y="0"/>
                </a:lnTo>
                <a:lnTo>
                  <a:pt x="1122034" y="1112559"/>
                </a:lnTo>
                <a:lnTo>
                  <a:pt x="1" y="1278727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矩形 13"/>
          <p:cNvSpPr/>
          <p:nvPr/>
        </p:nvSpPr>
        <p:spPr>
          <a:xfrm rot="11846400">
            <a:off x="1845720" y="5847480"/>
            <a:ext cx="996480" cy="567360"/>
          </a:xfrm>
          <a:custGeom>
            <a:avLst/>
            <a:gdLst>
              <a:gd name="textAreaLeft" fmla="*/ 0 w 996480"/>
              <a:gd name="textAreaRight" fmla="*/ 996840 w 996480"/>
              <a:gd name="textAreaTop" fmla="*/ 0 h 567360"/>
              <a:gd name="textAreaBottom" fmla="*/ 567720 h 567360"/>
            </a:gdLst>
            <a:ahLst/>
            <a:rect l="textAreaLeft" t="textAreaTop" r="textAreaRight" b="textAreaBottom"/>
            <a:pathLst>
              <a:path w="2366780" h="777279">
                <a:moveTo>
                  <a:pt x="1" y="216474"/>
                </a:moveTo>
                <a:lnTo>
                  <a:pt x="2366780" y="-1"/>
                </a:lnTo>
                <a:lnTo>
                  <a:pt x="150532" y="777279"/>
                </a:lnTo>
                <a:lnTo>
                  <a:pt x="1" y="216474"/>
                </a:lnTo>
                <a:close/>
              </a:path>
            </a:pathLst>
          </a:cu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9473400" y="-41400"/>
            <a:ext cx="1149480" cy="128556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1149895" h="1290126">
                <a:moveTo>
                  <a:pt x="90261" y="0"/>
                </a:moveTo>
                <a:lnTo>
                  <a:pt x="801801" y="19916"/>
                </a:lnTo>
                <a:lnTo>
                  <a:pt x="1149895" y="1160501"/>
                </a:lnTo>
                <a:lnTo>
                  <a:pt x="659131" y="1290126"/>
                </a:lnTo>
                <a:lnTo>
                  <a:pt x="0" y="194697"/>
                </a:lnTo>
                <a:lnTo>
                  <a:pt x="90261" y="0"/>
                </a:lnTo>
                <a:close/>
              </a:path>
            </a:pathLst>
          </a:custGeom>
          <a:solidFill>
            <a:srgbClr val="00b0f0"/>
          </a:solidFill>
          <a:ln>
            <a:solidFill>
              <a:srgbClr val="43c3e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7533000" y="1121760"/>
            <a:ext cx="3101040" cy="1019520"/>
          </a:xfrm>
          <a:prstGeom prst="rect">
            <a:avLst/>
          </a:pr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533000" y="2141640"/>
            <a:ext cx="1317960" cy="218160"/>
          </a:xfrm>
          <a:custGeom>
            <a:avLst/>
            <a:gdLst>
              <a:gd name="textAreaLeft" fmla="*/ 0 w 1317960"/>
              <a:gd name="textAreaRight" fmla="*/ 1318320 w 1317960"/>
              <a:gd name="textAreaTop" fmla="*/ 0 h 218160"/>
              <a:gd name="textAreaBottom" fmla="*/ 218520 h 218160"/>
            </a:gdLst>
            <a:ahLst/>
            <a:rect l="textAreaLeft" t="textAreaTop" r="textAreaRight" b="textAreaBottom"/>
            <a:pathLst>
              <a:path w="1318419" h="202405">
                <a:moveTo>
                  <a:pt x="0" y="0"/>
                </a:moveTo>
                <a:lnTo>
                  <a:pt x="1106488" y="0"/>
                </a:lnTo>
                <a:lnTo>
                  <a:pt x="1318419" y="202405"/>
                </a:lnTo>
                <a:lnTo>
                  <a:pt x="228600" y="202405"/>
                </a:lnTo>
                <a:lnTo>
                  <a:pt x="0" y="0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矩形 13"/>
          <p:cNvSpPr/>
          <p:nvPr/>
        </p:nvSpPr>
        <p:spPr>
          <a:xfrm>
            <a:off x="1774080" y="5818680"/>
            <a:ext cx="1850760" cy="438120"/>
          </a:xfrm>
          <a:custGeom>
            <a:avLst/>
            <a:gdLst>
              <a:gd name="textAreaLeft" fmla="*/ 0 w 1850760"/>
              <a:gd name="textAreaRight" fmla="*/ 1851120 w 18507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2534956" h="600382">
                <a:moveTo>
                  <a:pt x="581986" y="0"/>
                </a:moveTo>
                <a:lnTo>
                  <a:pt x="2534956" y="15402"/>
                </a:lnTo>
                <a:lnTo>
                  <a:pt x="0" y="600382"/>
                </a:lnTo>
                <a:lnTo>
                  <a:pt x="581986" y="0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5749920" y="2360160"/>
            <a:ext cx="3101040" cy="1019520"/>
          </a:xfrm>
          <a:prstGeom prst="rect">
            <a:avLst/>
          </a:pr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5749920" y="3356280"/>
            <a:ext cx="1317960" cy="218160"/>
          </a:xfrm>
          <a:custGeom>
            <a:avLst/>
            <a:gdLst>
              <a:gd name="textAreaLeft" fmla="*/ 0 w 1317960"/>
              <a:gd name="textAreaRight" fmla="*/ 1318320 w 1317960"/>
              <a:gd name="textAreaTop" fmla="*/ 0 h 218160"/>
              <a:gd name="textAreaBottom" fmla="*/ 218520 h 218160"/>
            </a:gdLst>
            <a:ahLst/>
            <a:rect l="textAreaLeft" t="textAreaTop" r="textAreaRight" b="textAreaBottom"/>
            <a:pathLst>
              <a:path w="1318419" h="202405">
                <a:moveTo>
                  <a:pt x="0" y="0"/>
                </a:moveTo>
                <a:lnTo>
                  <a:pt x="1106488" y="0"/>
                </a:lnTo>
                <a:lnTo>
                  <a:pt x="1318419" y="202405"/>
                </a:lnTo>
                <a:lnTo>
                  <a:pt x="228600" y="202405"/>
                </a:lnTo>
                <a:lnTo>
                  <a:pt x="0" y="0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矩形 23"/>
          <p:cNvSpPr/>
          <p:nvPr/>
        </p:nvSpPr>
        <p:spPr>
          <a:xfrm>
            <a:off x="3979800" y="3573360"/>
            <a:ext cx="3101040" cy="1019520"/>
          </a:xfrm>
          <a:prstGeom prst="rect">
            <a:avLst/>
          </a:pr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3967200" y="4591800"/>
            <a:ext cx="1317960" cy="218160"/>
          </a:xfrm>
          <a:custGeom>
            <a:avLst/>
            <a:gdLst>
              <a:gd name="textAreaLeft" fmla="*/ 0 w 1317960"/>
              <a:gd name="textAreaRight" fmla="*/ 1318320 w 1317960"/>
              <a:gd name="textAreaTop" fmla="*/ 0 h 218160"/>
              <a:gd name="textAreaBottom" fmla="*/ 218520 h 218160"/>
            </a:gdLst>
            <a:ahLst/>
            <a:rect l="textAreaLeft" t="textAreaTop" r="textAreaRight" b="textAreaBottom"/>
            <a:pathLst>
              <a:path w="1318419" h="202405">
                <a:moveTo>
                  <a:pt x="0" y="0"/>
                </a:moveTo>
                <a:lnTo>
                  <a:pt x="1106488" y="0"/>
                </a:lnTo>
                <a:lnTo>
                  <a:pt x="1318419" y="202405"/>
                </a:lnTo>
                <a:lnTo>
                  <a:pt x="228600" y="202405"/>
                </a:lnTo>
                <a:lnTo>
                  <a:pt x="0" y="0"/>
                </a:lnTo>
                <a:close/>
              </a:path>
            </a:pathLst>
          </a:custGeom>
          <a:solidFill>
            <a:srgbClr val="1d8b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矩形 25"/>
          <p:cNvSpPr/>
          <p:nvPr/>
        </p:nvSpPr>
        <p:spPr>
          <a:xfrm>
            <a:off x="2184120" y="4809960"/>
            <a:ext cx="3101040" cy="1019520"/>
          </a:xfrm>
          <a:prstGeom prst="rect">
            <a:avLst/>
          </a:prstGeom>
          <a:solidFill>
            <a:srgbClr val="41c4e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文本框 29"/>
          <p:cNvSpPr/>
          <p:nvPr/>
        </p:nvSpPr>
        <p:spPr>
          <a:xfrm>
            <a:off x="387000" y="521640"/>
            <a:ext cx="5034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41c4e9"/>
                </a:solidFill>
                <a:latin typeface="DFPLiSong-Bd"/>
                <a:ea typeface="DFPLiSong-Bd"/>
              </a:rPr>
              <a:t>CONT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0"/>
          <p:cNvSpPr/>
          <p:nvPr/>
        </p:nvSpPr>
        <p:spPr>
          <a:xfrm>
            <a:off x="8083080" y="1308240"/>
            <a:ext cx="203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题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1"/>
          <p:cNvSpPr/>
          <p:nvPr/>
        </p:nvSpPr>
        <p:spPr>
          <a:xfrm>
            <a:off x="6300360" y="2546640"/>
            <a:ext cx="203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假说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2"/>
          <p:cNvSpPr/>
          <p:nvPr/>
        </p:nvSpPr>
        <p:spPr>
          <a:xfrm>
            <a:off x="4529880" y="3759840"/>
            <a:ext cx="203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3"/>
          <p:cNvSpPr/>
          <p:nvPr/>
        </p:nvSpPr>
        <p:spPr>
          <a:xfrm>
            <a:off x="2734560" y="4996800"/>
            <a:ext cx="203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组合 14"/>
          <p:cNvGrpSpPr/>
          <p:nvPr/>
        </p:nvGrpSpPr>
        <p:grpSpPr>
          <a:xfrm>
            <a:off x="2055240" y="2067840"/>
            <a:ext cx="1993680" cy="1993680"/>
            <a:chOff x="2055240" y="2067840"/>
            <a:chExt cx="1993680" cy="1993680"/>
          </a:xfrm>
        </p:grpSpPr>
        <p:grpSp>
          <p:nvGrpSpPr>
            <p:cNvPr id="378" name="组合 54"/>
            <p:cNvGrpSpPr/>
            <p:nvPr/>
          </p:nvGrpSpPr>
          <p:grpSpPr>
            <a:xfrm>
              <a:off x="2055240" y="2067840"/>
              <a:ext cx="1993680" cy="1993680"/>
              <a:chOff x="2055240" y="2067840"/>
              <a:chExt cx="1993680" cy="1993680"/>
            </a:xfrm>
          </p:grpSpPr>
          <p:sp>
            <p:nvSpPr>
              <p:cNvPr id="379" name="椭圆 55"/>
              <p:cNvSpPr/>
              <p:nvPr/>
            </p:nvSpPr>
            <p:spPr>
              <a:xfrm>
                <a:off x="2055240" y="206784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0" name="椭圆 56"/>
              <p:cNvSpPr/>
              <p:nvPr/>
            </p:nvSpPr>
            <p:spPr>
              <a:xfrm>
                <a:off x="2247840" y="226044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1" name="文本框 57"/>
            <p:cNvSpPr/>
            <p:nvPr/>
          </p:nvSpPr>
          <p:spPr>
            <a:xfrm>
              <a:off x="2626200" y="26802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释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15"/>
          <p:cNvGrpSpPr/>
          <p:nvPr/>
        </p:nvGrpSpPr>
        <p:grpSpPr>
          <a:xfrm>
            <a:off x="8175960" y="2067840"/>
            <a:ext cx="1993680" cy="1993680"/>
            <a:chOff x="8175960" y="2067840"/>
            <a:chExt cx="1993680" cy="1993680"/>
          </a:xfrm>
        </p:grpSpPr>
        <p:grpSp>
          <p:nvGrpSpPr>
            <p:cNvPr id="383" name="组合 62"/>
            <p:cNvGrpSpPr/>
            <p:nvPr/>
          </p:nvGrpSpPr>
          <p:grpSpPr>
            <a:xfrm>
              <a:off x="8175960" y="2067840"/>
              <a:ext cx="1993680" cy="1993680"/>
              <a:chOff x="8175960" y="2067840"/>
              <a:chExt cx="1993680" cy="1993680"/>
            </a:xfrm>
          </p:grpSpPr>
          <p:sp>
            <p:nvSpPr>
              <p:cNvPr id="384" name="椭圆 63"/>
              <p:cNvSpPr/>
              <p:nvPr/>
            </p:nvSpPr>
            <p:spPr>
              <a:xfrm>
                <a:off x="8175960" y="206784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5" name="椭圆 64"/>
              <p:cNvSpPr/>
              <p:nvPr/>
            </p:nvSpPr>
            <p:spPr>
              <a:xfrm>
                <a:off x="8368560" y="226044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6" name="文本框 65"/>
            <p:cNvSpPr/>
            <p:nvPr/>
          </p:nvSpPr>
          <p:spPr>
            <a:xfrm>
              <a:off x="8746560" y="26802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文本框 17"/>
          <p:cNvSpPr/>
          <p:nvPr/>
        </p:nvSpPr>
        <p:spPr>
          <a:xfrm>
            <a:off x="1241280" y="4691160"/>
            <a:ext cx="29548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是否可简明扼要地说明结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针对特定部分是否可快速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6"/>
          <p:cNvSpPr/>
          <p:nvPr/>
        </p:nvSpPr>
        <p:spPr>
          <a:xfrm>
            <a:off x="6276600" y="4410720"/>
            <a:ext cx="5792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一句话说明你应该上网易云课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答案：我们只收</a:t>
            </a:r>
            <a:r>
              <a:rPr b="0" lang="en-US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99</a:t>
            </a: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元，就能帮你从小白变达人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9"/>
          <p:cNvGrpSpPr/>
          <p:nvPr/>
        </p:nvGrpSpPr>
        <p:grpSpPr>
          <a:xfrm>
            <a:off x="3563640" y="232200"/>
            <a:ext cx="8303040" cy="1083600"/>
            <a:chOff x="3563640" y="232200"/>
            <a:chExt cx="8303040" cy="1083600"/>
          </a:xfrm>
        </p:grpSpPr>
        <p:sp>
          <p:nvSpPr>
            <p:cNvPr id="390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1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2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3" name="矩形 4"/>
            <p:cNvSpPr/>
            <p:nvPr/>
          </p:nvSpPr>
          <p:spPr>
            <a:xfrm flipH="1">
              <a:off x="3563280" y="232200"/>
              <a:ext cx="7880040" cy="746280"/>
            </a:xfrm>
            <a:custGeom>
              <a:avLst/>
              <a:gdLst>
                <a:gd name="textAreaLeft" fmla="*/ -360 w 7880040"/>
                <a:gd name="textAreaRight" fmla="*/ 7880040 w 78800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4" name="文本框 6"/>
          <p:cNvSpPr/>
          <p:nvPr/>
        </p:nvSpPr>
        <p:spPr>
          <a:xfrm>
            <a:off x="3886200" y="296280"/>
            <a:ext cx="7627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敲故事线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准备好“电梯实验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直接连接符 25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组合 14"/>
          <p:cNvGrpSpPr/>
          <p:nvPr/>
        </p:nvGrpSpPr>
        <p:grpSpPr>
          <a:xfrm>
            <a:off x="2026800" y="2083680"/>
            <a:ext cx="1993680" cy="1993680"/>
            <a:chOff x="2026800" y="2083680"/>
            <a:chExt cx="1993680" cy="1993680"/>
          </a:xfrm>
        </p:grpSpPr>
        <p:grpSp>
          <p:nvGrpSpPr>
            <p:cNvPr id="397" name="组合 54"/>
            <p:cNvGrpSpPr/>
            <p:nvPr/>
          </p:nvGrpSpPr>
          <p:grpSpPr>
            <a:xfrm>
              <a:off x="2026800" y="2083680"/>
              <a:ext cx="1993680" cy="1993680"/>
              <a:chOff x="2026800" y="2083680"/>
              <a:chExt cx="1993680" cy="1993680"/>
            </a:xfrm>
          </p:grpSpPr>
          <p:sp>
            <p:nvSpPr>
              <p:cNvPr id="398" name="椭圆 55"/>
              <p:cNvSpPr/>
              <p:nvPr/>
            </p:nvSpPr>
            <p:spPr>
              <a:xfrm>
                <a:off x="2026800" y="208368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9" name="椭圆 56"/>
              <p:cNvSpPr/>
              <p:nvPr/>
            </p:nvSpPr>
            <p:spPr>
              <a:xfrm>
                <a:off x="2219400" y="227628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00" name="文本框 57"/>
            <p:cNvSpPr/>
            <p:nvPr/>
          </p:nvSpPr>
          <p:spPr>
            <a:xfrm>
              <a:off x="2597400" y="269568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释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5"/>
          <p:cNvGrpSpPr/>
          <p:nvPr/>
        </p:nvGrpSpPr>
        <p:grpSpPr>
          <a:xfrm>
            <a:off x="5400720" y="2055600"/>
            <a:ext cx="1993680" cy="1993680"/>
            <a:chOff x="5400720" y="2055600"/>
            <a:chExt cx="1993680" cy="1993680"/>
          </a:xfrm>
        </p:grpSpPr>
        <p:grpSp>
          <p:nvGrpSpPr>
            <p:cNvPr id="402" name="组合 62"/>
            <p:cNvGrpSpPr/>
            <p:nvPr/>
          </p:nvGrpSpPr>
          <p:grpSpPr>
            <a:xfrm>
              <a:off x="5400720" y="2055600"/>
              <a:ext cx="1993680" cy="1993680"/>
              <a:chOff x="5400720" y="2055600"/>
              <a:chExt cx="1993680" cy="1993680"/>
            </a:xfrm>
          </p:grpSpPr>
          <p:sp>
            <p:nvSpPr>
              <p:cNvPr id="403" name="椭圆 63"/>
              <p:cNvSpPr/>
              <p:nvPr/>
            </p:nvSpPr>
            <p:spPr>
              <a:xfrm>
                <a:off x="5400720" y="2055600"/>
                <a:ext cx="1993680" cy="1993680"/>
              </a:xfrm>
              <a:prstGeom prst="ellips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cfcfc"/>
                  </a:gs>
                </a:gsLst>
                <a:lin ang="7200000"/>
              </a:gradFill>
              <a:ln>
                <a:solidFill>
                  <a:srgbClr val="ffffff"/>
                </a:solidFill>
              </a:ln>
              <a:effectLst>
                <a:outerShdw algn="tr" blurRad="254160" dir="8155220" dist="126786" rotWithShape="0">
                  <a:srgbClr val="000000">
                    <a:alpha val="34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4" name="椭圆 64"/>
              <p:cNvSpPr/>
              <p:nvPr/>
            </p:nvSpPr>
            <p:spPr>
              <a:xfrm>
                <a:off x="5593320" y="2248200"/>
                <a:ext cx="1608480" cy="1608480"/>
              </a:xfrm>
              <a:prstGeom prst="ellipse">
                <a:avLst/>
              </a:prstGeom>
              <a:solidFill>
                <a:srgbClr val="43aeed"/>
              </a:solidFill>
              <a:ln>
                <a:noFill/>
              </a:ln>
              <a:effectLst>
                <a:innerShdw blurRad="63500" dir="189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05" name="文本框 65"/>
            <p:cNvSpPr/>
            <p:nvPr/>
          </p:nvSpPr>
          <p:spPr>
            <a:xfrm>
              <a:off x="5971320" y="2667600"/>
              <a:ext cx="851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举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文本框 17"/>
          <p:cNvSpPr/>
          <p:nvPr/>
        </p:nvSpPr>
        <p:spPr>
          <a:xfrm>
            <a:off x="1545840" y="4495320"/>
            <a:ext cx="2954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确认是否存在依循议题的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信息，以及是否各自只包含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个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19"/>
          <p:cNvGrpSpPr/>
          <p:nvPr/>
        </p:nvGrpSpPr>
        <p:grpSpPr>
          <a:xfrm>
            <a:off x="7571880" y="232200"/>
            <a:ext cx="4294800" cy="1083600"/>
            <a:chOff x="7571880" y="232200"/>
            <a:chExt cx="4294800" cy="1083600"/>
          </a:xfrm>
        </p:grpSpPr>
        <p:sp>
          <p:nvSpPr>
            <p:cNvPr id="408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9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0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1" name="矩形 4"/>
            <p:cNvSpPr/>
            <p:nvPr/>
          </p:nvSpPr>
          <p:spPr>
            <a:xfrm flipH="1">
              <a:off x="7571520" y="232200"/>
              <a:ext cx="3871800" cy="746280"/>
            </a:xfrm>
            <a:custGeom>
              <a:avLst/>
              <a:gdLst>
                <a:gd name="textAreaLeft" fmla="*/ -360 w 3871800"/>
                <a:gd name="textAreaRight" fmla="*/ 3871800 w 3871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12" name="文本框 6"/>
          <p:cNvSpPr/>
          <p:nvPr/>
        </p:nvSpPr>
        <p:spPr>
          <a:xfrm>
            <a:off x="8229600" y="296280"/>
            <a:ext cx="304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图表一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图表 25"/>
          <p:cNvGraphicFramePr/>
          <p:nvPr/>
        </p:nvGraphicFramePr>
        <p:xfrm>
          <a:off x="8026560" y="2339640"/>
          <a:ext cx="3955680" cy="2637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14" name="文本框 17"/>
          <p:cNvSpPr/>
          <p:nvPr/>
        </p:nvSpPr>
        <p:spPr>
          <a:xfrm>
            <a:off x="7718040" y="4849920"/>
            <a:ext cx="33325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在前半年的销售额里，第一季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占</a:t>
            </a:r>
            <a:r>
              <a:rPr b="0" lang="en-US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80%</a:t>
            </a:r>
            <a:r>
              <a:rPr b="0" lang="zh-CN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，第二季度占</a:t>
            </a:r>
            <a:r>
              <a:rPr b="0" lang="en-US" sz="2800" spc="-1" strike="noStrike">
                <a:solidFill>
                  <a:srgbClr val="278ba5"/>
                </a:solidFill>
                <a:latin typeface="微软雅黑"/>
                <a:ea typeface="微软雅黑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组合 11"/>
          <p:cNvGrpSpPr/>
          <p:nvPr/>
        </p:nvGrpSpPr>
        <p:grpSpPr>
          <a:xfrm>
            <a:off x="3816360" y="1195920"/>
            <a:ext cx="4618080" cy="3868200"/>
            <a:chOff x="3816360" y="1195920"/>
            <a:chExt cx="4618080" cy="3868200"/>
          </a:xfrm>
        </p:grpSpPr>
        <p:sp>
          <p:nvSpPr>
            <p:cNvPr id="416" name="等腰三角形 5"/>
            <p:cNvSpPr/>
            <p:nvPr/>
          </p:nvSpPr>
          <p:spPr>
            <a:xfrm>
              <a:off x="6015600" y="4523400"/>
              <a:ext cx="929160" cy="540720"/>
            </a:xfrm>
            <a:custGeom>
              <a:avLst/>
              <a:gdLst>
                <a:gd name="textAreaLeft" fmla="*/ 0 w 929160"/>
                <a:gd name="textAreaRight" fmla="*/ 929520 w 929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929481" h="540996">
                  <a:moveTo>
                    <a:pt x="222249" y="0"/>
                  </a:moveTo>
                  <a:lnTo>
                    <a:pt x="929481" y="155573"/>
                  </a:lnTo>
                  <a:lnTo>
                    <a:pt x="0" y="540996"/>
                  </a:lnTo>
                  <a:lnTo>
                    <a:pt x="222249" y="0"/>
                  </a:lnTo>
                  <a:close/>
                </a:path>
              </a:pathLst>
            </a:custGeom>
            <a:solidFill>
              <a:srgbClr val="1d8a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7" name="等腰三角形 5"/>
            <p:cNvSpPr/>
            <p:nvPr/>
          </p:nvSpPr>
          <p:spPr>
            <a:xfrm>
              <a:off x="4217040" y="3827160"/>
              <a:ext cx="2727720" cy="845280"/>
            </a:xfrm>
            <a:custGeom>
              <a:avLst/>
              <a:gdLst>
                <a:gd name="textAreaLeft" fmla="*/ 0 w 2727720"/>
                <a:gd name="textAreaRight" fmla="*/ 2728080 w 2727720"/>
                <a:gd name="textAreaTop" fmla="*/ 0 h 845280"/>
                <a:gd name="textAreaBottom" fmla="*/ 845640 h 845280"/>
              </a:gdLst>
              <a:ahLst/>
              <a:rect l="textAreaLeft" t="textAreaTop" r="textAreaRight" b="textAreaBottom"/>
              <a:pathLst>
                <a:path w="1597026" h="845663">
                  <a:moveTo>
                    <a:pt x="0" y="705169"/>
                  </a:moveTo>
                  <a:lnTo>
                    <a:pt x="1516174" y="0"/>
                  </a:lnTo>
                  <a:lnTo>
                    <a:pt x="1597026" y="845663"/>
                  </a:lnTo>
                  <a:lnTo>
                    <a:pt x="0" y="705169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8" name="等腰三角形 5"/>
            <p:cNvSpPr/>
            <p:nvPr/>
          </p:nvSpPr>
          <p:spPr>
            <a:xfrm>
              <a:off x="4224600" y="3632760"/>
              <a:ext cx="3268800" cy="897480"/>
            </a:xfrm>
            <a:custGeom>
              <a:avLst/>
              <a:gdLst>
                <a:gd name="textAreaLeft" fmla="*/ 0 w 3268800"/>
                <a:gd name="textAreaRight" fmla="*/ 3269160 w 326880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234406" h="897958">
                  <a:moveTo>
                    <a:pt x="197302" y="0"/>
                  </a:moveTo>
                  <a:lnTo>
                    <a:pt x="2234406" y="11337"/>
                  </a:lnTo>
                  <a:lnTo>
                    <a:pt x="0" y="897958"/>
                  </a:lnTo>
                  <a:lnTo>
                    <a:pt x="197302" y="0"/>
                  </a:lnTo>
                  <a:close/>
                </a:path>
              </a:pathLst>
            </a:custGeom>
            <a:solidFill>
              <a:srgbClr val="1d8ac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9" name="矩形 5"/>
            <p:cNvSpPr/>
            <p:nvPr/>
          </p:nvSpPr>
          <p:spPr>
            <a:xfrm>
              <a:off x="3816360" y="1195920"/>
              <a:ext cx="4618080" cy="2459520"/>
            </a:xfrm>
            <a:custGeom>
              <a:avLst/>
              <a:gdLst>
                <a:gd name="textAreaLeft" fmla="*/ 0 w 4618080"/>
                <a:gd name="textAreaRight" fmla="*/ 4618440 w 4618080"/>
                <a:gd name="textAreaTop" fmla="*/ 0 h 2459520"/>
                <a:gd name="textAreaBottom" fmla="*/ 2459880 h 2459520"/>
              </a:gdLst>
              <a:ahLst/>
              <a:rect l="textAreaLeft" t="textAreaTop" r="textAreaRight" b="textAreaBottom"/>
              <a:pathLst>
                <a:path w="3363266" h="2459891">
                  <a:moveTo>
                    <a:pt x="0" y="0"/>
                  </a:moveTo>
                  <a:lnTo>
                    <a:pt x="3363266" y="584317"/>
                  </a:lnTo>
                  <a:lnTo>
                    <a:pt x="2666580" y="2459891"/>
                  </a:lnTo>
                  <a:lnTo>
                    <a:pt x="503951" y="2459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0" name="文本框 10"/>
            <p:cNvSpPr/>
            <p:nvPr/>
          </p:nvSpPr>
          <p:spPr>
            <a:xfrm>
              <a:off x="5010480" y="2109960"/>
              <a:ext cx="20098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观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 Box 7"/>
          <p:cNvSpPr/>
          <p:nvPr/>
        </p:nvSpPr>
        <p:spPr>
          <a:xfrm>
            <a:off x="145080" y="61941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15"/>
          <p:cNvGrpSpPr/>
          <p:nvPr/>
        </p:nvGrpSpPr>
        <p:grpSpPr>
          <a:xfrm>
            <a:off x="3501000" y="1316160"/>
            <a:ext cx="5221800" cy="4317120"/>
            <a:chOff x="3501000" y="1316160"/>
            <a:chExt cx="5221800" cy="4317120"/>
          </a:xfrm>
        </p:grpSpPr>
        <p:sp>
          <p:nvSpPr>
            <p:cNvPr id="71" name="椭圆 1"/>
            <p:cNvSpPr/>
            <p:nvPr/>
          </p:nvSpPr>
          <p:spPr>
            <a:xfrm>
              <a:off x="6921000" y="3699360"/>
              <a:ext cx="1801800" cy="180180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72" name="椭圆 2"/>
            <p:cNvSpPr/>
            <p:nvPr/>
          </p:nvSpPr>
          <p:spPr>
            <a:xfrm>
              <a:off x="3854880" y="1670040"/>
              <a:ext cx="3750480" cy="3750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"/>
            <p:cNvSpPr/>
            <p:nvPr/>
          </p:nvSpPr>
          <p:spPr>
            <a:xfrm>
              <a:off x="3501000" y="1316160"/>
              <a:ext cx="4317120" cy="431712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74" name="椭圆 4"/>
            <p:cNvSpPr/>
            <p:nvPr/>
          </p:nvSpPr>
          <p:spPr>
            <a:xfrm>
              <a:off x="7125840" y="3904200"/>
              <a:ext cx="1473840" cy="1473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75" name="椭圆 5"/>
            <p:cNvSpPr/>
            <p:nvPr/>
          </p:nvSpPr>
          <p:spPr>
            <a:xfrm>
              <a:off x="7336800" y="4115160"/>
              <a:ext cx="1051920" cy="1051920"/>
            </a:xfrm>
            <a:prstGeom prst="ellipse">
              <a:avLst/>
            </a:prstGeom>
            <a:solidFill>
              <a:srgbClr val="43aeed"/>
            </a:solidFill>
            <a:ln w="25400"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grpSp>
          <p:nvGrpSpPr>
            <p:cNvPr id="76" name="组合 13"/>
            <p:cNvGrpSpPr/>
            <p:nvPr/>
          </p:nvGrpSpPr>
          <p:grpSpPr>
            <a:xfrm>
              <a:off x="3972240" y="2918880"/>
              <a:ext cx="3515400" cy="1257840"/>
              <a:chOff x="3972240" y="2918880"/>
              <a:chExt cx="3515400" cy="1257840"/>
            </a:xfrm>
          </p:grpSpPr>
          <p:sp>
            <p:nvSpPr>
              <p:cNvPr id="77" name="TextBox 9"/>
              <p:cNvSpPr/>
              <p:nvPr/>
            </p:nvSpPr>
            <p:spPr>
              <a:xfrm>
                <a:off x="4343400" y="2918880"/>
                <a:ext cx="2773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4400" spc="-1" strike="noStrike">
                    <a:solidFill>
                      <a:srgbClr val="43aeed"/>
                    </a:solidFill>
                    <a:latin typeface="微软雅黑"/>
                    <a:ea typeface="微软雅黑"/>
                  </a:rPr>
                  <a:t>议题思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42"/>
              <p:cNvSpPr/>
              <p:nvPr/>
            </p:nvSpPr>
            <p:spPr>
              <a:xfrm>
                <a:off x="3972240" y="3730680"/>
                <a:ext cx="3515400" cy="4460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Arial"/>
                  </a:rPr>
                  <a:t>THINKING ABOUT ISS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文本框 11"/>
            <p:cNvSpPr/>
            <p:nvPr/>
          </p:nvSpPr>
          <p:spPr>
            <a:xfrm>
              <a:off x="7484400" y="4318200"/>
              <a:ext cx="756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"/>
          <p:cNvGrpSpPr/>
          <p:nvPr/>
        </p:nvGrpSpPr>
        <p:grpSpPr>
          <a:xfrm>
            <a:off x="6081480" y="232200"/>
            <a:ext cx="5785200" cy="1083600"/>
            <a:chOff x="6081480" y="232200"/>
            <a:chExt cx="5785200" cy="1083600"/>
          </a:xfrm>
        </p:grpSpPr>
        <p:sp>
          <p:nvSpPr>
            <p:cNvPr id="81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矩形 4"/>
            <p:cNvSpPr/>
            <p:nvPr/>
          </p:nvSpPr>
          <p:spPr>
            <a:xfrm flipH="1">
              <a:off x="6081480" y="232200"/>
              <a:ext cx="5362560" cy="746280"/>
            </a:xfrm>
            <a:custGeom>
              <a:avLst/>
              <a:gdLst>
                <a:gd name="textAreaLeft" fmla="*/ 360 w 5362560"/>
                <a:gd name="textAreaRight" fmla="*/ 5363280 w 536256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5" name="文本框 6"/>
          <p:cNvSpPr/>
          <p:nvPr/>
        </p:nvSpPr>
        <p:spPr>
          <a:xfrm>
            <a:off x="6545880" y="296280"/>
            <a:ext cx="475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个人专属智囊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87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91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4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7"/>
          <p:cNvSpPr/>
          <p:nvPr/>
        </p:nvSpPr>
        <p:spPr>
          <a:xfrm>
            <a:off x="4488840" y="2392920"/>
            <a:ext cx="209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向有某方面经验、有“选择力”的人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8"/>
          <p:cNvSpPr/>
          <p:nvPr/>
        </p:nvSpPr>
        <p:spPr>
          <a:xfrm>
            <a:off x="3597480" y="4715280"/>
            <a:ext cx="4235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写毕业论文之前，可以先向专业老师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连接符 21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1"/>
          <p:cNvGrpSpPr/>
          <p:nvPr/>
        </p:nvGrpSpPr>
        <p:grpSpPr>
          <a:xfrm>
            <a:off x="6537240" y="232200"/>
            <a:ext cx="5329440" cy="1083600"/>
            <a:chOff x="6537240" y="232200"/>
            <a:chExt cx="5329440" cy="1083600"/>
          </a:xfrm>
        </p:grpSpPr>
        <p:sp>
          <p:nvSpPr>
            <p:cNvPr id="100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矩形 4"/>
            <p:cNvSpPr/>
            <p:nvPr/>
          </p:nvSpPr>
          <p:spPr>
            <a:xfrm flipH="1">
              <a:off x="6537240" y="232200"/>
              <a:ext cx="4906800" cy="746280"/>
            </a:xfrm>
            <a:custGeom>
              <a:avLst/>
              <a:gdLst>
                <a:gd name="textAreaLeft" fmla="*/ 360 w 4906800"/>
                <a:gd name="textAreaRight" fmla="*/ 4907520 w 4906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7328880" y="296280"/>
            <a:ext cx="352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具体的假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106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9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110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3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7"/>
          <p:cNvSpPr/>
          <p:nvPr/>
        </p:nvSpPr>
        <p:spPr>
          <a:xfrm>
            <a:off x="2203920" y="2425680"/>
            <a:ext cx="8644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对信息进行分析，提出假设让结果走向解释明确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8"/>
          <p:cNvSpPr/>
          <p:nvPr/>
        </p:nvSpPr>
        <p:spPr>
          <a:xfrm>
            <a:off x="2203920" y="4450680"/>
            <a:ext cx="8644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调查目标：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产品市场规模现在究竟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提出假设：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XX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市场规模是否正在减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连接符 21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1"/>
          <p:cNvGrpSpPr/>
          <p:nvPr/>
        </p:nvGrpSpPr>
        <p:grpSpPr>
          <a:xfrm>
            <a:off x="6537240" y="232200"/>
            <a:ext cx="5329440" cy="1083600"/>
            <a:chOff x="6537240" y="232200"/>
            <a:chExt cx="5329440" cy="1083600"/>
          </a:xfrm>
        </p:grpSpPr>
        <p:sp>
          <p:nvSpPr>
            <p:cNvPr id="119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矩形 4"/>
            <p:cNvSpPr/>
            <p:nvPr/>
          </p:nvSpPr>
          <p:spPr>
            <a:xfrm flipH="1">
              <a:off x="6537240" y="232200"/>
              <a:ext cx="4906800" cy="746280"/>
            </a:xfrm>
            <a:custGeom>
              <a:avLst/>
              <a:gdLst>
                <a:gd name="textAreaLeft" fmla="*/ 360 w 4906800"/>
                <a:gd name="textAreaRight" fmla="*/ 4907520 w 4906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3" name="文本框 6"/>
          <p:cNvSpPr/>
          <p:nvPr/>
        </p:nvSpPr>
        <p:spPr>
          <a:xfrm>
            <a:off x="6865200" y="296280"/>
            <a:ext cx="443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凡事化为语言、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125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8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129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2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7"/>
          <p:cNvSpPr/>
          <p:nvPr/>
        </p:nvSpPr>
        <p:spPr>
          <a:xfrm>
            <a:off x="2189520" y="2425680"/>
            <a:ext cx="876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把准备彻底执行的议题与假说写在纸上，或者表达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8"/>
          <p:cNvSpPr/>
          <p:nvPr/>
        </p:nvSpPr>
        <p:spPr>
          <a:xfrm>
            <a:off x="2203920" y="4621680"/>
            <a:ext cx="8763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做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idea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，就需及时把构思转化成文字和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接连接符 21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6537240" y="232200"/>
            <a:ext cx="5329440" cy="1083600"/>
            <a:chOff x="6537240" y="232200"/>
            <a:chExt cx="5329440" cy="1083600"/>
          </a:xfrm>
        </p:grpSpPr>
        <p:sp>
          <p:nvSpPr>
            <p:cNvPr id="138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矩形 4"/>
            <p:cNvSpPr/>
            <p:nvPr/>
          </p:nvSpPr>
          <p:spPr>
            <a:xfrm flipH="1">
              <a:off x="6537240" y="232200"/>
              <a:ext cx="4906800" cy="746280"/>
            </a:xfrm>
            <a:custGeom>
              <a:avLst/>
              <a:gdLst>
                <a:gd name="textAreaLeft" fmla="*/ 360 w 4906800"/>
                <a:gd name="textAreaRight" fmla="*/ 4907520 w 4906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文本框 6"/>
          <p:cNvSpPr/>
          <p:nvPr/>
        </p:nvSpPr>
        <p:spPr>
          <a:xfrm>
            <a:off x="7518240" y="296280"/>
            <a:ext cx="3033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入比较句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144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19b6d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7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148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19b6d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1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7"/>
          <p:cNvSpPr/>
          <p:nvPr/>
        </p:nvSpPr>
        <p:spPr>
          <a:xfrm>
            <a:off x="2189520" y="2091600"/>
            <a:ext cx="8763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对比的句子表达，想要找出什么问题的答案就会变得很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8"/>
          <p:cNvSpPr/>
          <p:nvPr/>
        </p:nvSpPr>
        <p:spPr>
          <a:xfrm>
            <a:off x="2178000" y="4623840"/>
            <a:ext cx="91112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600" spc="-1" strike="noStrike">
                <a:solidFill>
                  <a:srgbClr val="808080"/>
                </a:solidFill>
                <a:latin typeface="微软雅黑"/>
                <a:ea typeface="微软雅黑"/>
              </a:rPr>
              <a:t>加强</a:t>
            </a:r>
            <a:r>
              <a:rPr b="0" lang="en-US" sz="26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808080"/>
                </a:solidFill>
                <a:latin typeface="微软雅黑"/>
                <a:ea typeface="微软雅黑"/>
              </a:rPr>
              <a:t>技能的关键不是美化能力，而是逻辑思维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直接连接符 21"/>
          <p:cNvCxnSpPr/>
          <p:nvPr/>
        </p:nvCxnSpPr>
        <p:spPr>
          <a:xfrm>
            <a:off x="145080" y="6690960"/>
            <a:ext cx="11872800" cy="360"/>
          </a:xfrm>
          <a:prstGeom prst="straightConnector1">
            <a:avLst/>
          </a:prstGeom>
          <a:ln w="15875">
            <a:solidFill>
              <a:srgbClr val="3bc5e9"/>
            </a:solidFill>
          </a:ln>
        </p:spPr>
      </p:cxnSp>
      <p:sp>
        <p:nvSpPr>
          <p:cNvPr id="156" name="Text Box 7"/>
          <p:cNvSpPr/>
          <p:nvPr/>
        </p:nvSpPr>
        <p:spPr>
          <a:xfrm>
            <a:off x="145080" y="61941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6537240" y="232200"/>
            <a:ext cx="5329440" cy="1083600"/>
            <a:chOff x="6537240" y="232200"/>
            <a:chExt cx="5329440" cy="1083600"/>
          </a:xfrm>
        </p:grpSpPr>
        <p:sp>
          <p:nvSpPr>
            <p:cNvPr id="158" name="等腰三角形 7"/>
            <p:cNvSpPr/>
            <p:nvPr/>
          </p:nvSpPr>
          <p:spPr>
            <a:xfrm flipH="1" rot="9984600">
              <a:off x="11700360" y="1168920"/>
              <a:ext cx="153000" cy="130680"/>
            </a:xfrm>
            <a:custGeom>
              <a:avLst/>
              <a:gdLst>
                <a:gd name="textAreaLeft" fmla="*/ -360 w 153000"/>
                <a:gd name="textAreaRight" fmla="*/ 153000 w 1530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53327" h="130988">
                  <a:moveTo>
                    <a:pt x="0" y="130988"/>
                  </a:moveTo>
                  <a:lnTo>
                    <a:pt x="73483" y="0"/>
                  </a:lnTo>
                  <a:lnTo>
                    <a:pt x="153327" y="108303"/>
                  </a:lnTo>
                  <a:lnTo>
                    <a:pt x="0" y="130988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矩形 5"/>
            <p:cNvSpPr/>
            <p:nvPr/>
          </p:nvSpPr>
          <p:spPr>
            <a:xfrm flipH="1">
              <a:off x="10966680" y="948600"/>
              <a:ext cx="868680" cy="306000"/>
            </a:xfrm>
            <a:custGeom>
              <a:avLst/>
              <a:gdLst>
                <a:gd name="textAreaLeft" fmla="*/ -360 w 868680"/>
                <a:gd name="textAreaRight" fmla="*/ 868680 w 8686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69156" h="306387">
                  <a:moveTo>
                    <a:pt x="272256" y="0"/>
                  </a:moveTo>
                  <a:lnTo>
                    <a:pt x="869156" y="171449"/>
                  </a:lnTo>
                  <a:lnTo>
                    <a:pt x="652461" y="306387"/>
                  </a:lnTo>
                  <a:lnTo>
                    <a:pt x="0" y="232568"/>
                  </a:lnTo>
                  <a:lnTo>
                    <a:pt x="272256" y="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矩形 5"/>
            <p:cNvSpPr/>
            <p:nvPr/>
          </p:nvSpPr>
          <p:spPr>
            <a:xfrm flipH="1">
              <a:off x="10967400" y="907200"/>
              <a:ext cx="471960" cy="218880"/>
            </a:xfrm>
            <a:custGeom>
              <a:avLst/>
              <a:gdLst>
                <a:gd name="textAreaLeft" fmla="*/ -360 w 471960"/>
                <a:gd name="textAreaRight" fmla="*/ 471960 w 4719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2281" h="157469">
                  <a:moveTo>
                    <a:pt x="0" y="0"/>
                  </a:moveTo>
                  <a:lnTo>
                    <a:pt x="403225" y="2688"/>
                  </a:lnTo>
                  <a:lnTo>
                    <a:pt x="472281" y="157469"/>
                  </a:lnTo>
                  <a:lnTo>
                    <a:pt x="60325" y="741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1" name="矩形 4"/>
            <p:cNvSpPr/>
            <p:nvPr/>
          </p:nvSpPr>
          <p:spPr>
            <a:xfrm flipH="1">
              <a:off x="6537240" y="232200"/>
              <a:ext cx="4906800" cy="746280"/>
            </a:xfrm>
            <a:custGeom>
              <a:avLst/>
              <a:gdLst>
                <a:gd name="textAreaLeft" fmla="*/ 360 w 4906800"/>
                <a:gd name="textAreaRight" fmla="*/ 4907520 w 49068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4907280" h="617220">
                  <a:moveTo>
                    <a:pt x="152400" y="76200"/>
                  </a:moveTo>
                  <a:lnTo>
                    <a:pt x="4907280" y="0"/>
                  </a:lnTo>
                  <a:lnTo>
                    <a:pt x="4663440" y="617220"/>
                  </a:lnTo>
                  <a:lnTo>
                    <a:pt x="0" y="563880"/>
                  </a:lnTo>
                  <a:lnTo>
                    <a:pt x="152400" y="76200"/>
                  </a:lnTo>
                  <a:close/>
                </a:path>
              </a:pathLst>
            </a:custGeom>
            <a:solidFill>
              <a:srgbClr val="3bc5e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2" name="文本框 6"/>
          <p:cNvSpPr/>
          <p:nvPr/>
        </p:nvSpPr>
        <p:spPr>
          <a:xfrm>
            <a:off x="7518240" y="296280"/>
            <a:ext cx="3033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接触一手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9"/>
          <p:cNvGrpSpPr/>
          <p:nvPr/>
        </p:nvGrpSpPr>
        <p:grpSpPr>
          <a:xfrm>
            <a:off x="542880" y="1605240"/>
            <a:ext cx="10772280" cy="2223360"/>
            <a:chOff x="542880" y="1605240"/>
            <a:chExt cx="10772280" cy="2223360"/>
          </a:xfrm>
        </p:grpSpPr>
        <p:sp>
          <p:nvSpPr>
            <p:cNvPr id="164" name="等腰三角形 13"/>
            <p:cNvSpPr/>
            <p:nvPr/>
          </p:nvSpPr>
          <p:spPr>
            <a:xfrm>
              <a:off x="2029320" y="16070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矩形 11"/>
            <p:cNvSpPr/>
            <p:nvPr/>
          </p:nvSpPr>
          <p:spPr>
            <a:xfrm>
              <a:off x="542880" y="185724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矩形 12"/>
            <p:cNvSpPr/>
            <p:nvPr/>
          </p:nvSpPr>
          <p:spPr>
            <a:xfrm>
              <a:off x="793440" y="160524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7" name="组合 20"/>
          <p:cNvGrpSpPr/>
          <p:nvPr/>
        </p:nvGrpSpPr>
        <p:grpSpPr>
          <a:xfrm>
            <a:off x="557280" y="3947400"/>
            <a:ext cx="10772280" cy="2223360"/>
            <a:chOff x="557280" y="3947400"/>
            <a:chExt cx="10772280" cy="2223360"/>
          </a:xfrm>
        </p:grpSpPr>
        <p:sp>
          <p:nvSpPr>
            <p:cNvPr id="168" name="矩形 11"/>
            <p:cNvSpPr/>
            <p:nvPr/>
          </p:nvSpPr>
          <p:spPr>
            <a:xfrm>
              <a:off x="557280" y="4199400"/>
              <a:ext cx="10772280" cy="1971360"/>
            </a:xfrm>
            <a:custGeom>
              <a:avLst/>
              <a:gdLst>
                <a:gd name="textAreaLeft" fmla="*/ 0 w 10772280"/>
                <a:gd name="textAreaRight" fmla="*/ 10772640 w 1077228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10772774" h="1971675">
                  <a:moveTo>
                    <a:pt x="0" y="14288"/>
                  </a:moveTo>
                  <a:lnTo>
                    <a:pt x="10744199" y="0"/>
                  </a:lnTo>
                  <a:lnTo>
                    <a:pt x="10772774" y="1971675"/>
                  </a:lnTo>
                  <a:lnTo>
                    <a:pt x="214311" y="1314451"/>
                  </a:lnTo>
                  <a:lnTo>
                    <a:pt x="0" y="14288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>
              <a:solidFill>
                <a:srgbClr val="ffffff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等腰三角形 13"/>
            <p:cNvSpPr/>
            <p:nvPr/>
          </p:nvSpPr>
          <p:spPr>
            <a:xfrm>
              <a:off x="2029320" y="3948840"/>
              <a:ext cx="181800" cy="2653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82245" h="265748">
                  <a:moveTo>
                    <a:pt x="0" y="257811"/>
                  </a:moveTo>
                  <a:lnTo>
                    <a:pt x="41910" y="0"/>
                  </a:lnTo>
                  <a:lnTo>
                    <a:pt x="182245" y="265748"/>
                  </a:lnTo>
                  <a:lnTo>
                    <a:pt x="0" y="257811"/>
                  </a:lnTo>
                  <a:close/>
                </a:path>
              </a:pathLst>
            </a:custGeom>
            <a:solidFill>
              <a:srgbClr val="278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矩形 12"/>
            <p:cNvSpPr/>
            <p:nvPr/>
          </p:nvSpPr>
          <p:spPr>
            <a:xfrm>
              <a:off x="793440" y="3947400"/>
              <a:ext cx="1271160" cy="21632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2163240"/>
                <a:gd name="textAreaBottom" fmla="*/ 2163600 h 2163240"/>
              </a:gdLst>
              <a:ahLst/>
              <a:rect l="textAreaLeft" t="textAreaTop" r="textAreaRight" b="textAreaBottom"/>
              <a:pathLst>
                <a:path w="1271587" h="2163763">
                  <a:moveTo>
                    <a:pt x="0" y="6350"/>
                  </a:moveTo>
                  <a:lnTo>
                    <a:pt x="1271587" y="0"/>
                  </a:lnTo>
                  <a:lnTo>
                    <a:pt x="1271587" y="2163763"/>
                  </a:lnTo>
                  <a:lnTo>
                    <a:pt x="38100" y="1569403"/>
                  </a:lnTo>
                  <a:lnTo>
                    <a:pt x="0" y="6350"/>
                  </a:lnTo>
                  <a:close/>
                </a:path>
              </a:pathLst>
            </a:custGeom>
            <a:gradFill rotWithShape="0">
              <a:gsLst>
                <a:gs pos="0">
                  <a:srgbClr val="3bc5e9"/>
                </a:gs>
                <a:gs pos="100000">
                  <a:srgbClr val="41c4e9"/>
                </a:gs>
              </a:gsLst>
              <a:lin ang="7200000"/>
            </a:gradFill>
            <a:ln>
              <a:solidFill>
                <a:srgbClr val="3bc5e9"/>
              </a:solidFill>
            </a:ln>
            <a:effectLst>
              <a:outerShdw algn="c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文本框 15"/>
          <p:cNvSpPr/>
          <p:nvPr/>
        </p:nvSpPr>
        <p:spPr>
          <a:xfrm>
            <a:off x="1200960" y="195624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6"/>
          <p:cNvSpPr/>
          <p:nvPr/>
        </p:nvSpPr>
        <p:spPr>
          <a:xfrm>
            <a:off x="1200960" y="4199400"/>
            <a:ext cx="45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7"/>
          <p:cNvSpPr/>
          <p:nvPr/>
        </p:nvSpPr>
        <p:spPr>
          <a:xfrm>
            <a:off x="2189520" y="2352960"/>
            <a:ext cx="5589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接触没有经过任何人过滤的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8"/>
          <p:cNvSpPr/>
          <p:nvPr/>
        </p:nvSpPr>
        <p:spPr>
          <a:xfrm>
            <a:off x="2203920" y="4421520"/>
            <a:ext cx="8763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已过滤的信息：我跟你说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《来自星星的你》好火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没过滤的信息：微博搜 都教授 超过 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3000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万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5"/>
          <p:cNvGrpSpPr/>
          <p:nvPr/>
        </p:nvGrpSpPr>
        <p:grpSpPr>
          <a:xfrm>
            <a:off x="3501000" y="1316160"/>
            <a:ext cx="5221800" cy="4317120"/>
            <a:chOff x="3501000" y="1316160"/>
            <a:chExt cx="5221800" cy="4317120"/>
          </a:xfrm>
        </p:grpSpPr>
        <p:sp>
          <p:nvSpPr>
            <p:cNvPr id="176" name="椭圆 1"/>
            <p:cNvSpPr/>
            <p:nvPr/>
          </p:nvSpPr>
          <p:spPr>
            <a:xfrm>
              <a:off x="6921000" y="3699360"/>
              <a:ext cx="1801800" cy="180180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椭圆 2"/>
            <p:cNvSpPr/>
            <p:nvPr/>
          </p:nvSpPr>
          <p:spPr>
            <a:xfrm>
              <a:off x="3854880" y="1670040"/>
              <a:ext cx="3750480" cy="37504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3"/>
            <p:cNvSpPr/>
            <p:nvPr/>
          </p:nvSpPr>
          <p:spPr>
            <a:xfrm>
              <a:off x="3501000" y="1316160"/>
              <a:ext cx="4317120" cy="4317120"/>
            </a:xfrm>
            <a:prstGeom prst="ellipse">
              <a:avLst/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椭圆 4"/>
            <p:cNvSpPr/>
            <p:nvPr/>
          </p:nvSpPr>
          <p:spPr>
            <a:xfrm>
              <a:off x="7125840" y="3904200"/>
              <a:ext cx="1473840" cy="1473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fcfcfc"/>
                </a:gs>
              </a:gsLst>
              <a:lin ang="7200000"/>
            </a:gradFill>
            <a:ln w="12700">
              <a:solidFill>
                <a:srgbClr val="ffffff"/>
              </a:solidFill>
              <a:round/>
            </a:ln>
            <a:effectLst>
              <a:outerShdw algn="tr" blurRad="254160" dir="8155220" dist="126786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椭圆 5"/>
            <p:cNvSpPr/>
            <p:nvPr/>
          </p:nvSpPr>
          <p:spPr>
            <a:xfrm>
              <a:off x="7336800" y="4115160"/>
              <a:ext cx="1051920" cy="1051920"/>
            </a:xfrm>
            <a:prstGeom prst="ellipse">
              <a:avLst/>
            </a:prstGeom>
            <a:solidFill>
              <a:srgbClr val="43aeed"/>
            </a:solidFill>
            <a:ln w="25400"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81" name="组合 13"/>
            <p:cNvGrpSpPr/>
            <p:nvPr/>
          </p:nvGrpSpPr>
          <p:grpSpPr>
            <a:xfrm>
              <a:off x="3972240" y="2918880"/>
              <a:ext cx="3515400" cy="1257840"/>
              <a:chOff x="3972240" y="2918880"/>
              <a:chExt cx="3515400" cy="1257840"/>
            </a:xfrm>
          </p:grpSpPr>
          <p:sp>
            <p:nvSpPr>
              <p:cNvPr id="182" name="TextBox 9"/>
              <p:cNvSpPr/>
              <p:nvPr/>
            </p:nvSpPr>
            <p:spPr>
              <a:xfrm>
                <a:off x="4343400" y="2918880"/>
                <a:ext cx="277344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4400" spc="-1" strike="noStrike">
                    <a:solidFill>
                      <a:srgbClr val="43aeed"/>
                    </a:solidFill>
                    <a:latin typeface="微软雅黑"/>
                    <a:ea typeface="微软雅黑"/>
                  </a:rPr>
                  <a:t>假说思考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42"/>
              <p:cNvSpPr/>
              <p:nvPr/>
            </p:nvSpPr>
            <p:spPr>
              <a:xfrm>
                <a:off x="3972240" y="3730680"/>
                <a:ext cx="3515400" cy="44604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595959"/>
                    </a:solidFill>
                    <a:latin typeface="Arial"/>
                  </a:rPr>
                  <a:t>TYPOTHESIS THINK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文本框 11"/>
            <p:cNvSpPr/>
            <p:nvPr/>
          </p:nvSpPr>
          <p:spPr>
            <a:xfrm>
              <a:off x="7484400" y="4318200"/>
              <a:ext cx="756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  <Words>761</Words>
  <Paragraphs>15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1:29:41Z</dcterms:created>
  <dc:creator>万小万</dc:creator>
  <dc:description/>
  <dc:language>en-US</dc:language>
  <cp:lastModifiedBy>王玉清</cp:lastModifiedBy>
  <dcterms:modified xsi:type="dcterms:W3CDTF">2016-03-01T07:29:19Z</dcterms:modified>
  <cp:revision>3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2</vt:r8>
  </property>
</Properties>
</file>