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3E5D-C4D4-4849-828F-29A67054E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2454-728A-4D54-89F5-39E51106B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975B-37CD-4D66-8D84-DD4714447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CC99-F13D-48D4-A5FB-44118E7B7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64D4-C92E-4B40-8C9B-DC1A38182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5ACE-349B-4CF4-9452-E032B3ACF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B04E-B2A6-4CCC-8927-CB101195B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1F97-81F6-49E9-A6A1-DA8A4D54A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5993-C3CF-4809-A9CF-E4492675B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2C2C-692E-4B42-A0B4-E60979922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FFAA-9703-4727-AEB0-9BC09A8D5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639D-DF0A-427C-A41E-6AD50EDD2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3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5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4ABC-0B55-4721-BB85-2F9E0C60064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Rectangle 34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5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b47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36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4012200" y="5958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3055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竹子流水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5360" y="404640"/>
            <a:ext cx="8177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fdbd2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6600"/>
            <a:ext cx="82170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838080" y="22096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57a19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57a19a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80880" y="542520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00:17Z</dcterms:created>
  <dc:creator>User</dc:creator>
  <dc:description/>
  <dc:language>en-US</dc:language>
  <cp:lastModifiedBy>王玉清</cp:lastModifiedBy>
  <dcterms:modified xsi:type="dcterms:W3CDTF">2016-02-22T03:25:42Z</dcterms:modified>
  <cp:revision>4</cp:revision>
  <dc:subject/>
  <dc:title>PowerPoint Template</dc:title>
</cp:coreProperties>
</file>