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FEE-E018-4CB4-8C94-E3F0B1DE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18C-B2EA-4A96-AB61-BD821FFA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8F9-92A2-460E-B638-CC8C8639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542-3BFE-482B-937B-7580CBD7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1B04-E06E-4C52-8708-3C63FFA4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E25F-94C9-4E52-9FC0-8B2AB83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A4CE-FF20-40BA-8757-BF5EF933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63B9-F136-4767-B549-EE37E445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E79B-63BB-4C28-9330-E170AB0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C413-CF21-4674-98DE-9AB20A52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1CA5-F341-4FBC-847E-493DB5DE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046-3D1C-405C-92C5-37A6543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C799-4B53-4362-B8E0-9ADEDCE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201E-8C8A-49AD-B205-D430939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C372-0599-430D-B3D9-624F2739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734B-43F3-47D5-A724-DD649118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8825-C7E1-431F-A0AC-93B27DF9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83B-6BA1-4208-821B-CCA8A12C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54F-9593-46BE-8CBB-1857653F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652-BA02-402D-B751-3D33CEF2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6BC-7978-489F-BA91-59448462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DE1-A8DC-409D-9398-728A2E8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2F0-03A0-48C5-96F7-1C9D9A5A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CB9-8961-48E2-BB90-4CE7E69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1879-9273-4912-AED2-69D835BE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BCC3-2478-432C-983B-BF32DD94D2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E:\VCD_PLAY.EX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3712320" y="40172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笛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60465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60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吃、喝、住、穿是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生存所依赖的物质条件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7754760" y="6462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00000" y="90792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没有精神寄托，灵魂就无所依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09720" y="299736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为什么鲁滨孙要写日记、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圣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19040" y="620640"/>
            <a:ext cx="815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鲁滨孙在逆境中的自我安慰算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算逃避现实？为什么？你试过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样安慰自己吗？请说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990720" y="3049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创作一则鲁滨孙的日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295280" y="1847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六六九年九月三十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朱4"/>
          <p:cNvPicPr/>
          <p:nvPr/>
        </p:nvPicPr>
        <p:blipFill>
          <a:blip r:embed="rId1"/>
          <a:stretch/>
        </p:blipFill>
        <p:spPr>
          <a:xfrm>
            <a:off x="1371600" y="3828960"/>
            <a:ext cx="1890720" cy="23623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3041640" y="2655720"/>
            <a:ext cx="4295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651640" y="260280"/>
            <a:ext cx="32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鲁滨孙身上拥有人类哪些优秀品质？请概括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鲁滨逊"/>
          <p:cNvPicPr/>
          <p:nvPr/>
        </p:nvPicPr>
        <p:blipFill>
          <a:blip r:embed="rId1"/>
          <a:stretch/>
        </p:blipFill>
        <p:spPr>
          <a:xfrm>
            <a:off x="0" y="0"/>
            <a:ext cx="566424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6290280" y="3056040"/>
            <a:ext cx="127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坚忍不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勤勉实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创造进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135680" y="0"/>
            <a:ext cx="4230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个人并不是生来就被打败的，你尽可以把他消灭掉，可就是打不败他。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海明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476280"/>
            <a:ext cx="83055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个人、一个民族、一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国家，只要不畏艰险，勇于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登，一定能达到光辉的顶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温家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FC8-A486-40CA-AB90-3B966F2AE5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0820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83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假如你像鲁滨孙被弃荒岛，你会怎样想？将怎么做？你能生存下来吗？发挥想象，写一篇短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473760" y="507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836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笛福，英国小说家，出生于伦敦。他受过中等教育，但没有受过大学古典文学教育。他早年做过商人，经营过烟酒、羊毛纺织、制砖业。经商屡屡失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开始写作小说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1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第一部小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鲁滨孙漂流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表，大受欢迎，同年又出版了续篇。他的小说继承了文艺复兴时期西班牙流浪汉小说的传统，往往写一个出身低微的人，靠机智和个人奋斗致富，获得成功。笛福对他所描写的人物理解较深，他善于写个人在不利的环境中克服困难。他的主人公有聪明才智，充满活力，不信天命，相信常识。情节结构不落斧凿痕迹。尤善长描写环境，细节逼真，语言自然，故事都是主人公自述，使读者感到亲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7128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泅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qi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    游水。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践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 jià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折磨，摧残、践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沮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j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丧：   灰心失望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g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浅 ：船因进入浅水而不能行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斫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zhu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痕： 斫，砍和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御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y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 抵挡，抵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冻饿之虞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y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虞，忧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668240" y="316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读准下列字的字音和理解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50920" y="620640"/>
            <a:ext cx="889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闻所未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听也没有听说过 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郑重其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形容态度非常严肃认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知足安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满足于已经得到的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不毛之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不长树木或庄稼的地方。形容土地荒凉、贫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聊以自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姑且用来安慰自己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54936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鲁滨孙在荒岛的思考经历了 哪几个阶段？简单概括出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128680" y="2492280"/>
            <a:ext cx="422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阶段：（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1</a:t>
            </a:r>
            <a:r>
              <a:rPr b="0" lang="en-US" sz="4000" spc="-1" strike="noStrike">
                <a:solidFill>
                  <a:srgbClr val="ff6699"/>
                </a:solidFill>
                <a:latin typeface="Arial"/>
                <a:ea typeface="隶书"/>
              </a:rPr>
              <a:t>—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生存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阶段：（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4</a:t>
            </a:r>
            <a:r>
              <a:rPr b="0" lang="en-US" sz="4000" spc="-1" strike="noStrike">
                <a:solidFill>
                  <a:srgbClr val="ff6699"/>
                </a:solidFill>
                <a:latin typeface="Arial"/>
                <a:ea typeface="隶书"/>
              </a:rPr>
              <a:t>—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物质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三阶段：（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10</a:t>
            </a:r>
            <a:r>
              <a:rPr b="0" lang="en-US" sz="4000" spc="-1" strike="noStrike">
                <a:solidFill>
                  <a:srgbClr val="ff6699"/>
                </a:solidFill>
                <a:latin typeface="Arial"/>
                <a:ea typeface="隶书"/>
              </a:rPr>
              <a:t>—</a:t>
            </a:r>
            <a:r>
              <a:rPr b="0" lang="en-US" sz="4000" spc="-1" strike="noStrike">
                <a:solidFill>
                  <a:srgbClr val="ff6699"/>
                </a:solidFill>
                <a:latin typeface="隶书"/>
                <a:ea typeface="隶书"/>
              </a:rPr>
              <a:t>1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精神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未标题-4"/>
          <p:cNvPicPr/>
          <p:nvPr/>
        </p:nvPicPr>
        <p:blipFill>
          <a:blip r:embed="rId1"/>
          <a:stretch/>
        </p:blipFill>
        <p:spPr>
          <a:xfrm>
            <a:off x="0" y="0"/>
            <a:ext cx="4818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6529320" y="56880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227720" y="333360"/>
            <a:ext cx="1003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方正楷体简体"/>
              </a:rPr>
              <a:t>生存，还是毁灭，这是一个值得思考的问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7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79280" y="62064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认为自己的前途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，我既然被凶猛的风暴完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原定的航线，远离人类贸易正常航线好几百海里以外，流落到这个荒上，那么，我就有充分的理由认为这是老天爷的意思，要我在这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地方，在这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情况下度过我的余生。一想到这些，我的眼泪就不由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有时我会发出疑问，为什么苍天要这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所造出的生灵，害得他这样不幸，这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致使人找不出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对这种生活产生感谢的心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74080" y="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在空白出填上适合的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23240" y="4737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暗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091960" y="4665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刮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396320" y="4665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孤零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485040" y="4592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孤独凄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68680" y="5256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夺眶而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598840" y="5227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328640" y="5227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孤立无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633720" y="5154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沮丧无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200"/>
          <p:cNvSpPr/>
          <p:nvPr/>
        </p:nvSpPr>
        <p:spPr>
          <a:xfrm>
            <a:off x="1908000" y="5877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187280" y="1125360"/>
            <a:ext cx="68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陷绝境的鲁滨孙找到了哪些活下去的理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未标题-5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976680" y="-562320"/>
            <a:ext cx="1277640" cy="81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鲁滨孙在荒岛上做了哪些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15:03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39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