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0.gif" ContentType="image/gif"/>
  <Override PartName="/ppt/media/image13.png" ContentType="image/png"/>
  <Override PartName="/ppt/media/image7.png" ContentType="image/png"/>
  <Override PartName="/ppt/media/image12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E18-D3FB-4C8E-8E3F-6445FEF2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B81-19AE-454E-BCCC-A351FF6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DC4-3311-42A3-9414-74F6DF84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7E8-324D-46CD-B7AC-9AE5E4CB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6BEF-DB82-415B-BC9C-5533F73D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5929-159B-4A63-8D82-2A914C3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83A8-FA44-4AC7-AF9D-2C37C8EB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155-C3F4-4C0C-99E9-F2D31470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42E1-5F83-406E-8FD2-C5698DF9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558A-1DCB-4D5B-8D4E-84AD3A17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71C-9BCB-4D6E-BAA7-604EB15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876-55D4-4940-A919-93342FA5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8AFA-ED5C-4A64-96B0-876B9083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39C7-D9A8-43D7-848D-C784D1A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A04-2B30-4C45-AD22-F45CC03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89A7-9530-42BF-9EB7-F5EA519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AF2C-37D5-4CFC-9E8A-459060BC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364-9C04-4CAB-BBBD-F03DE2ED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733-0072-479F-8FA9-0CDAEC98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841-EC14-4D4D-B354-751B985A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8DC-11EE-49E8-A93F-D1E16A91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537-E394-4AEA-9B68-F7946EC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30F-5181-4C00-9205-8C27B00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849-1CB9-43E8-9E54-09E2ED6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1A23-068A-43D3-9941-0457377D8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0422-794A-436F-92B8-B9AB5BC53A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34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000"/>
                </a:solidFill>
                <a:latin typeface="华文新魏"/>
                <a:ea typeface="华文新魏"/>
              </a:rPr>
              <a:t>人教新课标三年级品德与社会下册第二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84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换个角度想一想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32" descr="\\192.168.3.88\123$\小学品德与社会\三年级下\换个角度想一想（一）\p27-2.png"/>
          <p:cNvPicPr/>
          <p:nvPr/>
        </p:nvPicPr>
        <p:blipFill>
          <a:blip r:embed="rId1"/>
          <a:stretch/>
        </p:blipFill>
        <p:spPr>
          <a:xfrm>
            <a:off x="2028960" y="2198520"/>
            <a:ext cx="5086080" cy="4583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26" descr="D:\work\大全集\下学期送审\psd\品德与社会\03.gif"/>
          <p:cNvPicPr/>
          <p:nvPr/>
        </p:nvPicPr>
        <p:blipFill>
          <a:blip r:embed="rId2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27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AutoShape 1030"/>
          <p:cNvSpPr/>
          <p:nvPr/>
        </p:nvSpPr>
        <p:spPr>
          <a:xfrm>
            <a:off x="380880" y="2532240"/>
            <a:ext cx="3048120" cy="708480"/>
          </a:xfrm>
          <a:prstGeom prst="cloudCallout">
            <a:avLst>
              <a:gd name="adj1" fmla="val 48898"/>
              <a:gd name="adj2" fmla="val 22795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李勇，没关系，我家有钱，以后你需要钱说一声，我给你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AutoShape 1031"/>
          <p:cNvSpPr/>
          <p:nvPr/>
        </p:nvSpPr>
        <p:spPr>
          <a:xfrm>
            <a:off x="4343400" y="2460600"/>
            <a:ext cx="2668680" cy="708480"/>
          </a:xfrm>
          <a:prstGeom prst="cloudCallout">
            <a:avLst>
              <a:gd name="adj1" fmla="val -44902"/>
              <a:gd name="adj2" fmla="val 10002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谁要你的钱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AutoShape 1033"/>
          <p:cNvSpPr/>
          <p:nvPr/>
        </p:nvSpPr>
        <p:spPr>
          <a:xfrm>
            <a:off x="6094440" y="3398760"/>
            <a:ext cx="2668680" cy="1272600"/>
          </a:xfrm>
          <a:prstGeom prst="cloudCallout">
            <a:avLst>
              <a:gd name="adj1" fmla="val -43407"/>
              <a:gd name="adj2" fmla="val 1205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好心帮助他，他为什么生气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5" name="Picture 5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743200"/>
            <a:ext cx="2327400" cy="388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114800" y="2590920"/>
            <a:ext cx="4267080" cy="28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当别人议论李勇时，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  他会是怎样的心情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学好心想帮助他，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   李勇为什么生气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27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9" name="Picture 1028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071720" y="2643120"/>
            <a:ext cx="232704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29"/>
          <p:cNvSpPr/>
          <p:nvPr/>
        </p:nvSpPr>
        <p:spPr>
          <a:xfrm>
            <a:off x="3505320" y="2590920"/>
            <a:ext cx="510516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联系自己的生活实际想一想：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当自己的心情不好，或遇到  　　麻烦时，自己希望别人怎　   么对待自己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如果别人在旁边议论自己，　　自己会是怎样的感觉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文本框 8200"/>
          <p:cNvSpPr/>
          <p:nvPr/>
        </p:nvSpPr>
        <p:spPr>
          <a:xfrm>
            <a:off x="312408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4" name="Picture 4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743200"/>
            <a:ext cx="232740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114800" y="2590920"/>
            <a:ext cx="426708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以小组为单位，结合　 大家的生活体验，设计　 情境，演一演，怎样去　 宽慰别人，帮助别人解　 除烦恼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37E9-250B-4E07-8C6B-85C975240DB1}" type="slidenum">
              <a:rPr b="0" lang="zh-CN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:\work\大全集\下学期送审\psd\品德与社会\04.gif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3809880" y="2362320"/>
            <a:ext cx="4267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采访一下和你闹过不愉快的同学或朋友，问问当时他们是怎么想的。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2" name="Picture 11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666880"/>
            <a:ext cx="23274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work\大全集\下学期送审\psd\品德与社会\01.gif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787400" y="2209680"/>
            <a:ext cx="23274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267080" y="2057400"/>
            <a:ext cx="3810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你有没有和同学闹过不愉快呢？原因是什么？你觉得你有错吗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23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假如我是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0" name="Picture 15" descr="\\192.168.3.88\123$\小学品德与社会\三年级下\换个角度想一想（一）\p26-1.png"/>
          <p:cNvPicPr/>
          <p:nvPr/>
        </p:nvPicPr>
        <p:blipFill>
          <a:blip r:embed="rId2"/>
          <a:stretch/>
        </p:blipFill>
        <p:spPr>
          <a:xfrm>
            <a:off x="1600200" y="2671920"/>
            <a:ext cx="5791320" cy="41097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6"/>
          <p:cNvSpPr/>
          <p:nvPr/>
        </p:nvSpPr>
        <p:spPr>
          <a:xfrm>
            <a:off x="838080" y="3146400"/>
            <a:ext cx="2286000" cy="708480"/>
          </a:xfrm>
          <a:prstGeom prst="cloudCallout">
            <a:avLst>
              <a:gd name="adj1" fmla="val 60703"/>
              <a:gd name="adj2" fmla="val 50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不想玩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6018120" y="1555920"/>
            <a:ext cx="2668680" cy="708480"/>
          </a:xfrm>
          <a:prstGeom prst="cloudCallout">
            <a:avLst>
              <a:gd name="adj1" fmla="val -60277"/>
              <a:gd name="adj2" fmla="val 10875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咱们三个玩跳皮筋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5713560" y="3984480"/>
            <a:ext cx="2744640" cy="708480"/>
          </a:xfrm>
          <a:prstGeom prst="cloudCallout">
            <a:avLst>
              <a:gd name="adj1" fmla="val -42722"/>
              <a:gd name="adj2" fmla="val -5934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来吧，差一个没法玩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523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假如我是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6" name="Picture 8" descr="\\192.168.3.88\123$\小学品德与社会\三年级下\换个角度想一想（一）\p26-2.png"/>
          <p:cNvPicPr/>
          <p:nvPr/>
        </p:nvPicPr>
        <p:blipFill>
          <a:blip r:embed="rId2"/>
          <a:stretch/>
        </p:blipFill>
        <p:spPr>
          <a:xfrm>
            <a:off x="1542960" y="2793960"/>
            <a:ext cx="6686640" cy="3519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679320" y="2271600"/>
            <a:ext cx="2651400" cy="1272600"/>
          </a:xfrm>
          <a:prstGeom prst="cloudCallout">
            <a:avLst>
              <a:gd name="adj1" fmla="val 65324"/>
              <a:gd name="adj2" fmla="val 5967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也值得生气？我不就是不想玩嘛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6173640" y="2224080"/>
            <a:ext cx="2359080" cy="708480"/>
          </a:xfrm>
          <a:prstGeom prst="cloudCallout">
            <a:avLst>
              <a:gd name="adj1" fmla="val -62083"/>
              <a:gd name="adj2" fmla="val 15025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以后不找她玩了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5789520" y="4334040"/>
            <a:ext cx="2516400" cy="708480"/>
          </a:xfrm>
          <a:prstGeom prst="cloudCallout">
            <a:avLst>
              <a:gd name="adj1" fmla="val 1606"/>
              <a:gd name="adj2" fmla="val -10043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哼，真不够朋友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312408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Administrator\My Documents\My Pictures\d01.png"/>
          <p:cNvPicPr/>
          <p:nvPr/>
        </p:nvPicPr>
        <p:blipFill>
          <a:blip r:embed="rId2"/>
          <a:stretch/>
        </p:blipFill>
        <p:spPr>
          <a:xfrm>
            <a:off x="1374840" y="2895480"/>
            <a:ext cx="2663640" cy="2789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4038480" y="253368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我们演一演图片中的同　　学并互换角色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为什么这几位同学会发　　生冲突呢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你有没有什么好办法来　　解决吗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523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假如我是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了解他人的情绪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581280" y="2590920"/>
            <a:ext cx="5181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请你根据平常观察到的因情绪变化反映出的面部表情，画出眼睛（快乐、悲伤）、嘴（笑、不满）以及其他的脸部表情。制作两三个情绪化的脸谱图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8" name="Picture 19" descr="C:\Documents and Settings\Administrator\My Documents\My Pictures\r05.png"/>
          <p:cNvPicPr/>
          <p:nvPr/>
        </p:nvPicPr>
        <p:blipFill>
          <a:blip r:embed="rId2"/>
          <a:stretch/>
        </p:blipFill>
        <p:spPr>
          <a:xfrm>
            <a:off x="1512720" y="2895480"/>
            <a:ext cx="19162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了解他人的情绪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600200" y="4800600"/>
            <a:ext cx="2133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2" name="Picture 9" descr="C:\Documents and Settings\Administrator\My Documents\My Pictures\qqem1684.gif"/>
          <p:cNvPicPr/>
          <p:nvPr/>
        </p:nvPicPr>
        <p:blipFill>
          <a:blip r:embed="rId2"/>
          <a:stretch/>
        </p:blipFill>
        <p:spPr>
          <a:xfrm>
            <a:off x="1752480" y="266688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Administrator\My Documents\My Pictures\qqem1686.gif"/>
          <p:cNvPicPr/>
          <p:nvPr/>
        </p:nvPicPr>
        <p:blipFill>
          <a:blip r:embed="rId3"/>
          <a:stretch/>
        </p:blipFill>
        <p:spPr>
          <a:xfrm>
            <a:off x="3886200" y="2716200"/>
            <a:ext cx="180036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581280" y="4876920"/>
            <a:ext cx="2133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伤心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5" name="Picture 12" descr="C:\Documents and Settings\Administrator\My Documents\My Pictures\qqem1691.gif"/>
          <p:cNvPicPr/>
          <p:nvPr/>
        </p:nvPicPr>
        <p:blipFill>
          <a:blip r:embed="rId4"/>
          <a:stretch/>
        </p:blipFill>
        <p:spPr>
          <a:xfrm>
            <a:off x="6248520" y="2590920"/>
            <a:ext cx="180324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3"/>
          <p:cNvSpPr/>
          <p:nvPr/>
        </p:nvSpPr>
        <p:spPr>
          <a:xfrm>
            <a:off x="6400800" y="4800600"/>
            <a:ext cx="1752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惊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了解他人的情绪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9" name="Picture 7" descr="C:\Documents and Settings\Administrator\My Documents\My Pictures\d01.png"/>
          <p:cNvPicPr/>
          <p:nvPr/>
        </p:nvPicPr>
        <p:blipFill>
          <a:blip r:embed="rId2"/>
          <a:stretch/>
        </p:blipFill>
        <p:spPr>
          <a:xfrm>
            <a:off x="1143000" y="2895480"/>
            <a:ext cx="2664000" cy="2789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3505320" y="251460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什么时候你感到骄傲。（或　　　是其他情感，如生气、尴尬、　　困惑、孤独、兴奋等。）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你怎么知道他人感到悲伤。　　（或是其他情感，如生气、尴　　　尬、困惑、孤独、兴奋等。）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说说你与同学交往中遇到的快　　乐事和伤心事，并讲述当时的　　心情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523880" y="1828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他为什么生气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3" name="Picture 13" descr="\\192.168.3.88\123$\小学品德与社会\三年级下\换个角度想一想（一）\p27-1.png"/>
          <p:cNvPicPr/>
          <p:nvPr/>
        </p:nvPicPr>
        <p:blipFill>
          <a:blip r:embed="rId2"/>
          <a:stretch/>
        </p:blipFill>
        <p:spPr>
          <a:xfrm>
            <a:off x="1676520" y="2286000"/>
            <a:ext cx="6019560" cy="4302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4"/>
          <p:cNvSpPr/>
          <p:nvPr/>
        </p:nvSpPr>
        <p:spPr>
          <a:xfrm>
            <a:off x="3246480" y="1523880"/>
            <a:ext cx="2651040" cy="708120"/>
          </a:xfrm>
          <a:prstGeom prst="cloudCallout">
            <a:avLst>
              <a:gd name="adj1" fmla="val 22624"/>
              <a:gd name="adj2" fmla="val 2602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你们知道吗？李勇的妈妈下岗了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6173640" y="1447920"/>
            <a:ext cx="2664000" cy="708120"/>
          </a:xfrm>
          <a:prstGeom prst="cloudCallout">
            <a:avLst>
              <a:gd name="adj1" fmla="val -44527"/>
              <a:gd name="adj2" fmla="val 25212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真的？他爸爸病休在家，这回可惨了。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5257800" y="4038480"/>
            <a:ext cx="3125880" cy="1272600"/>
          </a:xfrm>
          <a:prstGeom prst="cloudCallout">
            <a:avLst>
              <a:gd name="adj1" fmla="val -50296"/>
              <a:gd name="adj2" fmla="val 11840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假如你是李勇，听到这些话有什么感觉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7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04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