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3ECAB-18A8-4FCD-88AC-497A4606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B080E-6C4D-46F0-8114-5348B371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EE644-DBD1-4390-9C03-E699BFBA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A700C-9094-42AC-BFA1-419D0DD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EB8E8-F8E4-4968-AECC-02597E4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45963-BE07-4F84-AFF7-433FF958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9572F-C1A8-4FC5-8405-AB5E076C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19DC5-5D57-496B-842B-528F73A3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8B215-2E72-4EF9-9D41-E0CE3EE3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F1C87-6895-47E3-985F-40D33AFC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A800A-3A91-4312-9631-F458FC46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6A5AD-A5EB-4464-9C8E-40E54435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CC09A-8A06-47F6-9414-34CC45C4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D6775-4B37-40B7-84FF-353D1FC7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1425D-803E-4598-A0D3-A69AD4A7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34060-3744-41A1-850B-6B87E46D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F35CA-0532-45F3-ACF8-69EABBA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33CD2-24E0-4486-909A-038401C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0A5E4-C1F2-467C-90C9-A3631993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A8CCD-AEB6-41C0-A5DB-1E80A984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B3865-A49C-4052-A7F4-AB831664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95B25-5D08-4031-84BF-397414B2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26D87-9CB9-4A67-878E-BE190E19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B6EE3-45F9-4F9F-925E-CB88B3A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E4173-F1AA-4307-91FB-CDD3AD40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757A2-D297-4075-A9ED-25E2A8DC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17CDB-51B4-4FEA-BBCA-FB9BDDA1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93DA7-8BCD-45A1-86CF-CFFD144A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CD30D-A703-4733-8FF9-01AB9B7B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17FF9-A9AB-4D62-B3AE-D97F335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014-8C2A-48BE-817C-092AC6CC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ABA1B-AA30-4126-8A14-2C30F5C2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62BDF-E009-4B83-B66B-FA8E6515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B4974-2073-415A-804C-9BBDB913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D8904-E062-45B4-AD47-01CBE966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AFB6D-9460-474E-89F7-66DE57C5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18A37-B90D-467D-9EC7-2AB1C074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0C968-8CA7-4CB0-81D7-8E3801E2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C3960-39B5-47CC-9E22-2947E2D6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2D548-E047-4B86-9371-CB5AC1A6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99370-9218-4FF8-B47E-A9701966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817-F867-4A12-B748-BCEB08AB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562DA-22FA-4FBB-B94B-3DD068F0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DDBBC-232C-4F34-BFBA-4B73C329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739CA-D594-4C00-AAE8-623CBD69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22008-018B-4459-8371-4D164052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9AAB0-28E5-4028-946E-B75428C2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B87EF-4A30-4746-89B3-60F6FD9A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413A3-A037-40F0-8A81-B4498D77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B6FFB-68E6-48C0-BDBC-D59935D1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4F79B-FF63-4DA7-9B04-2670C95D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17FC2-B496-4461-B494-43CDC13E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746-8BF2-4580-9E54-FD35059A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54AD8-B2F9-4210-ADDC-CA520D9E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9138A-473C-48E0-AFBD-4127816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3A86F-7E3D-49E4-9732-C34AFD04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2193E-D4E8-4232-94FC-826CE0FE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9C01E-0CC3-471D-A6CA-DC44547D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A3F10-4943-49A6-A4E6-F10F76E2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809ED-064C-427D-847C-9F228ACF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B24F5-D913-42F9-A733-E380D7F9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51CE3-C351-4166-AE48-F41D4642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2CF09-D4BD-4F9C-BACD-F4E4BF0A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7C5-88F2-4E76-A4C9-2AF2EB9B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6293C-F552-46A6-AA6A-EBB15DBA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6F636-3826-4907-A47E-977F4744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9105E-D77A-400F-B56E-1D896674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A1CEF-3FE7-405F-BEE3-B8D4B4B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F9304-7ECC-4D56-917A-D8E87EC2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C1833-67D3-4A94-8BDF-06D959BC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76E20-4ECA-4A7B-AFB6-407EB6B8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8B829-7529-4DD1-A98D-C2AFDAC1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3796C-B1ED-45F0-B985-33C9AFC6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980-4036-4EC8-9340-CC8F081D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FF9-1A37-4DF4-BDAA-4F8A024E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997-F0C5-4A02-B82B-A09C673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EC2-AB64-45A8-9A36-463D8C8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7A6-F876-4C79-8A50-D16D386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264-22D2-4522-8C26-F158325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D67-031C-46D1-810C-ED86945F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E5A-8EFB-4014-81C6-4A2587A5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224E-F48B-4ED8-B4B1-C4D99BD3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80D6-5BF7-4ED8-9A73-B34771A3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EA89-EA89-495B-8F5C-0673CEAF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699B-BBDD-4DAF-85A9-427A7F94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44FA-2BDE-461A-81F8-86E426EB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171A-B0EF-4564-BB48-CFDB61B0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EF54-3201-4E1F-807D-2CD60BB6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3293-CF18-4189-8EA4-D8927EB5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6018-A417-42DC-89CA-8A7EF3BA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8569-7865-4622-BE1E-887ABBB8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D9DD-F71F-4868-8050-CC571CB1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441F-7C0C-4ADC-9A6E-D1340FDB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C93E-3DBA-472F-AE61-3A1512CE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E07B-E9CA-434F-91E9-B63AD653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92B1-4DCC-4909-B342-9986AAAF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02A0-FA6D-4A68-BB6B-3890DA49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094D9-8ED4-40BB-9903-6CAD06BD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7DF3-26C0-429A-A265-04D3D9B7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6ACC-3924-4BB0-A771-41FEAFD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2CB1-7B8B-4EE4-9947-39F629B5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279E-356A-4C48-84C0-2E8088AC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D6EAE-366C-4B7A-BEDD-77A0A365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5175-9B7C-4C7F-8C4D-AC9CE9AF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D962-2391-40D9-9DCC-713B1BAD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F68FC-D275-4823-84F2-71E5FE00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C2ED-65DB-40A9-84D5-01098463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A7AD2-DEDC-4F67-8A64-D45971CE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F22A6-CE8D-45A4-8FCF-D84BDE2A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87912-F02A-4C7C-AF1D-DEFD7498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D6D0F-DE0A-4B4B-9A4D-976508F4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3DD15-F43E-4EC8-BE77-6CE70C6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6D77-8511-48FC-8C1E-2103079B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DD1D1-9011-404C-A9C5-41DFF3B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7129-2F32-415D-815C-57B43866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1A20-4D92-447F-8A74-5D1E3298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3C4F7-4597-48C4-9481-2D86E851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2693C-33FF-43F6-BD97-96568384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148F6-4BB1-4313-BF22-E27CE7D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0EF78-C54A-4673-9ED7-6C11CBDE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6EB87-C1AA-47E5-B219-D53C03FA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CBA76-CCF6-4894-ABA2-01DF10D2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4E8EC-ECE0-4367-A955-6F555E03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6265-B468-4F12-BE22-7BAEDFA1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AC0A-EB81-4254-A0D9-7D7BFA79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8542-B2BF-442C-871B-8A7F05F7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D8E46-0A1F-4114-8EB7-196B7214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6A2D-B5C9-48D1-9E5D-DEC26CDC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687A-D383-44C5-BEE3-B4765CE0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D3A59-476F-4D78-9C53-25168598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8674-89C8-4AEB-82FA-F9EE9D96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4DD2E-1A64-4BD3-9BEC-47D8F50B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76D0B-0910-4304-9C2A-758F4D92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DE871-969E-4144-A32F-D6CA6782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53AEF-1089-45EE-903B-8ECE1B15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C0F24-A19B-4E1D-B65E-B41CAE67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A06AE-E059-4B0B-91E5-8BDF8A8F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067C4-832F-4306-BFE4-1D92A3C4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27436-F67D-4D90-886F-70C147B4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44045-7500-41D1-AAD6-6A2DD803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336D9-E29F-47C2-84EB-9A08E358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E2861-006C-4C37-8A9A-8C55CACE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2C64A-D6E0-46D3-AAF4-3310DD47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A3F0-5AEF-4BF3-BCD4-8EA7DA2B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64B2F-A946-4C22-A63D-522D07B7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300D7-AEF5-47C9-924F-90A8F894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8F770-75E9-4E3E-B184-1C83701D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7DD3E-A1D8-445C-9537-2A921BB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1775-0EEF-413D-812E-00DFF0E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602D7-5973-4DDA-B7BB-F37D18E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1DDED-5C9C-4F4E-8DF1-4B2F62E2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2DD3A-5E67-41FD-997C-F55A830F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5BD52-4474-4879-95F9-03F3EF49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A0FBE-C378-4083-A0D2-A8388245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01560-F4CA-402C-B2C9-114324D7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62D7F-5C02-4C9D-8D3B-19DAA3AF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025F-0FC5-48A0-8E98-362CF40B4B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91FF-4971-4A79-8A18-D91143356D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FB27-15FD-4FC0-99F8-77F3B6FE403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2B28-68A4-4D85-AC4B-F5CEFAB250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37F7-435F-4D86-B13B-02480A7F42A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DDA1-1F86-42EB-A42B-DB01BC4A0CB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CEDF-74FE-4B90-A486-7C4896CFC6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22B6-48F6-464D-859D-36E73B74EF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43B9-AA91-4B02-879F-73C64CA5CAC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F52E-0594-444C-BA7B-2FA4AB89346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8211-32CA-42E3-973E-6289621A5B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C3E-2AA4-4A93-8476-1C97D6365BC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13A6-85B2-4027-A9C6-51504927D9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欢欢喜喜过春节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1" descr=""/>
          <p:cNvPicPr/>
          <p:nvPr/>
        </p:nvPicPr>
        <p:blipFill>
          <a:blip r:embed="rId1"/>
          <a:stretch/>
        </p:blipFill>
        <p:spPr>
          <a:xfrm>
            <a:off x="685800" y="3075120"/>
            <a:ext cx="3835440" cy="256356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3" descr=""/>
          <p:cNvPicPr/>
          <p:nvPr/>
        </p:nvPicPr>
        <p:blipFill>
          <a:blip r:embed="rId2"/>
          <a:stretch/>
        </p:blipFill>
        <p:spPr>
          <a:xfrm>
            <a:off x="4038480" y="2482920"/>
            <a:ext cx="4496040" cy="2698560"/>
          </a:xfrm>
          <a:prstGeom prst="rect">
            <a:avLst/>
          </a:prstGeom>
          <a:ln w="0">
            <a:noFill/>
          </a:ln>
        </p:spPr>
      </p:pic>
      <p:sp>
        <p:nvSpPr>
          <p:cNvPr id="573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迷你简蝶语"/>
              </a:rPr>
              <a:t>贴年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门神"/>
          <p:cNvPicPr/>
          <p:nvPr/>
        </p:nvPicPr>
        <p:blipFill>
          <a:blip r:embed="rId1"/>
          <a:stretch/>
        </p:blipFill>
        <p:spPr>
          <a:xfrm>
            <a:off x="5638680" y="3809880"/>
            <a:ext cx="2887920" cy="28195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7" descr="图片5"/>
          <p:cNvPicPr/>
          <p:nvPr/>
        </p:nvPicPr>
        <p:blipFill>
          <a:blip r:embed="rId2"/>
          <a:stretch/>
        </p:blipFill>
        <p:spPr>
          <a:xfrm>
            <a:off x="5181480" y="152280"/>
            <a:ext cx="3584520" cy="35845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图片4"/>
          <p:cNvPicPr/>
          <p:nvPr/>
        </p:nvPicPr>
        <p:blipFill>
          <a:blip r:embed="rId3"/>
          <a:stretch/>
        </p:blipFill>
        <p:spPr>
          <a:xfrm>
            <a:off x="228600" y="1295280"/>
            <a:ext cx="44956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7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8"/>
          <p:cNvSpPr/>
          <p:nvPr/>
        </p:nvSpPr>
        <p:spPr>
          <a:xfrm>
            <a:off x="457200" y="762120"/>
            <a:ext cx="289548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拜  年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3581280" y="228600"/>
            <a:ext cx="5410440" cy="132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年初一，人们都早早起来，穿上最漂亮的衣服，打扮得整整齐齐，出门去走亲访友，相互拜年，恭祝来年大吉大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春节拜年时，晚辈要先给长辈拜年，祝长辈人长寿安康，长辈可将事先准备好的压岁钱分给晚辈，据说压岁钱可以压住邪祟，晚辈得到压岁钱就可以平平安安度过一岁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01300000291092126493110161224"/>
          <p:cNvPicPr/>
          <p:nvPr/>
        </p:nvPicPr>
        <p:blipFill>
          <a:blip r:embed="rId2"/>
          <a:stretch/>
        </p:blipFill>
        <p:spPr>
          <a:xfrm>
            <a:off x="228600" y="2362320"/>
            <a:ext cx="32767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71800" cy="141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赏花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20082610515417125"/>
          <p:cNvPicPr/>
          <p:nvPr/>
        </p:nvPicPr>
        <p:blipFill>
          <a:blip r:embed="rId1"/>
          <a:stretch/>
        </p:blipFill>
        <p:spPr>
          <a:xfrm>
            <a:off x="0" y="4038480"/>
            <a:ext cx="2362320" cy="28195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666880" cy="5181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年赏花灯习俗自古由来已久，一直流传到现在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6" descr="灯展"/>
          <p:cNvPicPr/>
          <p:nvPr/>
        </p:nvPicPr>
        <p:blipFill>
          <a:blip r:embed="rId2"/>
          <a:stretch/>
        </p:blipFill>
        <p:spPr>
          <a:xfrm>
            <a:off x="5334120" y="40384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图片4"/>
          <p:cNvPicPr/>
          <p:nvPr/>
        </p:nvPicPr>
        <p:blipFill>
          <a:blip r:embed="rId3"/>
          <a:stretch/>
        </p:blipFill>
        <p:spPr>
          <a:xfrm>
            <a:off x="2952720" y="0"/>
            <a:ext cx="61912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汉仪神工体简"/>
              </a:rPr>
              <a:t>舞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3_100120165843_1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舞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20110215100015759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4876920"/>
          </a:xfrm>
          <a:prstGeom prst="rect">
            <a:avLst/>
          </a:prstGeom>
          <a:ln w="0">
            <a:noFill/>
          </a:ln>
        </p:spPr>
      </p:pic>
      <p:sp>
        <p:nvSpPr>
          <p:cNvPr id="622" name="文本框 8199"/>
          <p:cNvSpPr/>
          <p:nvPr/>
        </p:nvSpPr>
        <p:spPr>
          <a:xfrm>
            <a:off x="744480" y="1189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走高跷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842b2bb6d9810ec6d80d51"/>
          <p:cNvPicPr/>
          <p:nvPr/>
        </p:nvPicPr>
        <p:blipFill>
          <a:blip r:embed="rId1"/>
          <a:stretch/>
        </p:blipFill>
        <p:spPr>
          <a:xfrm>
            <a:off x="380880" y="1447920"/>
            <a:ext cx="8153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5410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汉仪太极体简"/>
              </a:rPr>
              <a:t>吉祥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29714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汉仪太极体简"/>
              </a:rPr>
              <a:t>我们一起说说吉祥话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B3E2-E24D-4DEE-8F85-B8A191F771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10" descr="C446[)`8{B(GTN{R_UOKC~S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11"/>
          <p:cNvSpPr/>
          <p:nvPr/>
        </p:nvSpPr>
        <p:spPr>
          <a:xfrm>
            <a:off x="228600" y="4495680"/>
            <a:ext cx="8001000" cy="22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祝：全体师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        </a:t>
            </a:r>
            <a:r>
              <a:rPr b="0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新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年大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汉仪神工体简"/>
              </a:rPr>
              <a:t>穿新衣、穿新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4" descr="3D011D575BE7A74B"/>
          <p:cNvPicPr/>
          <p:nvPr/>
        </p:nvPicPr>
        <p:blipFill>
          <a:blip r:embed="rId1"/>
          <a:stretch/>
        </p:blipFill>
        <p:spPr>
          <a:xfrm>
            <a:off x="76320" y="1447920"/>
            <a:ext cx="4572000" cy="47242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6cf8f785-90a7-447a-857f-5db9eae3033a"/>
          <p:cNvPicPr/>
          <p:nvPr/>
        </p:nvPicPr>
        <p:blipFill>
          <a:blip r:embed="rId2"/>
          <a:stretch/>
        </p:blipFill>
        <p:spPr>
          <a:xfrm>
            <a:off x="4724280" y="1905120"/>
            <a:ext cx="4267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放鞭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8" descr="鞭炮"/>
          <p:cNvPicPr/>
          <p:nvPr/>
        </p:nvPicPr>
        <p:blipFill>
          <a:blip r:embed="rId1"/>
          <a:stretch/>
        </p:blipFill>
        <p:spPr>
          <a:xfrm>
            <a:off x="0" y="2057400"/>
            <a:ext cx="3352680" cy="34034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放鞭炮"/>
          <p:cNvPicPr/>
          <p:nvPr/>
        </p:nvPicPr>
        <p:blipFill>
          <a:blip r:embed="rId2"/>
          <a:stretch/>
        </p:blipFill>
        <p:spPr>
          <a:xfrm>
            <a:off x="4114800" y="1676520"/>
            <a:ext cx="5029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汉仪太极体简"/>
              </a:rPr>
              <a:t>挂灯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185_200901222358221Vfw0"/>
          <p:cNvPicPr/>
          <p:nvPr/>
        </p:nvPicPr>
        <p:blipFill>
          <a:blip r:embed="rId1"/>
          <a:stretch/>
        </p:blipFill>
        <p:spPr>
          <a:xfrm>
            <a:off x="460440" y="1371600"/>
            <a:ext cx="7997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守岁，吃年夜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20090126174901293"/>
          <p:cNvPicPr/>
          <p:nvPr/>
        </p:nvPicPr>
        <p:blipFill>
          <a:blip r:embed="rId1"/>
          <a:stretch/>
        </p:blipFill>
        <p:spPr>
          <a:xfrm>
            <a:off x="0" y="228600"/>
            <a:ext cx="1474920" cy="11844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4648320" y="1828800"/>
            <a:ext cx="4495680" cy="3124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迷你简蝶语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迷你简蝶语"/>
                <a:ea typeface="迷你简蝶语"/>
              </a:rPr>
              <a:t>除夕守岁是最重要的年俗活动之一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迷你简蝶语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迷你简蝶语"/>
                <a:ea typeface="迷你简蝶语"/>
              </a:rPr>
              <a:t>大家终夜不眠，以待天明，称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迷你简蝶语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迷你简蝶语"/>
                <a:ea typeface="迷你简蝶语"/>
              </a:rPr>
              <a:t>守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迷你简蝶语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迷你简蝶语"/>
                <a:ea typeface="迷你简蝶语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4419720"/>
            <a:ext cx="358128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夕之夜，全家团聚在一起，吃过年夜饭，其中必须要有鱼这道菜，象征年年有余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11012703378f44bc41d6f64bac"/>
          <p:cNvPicPr/>
          <p:nvPr/>
        </p:nvPicPr>
        <p:blipFill>
          <a:blip r:embed="rId2"/>
          <a:stretch/>
        </p:blipFill>
        <p:spPr>
          <a:xfrm>
            <a:off x="304920" y="16765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图片1"/>
          <p:cNvPicPr/>
          <p:nvPr/>
        </p:nvPicPr>
        <p:blipFill>
          <a:blip r:embed="rId3"/>
          <a:stretch/>
        </p:blipFill>
        <p:spPr>
          <a:xfrm>
            <a:off x="5029200" y="4340160"/>
            <a:ext cx="35053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imagesCAZ4WH72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868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200901131013135356"/>
          <p:cNvPicPr/>
          <p:nvPr/>
        </p:nvPicPr>
        <p:blipFill>
          <a:blip r:embed="rId2"/>
          <a:stretch/>
        </p:blipFill>
        <p:spPr>
          <a:xfrm>
            <a:off x="0" y="228600"/>
            <a:ext cx="4419720" cy="34797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饺子"/>
          <p:cNvPicPr/>
          <p:nvPr/>
        </p:nvPicPr>
        <p:blipFill>
          <a:blip r:embed="rId3"/>
          <a:stretch/>
        </p:blipFill>
        <p:spPr>
          <a:xfrm>
            <a:off x="4648320" y="228600"/>
            <a:ext cx="4267080" cy="34671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8"/>
          <p:cNvSpPr/>
          <p:nvPr/>
        </p:nvSpPr>
        <p:spPr>
          <a:xfrm>
            <a:off x="914400" y="4800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吃饺子代表“吉祥如意”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3" descr="01300000761119126603158113741"/>
          <p:cNvPicPr/>
          <p:nvPr/>
        </p:nvPicPr>
        <p:blipFill>
          <a:blip r:embed="rId1"/>
          <a:stretch/>
        </p:blipFill>
        <p:spPr>
          <a:xfrm>
            <a:off x="4876920" y="380880"/>
            <a:ext cx="4044960" cy="4219560"/>
          </a:xfrm>
          <a:prstGeom prst="rect">
            <a:avLst/>
          </a:prstGeom>
          <a:ln w="0">
            <a:noFill/>
          </a:ln>
        </p:spPr>
      </p:pic>
      <p:sp>
        <p:nvSpPr>
          <p:cNvPr id="594" name="WordArt 4"/>
          <p:cNvSpPr txBox="1"/>
          <p:nvPr/>
        </p:nvSpPr>
        <p:spPr>
          <a:xfrm>
            <a:off x="1219320" y="3886200"/>
            <a:ext cx="51051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吃年糕寓意节节高升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95" name="Picture 6" descr="图片2"/>
          <p:cNvPicPr/>
          <p:nvPr/>
        </p:nvPicPr>
        <p:blipFill>
          <a:blip r:embed="rId4"/>
          <a:stretch/>
        </p:blipFill>
        <p:spPr>
          <a:xfrm>
            <a:off x="0" y="0"/>
            <a:ext cx="41655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3" descr="110217164096231"/>
          <p:cNvPicPr/>
          <p:nvPr/>
        </p:nvPicPr>
        <p:blipFill>
          <a:blip r:embed="rId1"/>
          <a:stretch/>
        </p:blipFill>
        <p:spPr>
          <a:xfrm>
            <a:off x="4038480" y="3352680"/>
            <a:ext cx="4862520" cy="3243240"/>
          </a:xfrm>
          <a:prstGeom prst="rect">
            <a:avLst/>
          </a:prstGeom>
          <a:ln w="0">
            <a:noFill/>
          </a:ln>
        </p:spPr>
      </p:pic>
      <p:sp>
        <p:nvSpPr>
          <p:cNvPr id="597" name="WordArt 4"/>
          <p:cNvSpPr txBox="1"/>
          <p:nvPr/>
        </p:nvSpPr>
        <p:spPr>
          <a:xfrm>
            <a:off x="4572000" y="685800"/>
            <a:ext cx="3809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贴对联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98" name="Picture 6" descr="图片3"/>
          <p:cNvPicPr/>
          <p:nvPr/>
        </p:nvPicPr>
        <p:blipFill>
          <a:blip r:embed="rId2"/>
          <a:stretch/>
        </p:blipFill>
        <p:spPr>
          <a:xfrm>
            <a:off x="0" y="304920"/>
            <a:ext cx="4273560" cy="3109680"/>
          </a:xfrm>
          <a:prstGeom prst="rect">
            <a:avLst/>
          </a:prstGeom>
          <a:ln w="0">
            <a:noFill/>
          </a:ln>
        </p:spPr>
      </p:pic>
      <p:sp>
        <p:nvSpPr>
          <p:cNvPr id="599" name="文本框 8199"/>
          <p:cNvSpPr/>
          <p:nvPr/>
        </p:nvSpPr>
        <p:spPr>
          <a:xfrm>
            <a:off x="125280" y="4000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541008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贴春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1" descr="01300000011347120099276475985_s"/>
          <p:cNvPicPr/>
          <p:nvPr/>
        </p:nvPicPr>
        <p:blipFill>
          <a:blip r:embed="rId1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2" descr="贴春联"/>
          <p:cNvPicPr/>
          <p:nvPr/>
        </p:nvPicPr>
        <p:blipFill>
          <a:blip r:embed="rId2"/>
          <a:stretch/>
        </p:blipFill>
        <p:spPr>
          <a:xfrm>
            <a:off x="4876920" y="198288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 txBox="1"/>
          <p:nvPr/>
        </p:nvSpPr>
        <p:spPr>
          <a:xfrm>
            <a:off x="0" y="1752480"/>
            <a:ext cx="4038480" cy="464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联也叫门对、春贴、对联、对子、桃符等。每逢春节，家家户户都要选一幅大红春联贴于门上为节日增加喜庆气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节贴“福”字也是一风俗。“福”字指福气、福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3" descr="01300000011347120099276475985_s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01:40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17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