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23.jpeg" ContentType="image/jpeg"/>
  <Override PartName="/ppt/media/image2.jpeg" ContentType="image/jpeg"/>
  <Override PartName="/ppt/media/image26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40.png" ContentType="image/png"/>
  <Override PartName="/ppt/media/image29.gif" ContentType="image/gif"/>
  <Override PartName="/ppt/media/image9.png" ContentType="image/png"/>
  <Override PartName="/ppt/media/image39.png" ContentType="image/png"/>
  <Override PartName="/ppt/media/image31.wmf" ContentType="image/x-wmf"/>
  <Override PartName="/ppt/media/image38.png" ContentType="image/png"/>
  <Override PartName="/ppt/media/image8.jpeg" ContentType="image/jpeg"/>
  <Override PartName="/ppt/media/image32.wmf" ContentType="image/x-wmf"/>
  <Override PartName="/ppt/media/image35.png" ContentType="image/png"/>
  <Override PartName="/ppt/media/image5.jpeg" ContentType="image/jpeg"/>
  <Override PartName="/ppt/media/image42.png" ContentType="image/png"/>
  <Override PartName="/ppt/media/image43.png" ContentType="image/png"/>
  <Override PartName="/ppt/media/image4.gif" ContentType="image/gif"/>
  <Override PartName="/ppt/media/image30.wmf" ContentType="image/x-wmf"/>
  <Override PartName="/ppt/media/image15.wmf" ContentType="image/x-wmf"/>
  <Override PartName="/ppt/media/image41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10.wmf" ContentType="image/x-wmf"/>
  <Override PartName="/ppt/media/image25.png" ContentType="image/png"/>
  <Override PartName="/ppt/media/image36.png" ContentType="image/png"/>
  <Override PartName="/ppt/media/image6.png" ContentType="image/png"/>
  <Override PartName="/ppt/media/image14.wmf" ContentType="image/x-wmf"/>
  <Override PartName="/ppt/media/image33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BC77-5D8A-4A82-94B5-AB74A03B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5C9-F107-44B5-931A-7E47C03A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CA9-0641-4AF7-984F-BFFB21EF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95E-1262-426E-BA97-19A6B34F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BC8-BEB9-451F-99A5-664C4E4E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926-DD40-4D96-AE14-E0611E31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B25-543E-4969-808B-5F2D9005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6F9-F378-43CC-98AA-A7B16240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152-373E-44C5-884D-04BCF24D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9E9-FFA0-418E-9BC2-0CFD2C69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8411-F26D-4E23-A6FE-9E0A0943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172-4DEE-465B-9969-9FA4BE3D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CDAB-3278-4EAF-BF80-2727984CD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B6CE-4FA3-4412-A7F7-158C5CB9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D7CC-D1F1-4B58-B588-8C161433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0BF2-5DE7-43E0-9138-107F7363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1E9D-3835-407B-917A-1A9E621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89DF-7D31-47CA-9E9E-1B53214A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4B74-18B9-4F15-ABB8-3A2AE8E9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0FB4-626B-4E6E-817F-37E4D065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0748-A4B7-47E7-AC75-DEC25065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3534-CB97-4121-810E-F0A0CD78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CD0E-A00E-4AAF-9EB6-C422BFB1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1FB8-641D-46B1-9763-F228EF92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23DD3-1A0D-4231-8C83-BA88D8C5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DBAF-854A-46B0-B57A-095BF45D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F6C13-3A53-4EF8-854B-598CFF35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6333-91EB-49F9-AD67-6213EA54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DE734-A5D2-4A66-9426-FFCC1CF2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96E4F-D132-4B0D-8F34-AFE3F354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243C-E60E-4110-9148-DAE49625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B127C-7FEB-4B20-97AC-CC6E8882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3E03D-B7BD-45FB-AF52-C46E4AD8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4C4E-F730-4BAF-806F-51F8F0FE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019A-35AC-401F-8171-2401C5FB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5D54-540D-47A2-BB18-18AA1649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411C-2F54-42F8-BBA0-76D7C85C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FB264-1595-47CB-9501-21F852F9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DB5A-EED0-4407-8301-4D2E6768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B3440-8721-4B0D-B91E-F534481F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2EFAF-ACF0-4189-8961-D83A05E4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C32EB-FF48-46C4-AA8C-2FDF7FF4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33A5-F283-40E3-92A7-0D4D68CE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00AFE-395D-4E88-971E-AF46D222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4868C-B011-48D8-AB6D-35D9D2A0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CF1D8-68AE-4F79-895B-D3619A4C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437F6-33D5-4911-A9B6-24584F62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D7A96-42F9-44D6-8777-CE8FCBAA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75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6C61-F721-4D34-B76A-9FE5325410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84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86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87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88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89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0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1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2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3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4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6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7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8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0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4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5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6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7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8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9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10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11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12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13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6F64-EFBB-4652-88DB-D36D65F353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192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19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9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9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9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0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1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1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1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1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1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1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1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2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2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2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2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2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2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227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9C4D-7027-4755-991C-A4A0DB016A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271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27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7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75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76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77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78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79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81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82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83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84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85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8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87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88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89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9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91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92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93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9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95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96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97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98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299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300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301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302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303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9DE2-16F6-45A2-B29D-58792A0847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gi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../../../&#30446;&#24405;.ppt" TargetMode="Externa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6E0A-94D7-4703-97CD-B3522C460C98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47" name="Picture 15" descr="框"/>
          <p:cNvPicPr/>
          <p:nvPr/>
        </p:nvPicPr>
        <p:blipFill>
          <a:blip r:embed="rId1"/>
          <a:stretch/>
        </p:blipFill>
        <p:spPr>
          <a:xfrm>
            <a:off x="254160" y="1154160"/>
            <a:ext cx="8154720" cy="13208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老师"/>
          <p:cNvPicPr/>
          <p:nvPr/>
        </p:nvPicPr>
        <p:blipFill>
          <a:blip r:embed="rId2"/>
          <a:stretch/>
        </p:blipFill>
        <p:spPr>
          <a:xfrm>
            <a:off x="415800" y="3095640"/>
            <a:ext cx="3314880" cy="31478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736560" y="1463760"/>
            <a:ext cx="718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第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节  滑轮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50" name="Picture 5" descr="11-图片-55"/>
          <p:cNvPicPr/>
          <p:nvPr/>
        </p:nvPicPr>
        <p:blipFill>
          <a:blip r:embed="rId3"/>
          <a:stretch/>
        </p:blipFill>
        <p:spPr>
          <a:xfrm>
            <a:off x="3201840" y="2916360"/>
            <a:ext cx="4311720" cy="3251160"/>
          </a:xfrm>
          <a:prstGeom prst="rect">
            <a:avLst/>
          </a:prstGeom>
          <a:ln w="0">
            <a:noFill/>
          </a:ln>
        </p:spPr>
      </p:pic>
      <p:sp>
        <p:nvSpPr>
          <p:cNvPr id="351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e163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8e163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72E9-1A85-462C-B483-810159505FB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826920" y="101124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使用定滑轮、动滑轮拉物体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仔细观察实验，注意物体移动的距离和绳子自由端移动的距离。    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96" name="Picture 16" descr="222222副本"/>
          <p:cNvPicPr/>
          <p:nvPr/>
        </p:nvPicPr>
        <p:blipFill>
          <a:blip r:embed="rId1"/>
          <a:stretch/>
        </p:blipFill>
        <p:spPr>
          <a:xfrm>
            <a:off x="1922400" y="2895480"/>
            <a:ext cx="5254560" cy="266220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7"/>
          <p:cNvSpPr/>
          <p:nvPr/>
        </p:nvSpPr>
        <p:spPr>
          <a:xfrm>
            <a:off x="2795400" y="548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甲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5464080" y="5486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乙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F325-7AB3-4B1A-A3CA-75F48EE8B1C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00" name="Text Box 13"/>
          <p:cNvSpPr/>
          <p:nvPr/>
        </p:nvSpPr>
        <p:spPr>
          <a:xfrm>
            <a:off x="3446640" y="1208160"/>
            <a:ext cx="2309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宋体"/>
                <a:ea typeface="宋体"/>
              </a:rPr>
              <a:t>滑轮组</a:t>
            </a:r>
            <a:endParaRPr b="0" lang="en-US" sz="27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01" name="Rectangle 18"/>
          <p:cNvSpPr/>
          <p:nvPr/>
        </p:nvSpPr>
        <p:spPr>
          <a:xfrm>
            <a:off x="955800" y="18302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用以下的动滑轮和定滑轮，可以组成怎样的滑轮组呢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402" name="Picture 19" descr=""/>
          <p:cNvPicPr/>
          <p:nvPr/>
        </p:nvPicPr>
        <p:blipFill>
          <a:blip r:embed="rId1"/>
          <a:stretch/>
        </p:blipFill>
        <p:spPr>
          <a:xfrm>
            <a:off x="1619280" y="3184560"/>
            <a:ext cx="2192400" cy="266364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20"/>
          <p:cNvGrpSpPr/>
          <p:nvPr/>
        </p:nvGrpSpPr>
        <p:grpSpPr>
          <a:xfrm>
            <a:off x="4932360" y="3184560"/>
            <a:ext cx="2076480" cy="2663640"/>
            <a:chOff x="4932360" y="3184560"/>
            <a:chExt cx="2076480" cy="2663640"/>
          </a:xfrm>
        </p:grpSpPr>
        <p:pic>
          <p:nvPicPr>
            <p:cNvPr id="404" name="Picture 21" descr=""/>
            <p:cNvPicPr/>
            <p:nvPr/>
          </p:nvPicPr>
          <p:blipFill>
            <a:blip r:embed="rId2"/>
            <a:stretch/>
          </p:blipFill>
          <p:spPr>
            <a:xfrm>
              <a:off x="4932360" y="3184560"/>
              <a:ext cx="106524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22" descr=""/>
            <p:cNvPicPr/>
            <p:nvPr/>
          </p:nvPicPr>
          <p:blipFill>
            <a:blip r:embed="rId3"/>
            <a:stretch/>
          </p:blipFill>
          <p:spPr>
            <a:xfrm>
              <a:off x="5994360" y="3184560"/>
              <a:ext cx="1014480" cy="2663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6277-9615-4234-B1F5-4FD4E3B237C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914400" y="668160"/>
            <a:ext cx="75009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滑轮组的作用 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若忽略了滑轮重和绳与滑轮的摩擦力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914400" y="4676760"/>
            <a:ext cx="728352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1.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滑轮组用几段 绳子吊起物体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.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将物体提升的力等于物重的几分之一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即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(F=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)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2.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手拉绳子通过的距离等于物体上升的距离的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n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倍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,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即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s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=nh)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409" name="Object 7" descr=""/>
          <p:cNvPicPr/>
          <p:nvPr/>
        </p:nvPicPr>
        <p:blipFill>
          <a:blip r:embed="rId1"/>
          <a:stretch/>
        </p:blipFill>
        <p:spPr>
          <a:xfrm>
            <a:off x="3338640" y="5073480"/>
            <a:ext cx="199800" cy="459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点击按钮"/>
          <p:cNvPicPr/>
          <p:nvPr/>
        </p:nvPicPr>
        <p:blipFill>
          <a:blip r:embed="rId2"/>
          <a:stretch/>
        </p:blipFill>
        <p:spPr>
          <a:xfrm>
            <a:off x="3919680" y="4443480"/>
            <a:ext cx="1212840" cy="309600"/>
          </a:xfrm>
          <a:prstGeom prst="rect">
            <a:avLst/>
          </a:prstGeom>
          <a:ln w="0">
            <a:noFill/>
          </a:ln>
        </p:spPr>
      </p:pic>
      <p:pic>
        <p:nvPicPr>
          <p:cNvPr id="411" name="ShockwaveFlash1" descr=""/>
          <p:cNvPicPr/>
          <p:nvPr/>
        </p:nvPicPr>
        <p:blipFill>
          <a:blip r:embed="rId3"/>
          <a:stretch/>
        </p:blipFill>
        <p:spPr>
          <a:xfrm>
            <a:off x="1235160" y="1127160"/>
            <a:ext cx="6661080" cy="31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05B6-EE34-42DD-8837-18D0A173B99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914400" y="1082520"/>
            <a:ext cx="82296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实验表明，使用滑轮组拉重物时，若动滑轮重和绳与滑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轮间的摩擦不计，动滑轮被几股绳子拉住，所用的力就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是物体与接触面摩擦力的几分之一，即      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如图所示，拉力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F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的大小等于＿＿＿＿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414" name="Object 4" descr=""/>
          <p:cNvPicPr/>
          <p:nvPr/>
        </p:nvPicPr>
        <p:blipFill>
          <a:blip r:embed="rId1"/>
          <a:stretch/>
        </p:blipFill>
        <p:spPr>
          <a:xfrm>
            <a:off x="6243480" y="2152800"/>
            <a:ext cx="825480" cy="67284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5"/>
          <p:cNvGrpSpPr/>
          <p:nvPr/>
        </p:nvGrpSpPr>
        <p:grpSpPr>
          <a:xfrm>
            <a:off x="1612800" y="3203640"/>
            <a:ext cx="5029200" cy="1523160"/>
            <a:chOff x="1612800" y="3203640"/>
            <a:chExt cx="5029200" cy="1523160"/>
          </a:xfrm>
        </p:grpSpPr>
        <p:grpSp>
          <p:nvGrpSpPr>
            <p:cNvPr id="416" name=""/>
            <p:cNvGrpSpPr/>
            <p:nvPr/>
          </p:nvGrpSpPr>
          <p:grpSpPr>
            <a:xfrm>
              <a:off x="1765080" y="4574880"/>
              <a:ext cx="3657600" cy="360"/>
              <a:chOff x="1765080" y="4574880"/>
              <a:chExt cx="3657600" cy="360"/>
            </a:xfrm>
          </p:grpSpPr>
          <p:sp>
            <p:nvSpPr>
              <p:cNvPr id="417" name="Line 6"/>
              <p:cNvSpPr/>
              <p:nvPr/>
            </p:nvSpPr>
            <p:spPr>
              <a:xfrm>
                <a:off x="1765080" y="457488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>
                <a:off x="1765080" y="4574880"/>
                <a:ext cx="3657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7"/>
            <p:cNvGrpSpPr/>
            <p:nvPr/>
          </p:nvGrpSpPr>
          <p:grpSpPr>
            <a:xfrm>
              <a:off x="1612800" y="3203640"/>
              <a:ext cx="5029200" cy="1523160"/>
              <a:chOff x="1612800" y="3203640"/>
              <a:chExt cx="5029200" cy="1523160"/>
            </a:xfrm>
          </p:grpSpPr>
          <p:grpSp>
            <p:nvGrpSpPr>
              <p:cNvPr id="420" name=""/>
              <p:cNvGrpSpPr/>
              <p:nvPr/>
            </p:nvGrpSpPr>
            <p:grpSpPr>
              <a:xfrm>
                <a:off x="1765080" y="3508200"/>
                <a:ext cx="360" cy="1066320"/>
                <a:chOff x="1765080" y="3508200"/>
                <a:chExt cx="360" cy="1066320"/>
              </a:xfrm>
            </p:grpSpPr>
            <p:sp>
              <p:nvSpPr>
                <p:cNvPr id="421" name="Line 8"/>
                <p:cNvSpPr/>
                <p:nvPr/>
              </p:nvSpPr>
              <p:spPr>
                <a:xfrm>
                  <a:off x="1765080" y="3508200"/>
                  <a:ext cx="0" cy="106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 txBox="1"/>
                <p:nvPr/>
              </p:nvSpPr>
              <p:spPr>
                <a:xfrm>
                  <a:off x="1765080" y="3508200"/>
                  <a:ext cx="360" cy="106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Group 9"/>
              <p:cNvGrpSpPr/>
              <p:nvPr/>
            </p:nvGrpSpPr>
            <p:grpSpPr>
              <a:xfrm>
                <a:off x="1612800" y="3203640"/>
                <a:ext cx="5029200" cy="1523160"/>
                <a:chOff x="1612800" y="3203640"/>
                <a:chExt cx="5029200" cy="1523160"/>
              </a:xfrm>
            </p:grpSpPr>
            <p:sp>
              <p:nvSpPr>
                <p:cNvPr id="424" name="Rectangle 10"/>
                <p:cNvSpPr/>
                <p:nvPr/>
              </p:nvSpPr>
              <p:spPr>
                <a:xfrm>
                  <a:off x="5956200" y="3813120"/>
                  <a:ext cx="685800" cy="761400"/>
                </a:xfrm>
                <a:prstGeom prst="rect">
                  <a:avLst/>
                </a:prstGeom>
                <a:solidFill>
                  <a:srgbClr val="d8d8e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Group 11"/>
                <p:cNvGrpSpPr/>
                <p:nvPr/>
              </p:nvGrpSpPr>
              <p:grpSpPr>
                <a:xfrm>
                  <a:off x="1612800" y="3203640"/>
                  <a:ext cx="5029200" cy="1523160"/>
                  <a:chOff x="1612800" y="3203640"/>
                  <a:chExt cx="5029200" cy="1523160"/>
                </a:xfrm>
              </p:grpSpPr>
              <p:grpSp>
                <p:nvGrpSpPr>
                  <p:cNvPr id="426" name="Group 12"/>
                  <p:cNvGrpSpPr/>
                  <p:nvPr/>
                </p:nvGrpSpPr>
                <p:grpSpPr>
                  <a:xfrm>
                    <a:off x="4127040" y="3888720"/>
                    <a:ext cx="1260720" cy="539640"/>
                    <a:chOff x="4127040" y="3888720"/>
                    <a:chExt cx="1260720" cy="539640"/>
                  </a:xfrm>
                </p:grpSpPr>
                <p:grpSp>
                  <p:nvGrpSpPr>
                    <p:cNvPr id="427" name="Group 13"/>
                    <p:cNvGrpSpPr/>
                    <p:nvPr/>
                  </p:nvGrpSpPr>
                  <p:grpSpPr>
                    <a:xfrm>
                      <a:off x="4493880" y="3888720"/>
                      <a:ext cx="539640" cy="539640"/>
                      <a:chOff x="4493880" y="3888720"/>
                      <a:chExt cx="539640" cy="539640"/>
                    </a:xfrm>
                  </p:grpSpPr>
                  <p:grpSp>
                    <p:nvGrpSpPr>
                      <p:cNvPr id="428" name="Group 14"/>
                      <p:cNvGrpSpPr/>
                      <p:nvPr/>
                    </p:nvGrpSpPr>
                    <p:grpSpPr>
                      <a:xfrm>
                        <a:off x="4493880" y="3888720"/>
                        <a:ext cx="539280" cy="539640"/>
                        <a:chOff x="4493880" y="3888720"/>
                        <a:chExt cx="539280" cy="539640"/>
                      </a:xfrm>
                    </p:grpSpPr>
                    <p:sp>
                      <p:nvSpPr>
                        <p:cNvPr id="429" name="Oval 15"/>
                        <p:cNvSpPr/>
                        <p:nvPr/>
                      </p:nvSpPr>
                      <p:spPr>
                        <a:xfrm rot="16200000">
                          <a:off x="4493520" y="3888720"/>
                          <a:ext cx="539640" cy="539280"/>
                        </a:xfrm>
                        <a:prstGeom prst="ellipse">
                          <a:avLst/>
                        </a:prstGeom>
                        <a:solidFill>
                          <a:srgbClr val="cccc00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0" name="Oval 16"/>
                        <p:cNvSpPr/>
                        <p:nvPr/>
                      </p:nvSpPr>
                      <p:spPr>
                        <a:xfrm rot="16200000">
                          <a:off x="4538520" y="3933360"/>
                          <a:ext cx="457200" cy="456840"/>
                        </a:xfrm>
                        <a:prstGeom prst="ellipse">
                          <a:avLst/>
                        </a:prstGeom>
                        <a:solidFill>
                          <a:srgbClr val="cccc00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31" name="Oval 17"/>
                      <p:cNvSpPr/>
                      <p:nvPr/>
                    </p:nvSpPr>
                    <p:spPr>
                      <a:xfrm rot="16200000">
                        <a:off x="4686120" y="4088160"/>
                        <a:ext cx="152280" cy="151920"/>
                      </a:xfrm>
                      <a:prstGeom prst="ellipse">
                        <a:avLst/>
                      </a:prstGeom>
                      <a:solidFill>
                        <a:srgbClr val="330066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2" name="AutoShape 18"/>
                      <p:cNvSpPr/>
                      <p:nvPr/>
                    </p:nvSpPr>
                    <p:spPr>
                      <a:xfrm rot="16200000">
                        <a:off x="4728960" y="3902400"/>
                        <a:ext cx="76320" cy="532800"/>
                      </a:xfrm>
                      <a:prstGeom prst="diamond">
                        <a:avLst/>
                      </a:prstGeom>
                      <a:solidFill>
                        <a:srgbClr val="66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3" name="Group 19"/>
                    <p:cNvGrpSpPr/>
                    <p:nvPr/>
                  </p:nvGrpSpPr>
                  <p:grpSpPr>
                    <a:xfrm>
                      <a:off x="5027400" y="4085640"/>
                      <a:ext cx="360360" cy="162000"/>
                      <a:chOff x="5027400" y="4085640"/>
                      <a:chExt cx="360360" cy="162000"/>
                    </a:xfrm>
                  </p:grpSpPr>
                  <p:sp>
                    <p:nvSpPr>
                      <p:cNvPr id="434" name="Oval 20"/>
                      <p:cNvSpPr/>
                      <p:nvPr/>
                    </p:nvSpPr>
                    <p:spPr>
                      <a:xfrm rot="16200000">
                        <a:off x="5028120" y="4149720"/>
                        <a:ext cx="52200" cy="54000"/>
                      </a:xfrm>
                      <a:prstGeom prst="ellipse">
                        <a:avLst/>
                      </a:prstGeom>
                      <a:solidFill>
                        <a:srgbClr val="cccc00"/>
                      </a:solidFill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5" name="Freeform 21"/>
                      <p:cNvSpPr/>
                      <p:nvPr/>
                    </p:nvSpPr>
                    <p:spPr>
                      <a:xfrm rot="16200000">
                        <a:off x="5152320" y="4012200"/>
                        <a:ext cx="162000" cy="30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8" h="274">
                            <a:moveTo>
                              <a:pt x="64" y="0"/>
                            </a:moveTo>
                            <a:cubicBezTo>
                              <a:pt x="55" y="62"/>
                              <a:pt x="31" y="100"/>
                              <a:pt x="100" y="119"/>
                            </a:cubicBezTo>
                            <a:cubicBezTo>
                              <a:pt x="148" y="164"/>
                              <a:pt x="138" y="252"/>
                              <a:pt x="73" y="274"/>
                            </a:cubicBezTo>
                            <a:cubicBezTo>
                              <a:pt x="39" y="263"/>
                              <a:pt x="16" y="243"/>
                              <a:pt x="0" y="210"/>
                            </a:cubicBezTo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36" name="Group 22"/>
                    <p:cNvGrpSpPr/>
                    <p:nvPr/>
                  </p:nvGrpSpPr>
                  <p:grpSpPr>
                    <a:xfrm>
                      <a:off x="4127040" y="4100400"/>
                      <a:ext cx="360360" cy="161640"/>
                      <a:chOff x="4127040" y="4100400"/>
                      <a:chExt cx="360360" cy="161640"/>
                    </a:xfrm>
                  </p:grpSpPr>
                  <p:sp>
                    <p:nvSpPr>
                      <p:cNvPr id="437" name="Oval 23"/>
                      <p:cNvSpPr/>
                      <p:nvPr/>
                    </p:nvSpPr>
                    <p:spPr>
                      <a:xfrm flipH="1" flipV="1" rot="16200000">
                        <a:off x="4434120" y="4143600"/>
                        <a:ext cx="52200" cy="54000"/>
                      </a:xfrm>
                      <a:prstGeom prst="ellipse">
                        <a:avLst/>
                      </a:prstGeom>
                      <a:solidFill>
                        <a:srgbClr val="cccc00"/>
                      </a:solidFill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8" name="Freeform 24"/>
                      <p:cNvSpPr/>
                      <p:nvPr/>
                    </p:nvSpPr>
                    <p:spPr>
                      <a:xfrm flipH="1" flipV="1" rot="16200000">
                        <a:off x="4200120" y="4026600"/>
                        <a:ext cx="161640" cy="30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8" h="274">
                            <a:moveTo>
                              <a:pt x="64" y="0"/>
                            </a:moveTo>
                            <a:cubicBezTo>
                              <a:pt x="55" y="62"/>
                              <a:pt x="31" y="100"/>
                              <a:pt x="100" y="119"/>
                            </a:cubicBezTo>
                            <a:cubicBezTo>
                              <a:pt x="148" y="164"/>
                              <a:pt x="138" y="252"/>
                              <a:pt x="73" y="274"/>
                            </a:cubicBezTo>
                            <a:cubicBezTo>
                              <a:pt x="39" y="263"/>
                              <a:pt x="16" y="243"/>
                              <a:pt x="0" y="210"/>
                            </a:cubicBezTo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39" name="Group 25"/>
                  <p:cNvGrpSpPr/>
                  <p:nvPr/>
                </p:nvGrpSpPr>
                <p:grpSpPr>
                  <a:xfrm>
                    <a:off x="2221920" y="3888720"/>
                    <a:ext cx="1260720" cy="539640"/>
                    <a:chOff x="2221920" y="3888720"/>
                    <a:chExt cx="1260720" cy="539640"/>
                  </a:xfrm>
                </p:grpSpPr>
                <p:grpSp>
                  <p:nvGrpSpPr>
                    <p:cNvPr id="440" name="Group 26"/>
                    <p:cNvGrpSpPr/>
                    <p:nvPr/>
                  </p:nvGrpSpPr>
                  <p:grpSpPr>
                    <a:xfrm>
                      <a:off x="2588760" y="3888720"/>
                      <a:ext cx="539640" cy="539640"/>
                      <a:chOff x="2588760" y="3888720"/>
                      <a:chExt cx="539640" cy="539640"/>
                    </a:xfrm>
                  </p:grpSpPr>
                  <p:grpSp>
                    <p:nvGrpSpPr>
                      <p:cNvPr id="441" name="Group 27"/>
                      <p:cNvGrpSpPr/>
                      <p:nvPr/>
                    </p:nvGrpSpPr>
                    <p:grpSpPr>
                      <a:xfrm>
                        <a:off x="2588760" y="3888720"/>
                        <a:ext cx="539280" cy="539640"/>
                        <a:chOff x="2588760" y="3888720"/>
                        <a:chExt cx="539280" cy="539640"/>
                      </a:xfrm>
                    </p:grpSpPr>
                    <p:sp>
                      <p:nvSpPr>
                        <p:cNvPr id="442" name="Oval 28"/>
                        <p:cNvSpPr/>
                        <p:nvPr/>
                      </p:nvSpPr>
                      <p:spPr>
                        <a:xfrm rot="16200000">
                          <a:off x="2588400" y="3888720"/>
                          <a:ext cx="539640" cy="539280"/>
                        </a:xfrm>
                        <a:prstGeom prst="ellipse">
                          <a:avLst/>
                        </a:prstGeom>
                        <a:solidFill>
                          <a:srgbClr val="cccc00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Oval 29"/>
                        <p:cNvSpPr/>
                        <p:nvPr/>
                      </p:nvSpPr>
                      <p:spPr>
                        <a:xfrm rot="16200000">
                          <a:off x="2633400" y="3933360"/>
                          <a:ext cx="457200" cy="456840"/>
                        </a:xfrm>
                        <a:prstGeom prst="ellipse">
                          <a:avLst/>
                        </a:prstGeom>
                        <a:solidFill>
                          <a:srgbClr val="cccc00"/>
                        </a:solidFill>
                        <a:ln w="38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444" name="Oval 30"/>
                      <p:cNvSpPr/>
                      <p:nvPr/>
                    </p:nvSpPr>
                    <p:spPr>
                      <a:xfrm rot="16200000">
                        <a:off x="2781000" y="4088160"/>
                        <a:ext cx="152280" cy="151920"/>
                      </a:xfrm>
                      <a:prstGeom prst="ellipse">
                        <a:avLst/>
                      </a:prstGeom>
                      <a:solidFill>
                        <a:srgbClr val="330066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5" name="AutoShape 31"/>
                      <p:cNvSpPr/>
                      <p:nvPr/>
                    </p:nvSpPr>
                    <p:spPr>
                      <a:xfrm rot="16200000">
                        <a:off x="2823840" y="3902400"/>
                        <a:ext cx="76320" cy="532800"/>
                      </a:xfrm>
                      <a:prstGeom prst="diamond">
                        <a:avLst/>
                      </a:prstGeom>
                      <a:solidFill>
                        <a:srgbClr val="66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6" name="Group 32"/>
                    <p:cNvGrpSpPr/>
                    <p:nvPr/>
                  </p:nvGrpSpPr>
                  <p:grpSpPr>
                    <a:xfrm>
                      <a:off x="3122280" y="4085640"/>
                      <a:ext cx="360360" cy="162000"/>
                      <a:chOff x="3122280" y="4085640"/>
                      <a:chExt cx="360360" cy="162000"/>
                    </a:xfrm>
                  </p:grpSpPr>
                  <p:sp>
                    <p:nvSpPr>
                      <p:cNvPr id="447" name="Oval 33"/>
                      <p:cNvSpPr/>
                      <p:nvPr/>
                    </p:nvSpPr>
                    <p:spPr>
                      <a:xfrm rot="16200000">
                        <a:off x="3123000" y="4149720"/>
                        <a:ext cx="52200" cy="54000"/>
                      </a:xfrm>
                      <a:prstGeom prst="ellipse">
                        <a:avLst/>
                      </a:prstGeom>
                      <a:solidFill>
                        <a:srgbClr val="cccc00"/>
                      </a:solidFill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Freeform 34"/>
                      <p:cNvSpPr/>
                      <p:nvPr/>
                    </p:nvSpPr>
                    <p:spPr>
                      <a:xfrm rot="16200000">
                        <a:off x="3247200" y="4012200"/>
                        <a:ext cx="162000" cy="30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8" h="274">
                            <a:moveTo>
                              <a:pt x="64" y="0"/>
                            </a:moveTo>
                            <a:cubicBezTo>
                              <a:pt x="55" y="62"/>
                              <a:pt x="31" y="100"/>
                              <a:pt x="100" y="119"/>
                            </a:cubicBezTo>
                            <a:cubicBezTo>
                              <a:pt x="148" y="164"/>
                              <a:pt x="138" y="252"/>
                              <a:pt x="73" y="274"/>
                            </a:cubicBezTo>
                            <a:cubicBezTo>
                              <a:pt x="39" y="263"/>
                              <a:pt x="16" y="243"/>
                              <a:pt x="0" y="210"/>
                            </a:cubicBezTo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49" name="Group 35"/>
                    <p:cNvGrpSpPr/>
                    <p:nvPr/>
                  </p:nvGrpSpPr>
                  <p:grpSpPr>
                    <a:xfrm>
                      <a:off x="2221920" y="4100400"/>
                      <a:ext cx="360360" cy="161640"/>
                      <a:chOff x="2221920" y="4100400"/>
                      <a:chExt cx="360360" cy="161640"/>
                    </a:xfrm>
                  </p:grpSpPr>
                  <p:sp>
                    <p:nvSpPr>
                      <p:cNvPr id="450" name="Oval 36"/>
                      <p:cNvSpPr/>
                      <p:nvPr/>
                    </p:nvSpPr>
                    <p:spPr>
                      <a:xfrm flipH="1" flipV="1" rot="16200000">
                        <a:off x="2529000" y="4143600"/>
                        <a:ext cx="52200" cy="54000"/>
                      </a:xfrm>
                      <a:prstGeom prst="ellipse">
                        <a:avLst/>
                      </a:prstGeom>
                      <a:solidFill>
                        <a:srgbClr val="cccc00"/>
                      </a:solidFill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1" name="Freeform 37"/>
                      <p:cNvSpPr/>
                      <p:nvPr/>
                    </p:nvSpPr>
                    <p:spPr>
                      <a:xfrm flipH="1" flipV="1" rot="16200000">
                        <a:off x="2295000" y="4026600"/>
                        <a:ext cx="161640" cy="308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8" h="274">
                            <a:moveTo>
                              <a:pt x="64" y="0"/>
                            </a:moveTo>
                            <a:cubicBezTo>
                              <a:pt x="55" y="62"/>
                              <a:pt x="31" y="100"/>
                              <a:pt x="100" y="119"/>
                            </a:cubicBezTo>
                            <a:cubicBezTo>
                              <a:pt x="148" y="164"/>
                              <a:pt x="138" y="252"/>
                              <a:pt x="73" y="274"/>
                            </a:cubicBezTo>
                            <a:cubicBezTo>
                              <a:pt x="39" y="263"/>
                              <a:pt x="16" y="243"/>
                              <a:pt x="0" y="210"/>
                            </a:cubicBezTo>
                          </a:path>
                        </a:pathLst>
                      </a:custGeom>
                      <a:noFill/>
                      <a:ln w="38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2831760" y="4437000"/>
                    <a:ext cx="1904760" cy="360"/>
                    <a:chOff x="2831760" y="4437000"/>
                    <a:chExt cx="1904760" cy="360"/>
                  </a:xfrm>
                </p:grpSpPr>
                <p:sp>
                  <p:nvSpPr>
                    <p:cNvPr id="453" name="Line 38"/>
                    <p:cNvSpPr/>
                    <p:nvPr/>
                  </p:nvSpPr>
                  <p:spPr>
                    <a:xfrm flipH="1">
                      <a:off x="2831760" y="4437000"/>
                      <a:ext cx="19047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 txBox="1"/>
                    <p:nvPr/>
                  </p:nvSpPr>
                  <p:spPr>
                    <a:xfrm rot="5400000">
                      <a:off x="3783960" y="3484800"/>
                      <a:ext cx="360" cy="1904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2907720" y="3889080"/>
                    <a:ext cx="1219320" cy="228240"/>
                    <a:chOff x="2907720" y="3889080"/>
                    <a:chExt cx="1219320" cy="228240"/>
                  </a:xfrm>
                </p:grpSpPr>
                <p:sp>
                  <p:nvSpPr>
                    <p:cNvPr id="456" name="Line 39"/>
                    <p:cNvSpPr/>
                    <p:nvPr/>
                  </p:nvSpPr>
                  <p:spPr>
                    <a:xfrm flipH="1" flipV="1">
                      <a:off x="2907720" y="3889080"/>
                      <a:ext cx="1219320" cy="2282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 txBox="1"/>
                    <p:nvPr/>
                  </p:nvSpPr>
                  <p:spPr>
                    <a:xfrm rot="10800000">
                      <a:off x="2907720" y="3889080"/>
                      <a:ext cx="1219320" cy="228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3288960" y="3584160"/>
                    <a:ext cx="1600200" cy="304200"/>
                    <a:chOff x="3288960" y="3584160"/>
                    <a:chExt cx="1600200" cy="304200"/>
                  </a:xfrm>
                </p:grpSpPr>
                <p:sp>
                  <p:nvSpPr>
                    <p:cNvPr id="459" name="Line 40"/>
                    <p:cNvSpPr/>
                    <p:nvPr/>
                  </p:nvSpPr>
                  <p:spPr>
                    <a:xfrm flipH="1" flipV="1">
                      <a:off x="3288960" y="3584160"/>
                      <a:ext cx="1600200" cy="3042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 txBox="1"/>
                    <p:nvPr/>
                  </p:nvSpPr>
                  <p:spPr>
                    <a:xfrm rot="10800000">
                      <a:off x="3288960" y="3584160"/>
                      <a:ext cx="1600200" cy="304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41"/>
                  <p:cNvGrpSpPr/>
                  <p:nvPr/>
                </p:nvGrpSpPr>
                <p:grpSpPr>
                  <a:xfrm>
                    <a:off x="1612800" y="3508200"/>
                    <a:ext cx="5029200" cy="1218600"/>
                    <a:chOff x="1612800" y="3508200"/>
                    <a:chExt cx="5029200" cy="1218600"/>
                  </a:xfrm>
                </p:grpSpPr>
                <p:sp>
                  <p:nvSpPr>
                    <p:cNvPr id="462" name="Rectangle 42"/>
                    <p:cNvSpPr/>
                    <p:nvPr/>
                  </p:nvSpPr>
                  <p:spPr>
                    <a:xfrm>
                      <a:off x="1612800" y="3508200"/>
                      <a:ext cx="152280" cy="10663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Rectangle 43"/>
                    <p:cNvSpPr/>
                    <p:nvPr/>
                  </p:nvSpPr>
                  <p:spPr>
                    <a:xfrm>
                      <a:off x="1612800" y="4574520"/>
                      <a:ext cx="5029200" cy="1522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"/>
                  <p:cNvGrpSpPr/>
                  <p:nvPr/>
                </p:nvGrpSpPr>
                <p:grpSpPr>
                  <a:xfrm>
                    <a:off x="1770120" y="4160520"/>
                    <a:ext cx="471240" cy="360"/>
                    <a:chOff x="1770120" y="4160520"/>
                    <a:chExt cx="471240" cy="360"/>
                  </a:xfrm>
                </p:grpSpPr>
                <p:sp>
                  <p:nvSpPr>
                    <p:cNvPr id="465" name="Line 44"/>
                    <p:cNvSpPr/>
                    <p:nvPr/>
                  </p:nvSpPr>
                  <p:spPr>
                    <a:xfrm>
                      <a:off x="1770120" y="4160520"/>
                      <a:ext cx="471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 txBox="1"/>
                    <p:nvPr/>
                  </p:nvSpPr>
                  <p:spPr>
                    <a:xfrm>
                      <a:off x="1770120" y="4160520"/>
                      <a:ext cx="4712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"/>
                  <p:cNvGrpSpPr/>
                  <p:nvPr/>
                </p:nvGrpSpPr>
                <p:grpSpPr>
                  <a:xfrm>
                    <a:off x="5360760" y="4179600"/>
                    <a:ext cx="609840" cy="360"/>
                    <a:chOff x="5360760" y="4179600"/>
                    <a:chExt cx="609840" cy="360"/>
                  </a:xfrm>
                </p:grpSpPr>
                <p:sp>
                  <p:nvSpPr>
                    <p:cNvPr id="468" name="Line 45"/>
                    <p:cNvSpPr/>
                    <p:nvPr/>
                  </p:nvSpPr>
                  <p:spPr>
                    <a:xfrm>
                      <a:off x="5360760" y="4179600"/>
                      <a:ext cx="609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 txBox="1"/>
                    <p:nvPr/>
                  </p:nvSpPr>
                  <p:spPr>
                    <a:xfrm>
                      <a:off x="5360760" y="4179600"/>
                      <a:ext cx="6098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0" name="Text Box 46"/>
                  <p:cNvSpPr/>
                  <p:nvPr/>
                </p:nvSpPr>
                <p:spPr>
                  <a:xfrm>
                    <a:off x="3213000" y="3203640"/>
                    <a:ext cx="5335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</a:t>
                    </a:r>
                    <a:endParaRPr b="0" lang="en-US" sz="24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Text Box 47"/>
                  <p:cNvSpPr/>
                  <p:nvPr/>
                </p:nvSpPr>
                <p:spPr>
                  <a:xfrm>
                    <a:off x="6108480" y="3508200"/>
                    <a:ext cx="45720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33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5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</a:t>
                    </a:r>
                    <a:endParaRPr b="0" lang="en-US" sz="54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72" name="Group 48"/>
          <p:cNvGrpSpPr/>
          <p:nvPr/>
        </p:nvGrpSpPr>
        <p:grpSpPr>
          <a:xfrm>
            <a:off x="6261120" y="3736800"/>
            <a:ext cx="914400" cy="459720"/>
            <a:chOff x="6261120" y="3736800"/>
            <a:chExt cx="914400" cy="459720"/>
          </a:xfrm>
        </p:grpSpPr>
        <p:grpSp>
          <p:nvGrpSpPr>
            <p:cNvPr id="473" name=""/>
            <p:cNvGrpSpPr/>
            <p:nvPr/>
          </p:nvGrpSpPr>
          <p:grpSpPr>
            <a:xfrm>
              <a:off x="6261120" y="4184640"/>
              <a:ext cx="609480" cy="360"/>
              <a:chOff x="6261120" y="4184640"/>
              <a:chExt cx="609480" cy="360"/>
            </a:xfrm>
          </p:grpSpPr>
          <p:sp>
            <p:nvSpPr>
              <p:cNvPr id="474" name="Line 49"/>
              <p:cNvSpPr/>
              <p:nvPr/>
            </p:nvSpPr>
            <p:spPr>
              <a:xfrm>
                <a:off x="6261120" y="4184640"/>
                <a:ext cx="6094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>
                <a:off x="6261120" y="418464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476" name="Text Box 50"/>
            <p:cNvSpPr/>
            <p:nvPr/>
          </p:nvSpPr>
          <p:spPr>
            <a:xfrm>
              <a:off x="6642000" y="3736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477" name="Group 51"/>
          <p:cNvGrpSpPr/>
          <p:nvPr/>
        </p:nvGrpSpPr>
        <p:grpSpPr>
          <a:xfrm>
            <a:off x="6108840" y="2975040"/>
            <a:ext cx="533160" cy="1175400"/>
            <a:chOff x="6108840" y="2975040"/>
            <a:chExt cx="533160" cy="1175400"/>
          </a:xfrm>
        </p:grpSpPr>
        <p:grpSp>
          <p:nvGrpSpPr>
            <p:cNvPr id="478" name=""/>
            <p:cNvGrpSpPr/>
            <p:nvPr/>
          </p:nvGrpSpPr>
          <p:grpSpPr>
            <a:xfrm>
              <a:off x="6260760" y="3236400"/>
              <a:ext cx="360" cy="914040"/>
              <a:chOff x="6260760" y="3236400"/>
              <a:chExt cx="360" cy="914040"/>
            </a:xfrm>
          </p:grpSpPr>
          <p:sp>
            <p:nvSpPr>
              <p:cNvPr id="479" name="Line 52"/>
              <p:cNvSpPr/>
              <p:nvPr/>
            </p:nvSpPr>
            <p:spPr>
              <a:xfrm flipV="1">
                <a:off x="6261120" y="3236400"/>
                <a:ext cx="0" cy="9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 rot="10800000">
                <a:off x="6260760" y="3236400"/>
                <a:ext cx="360" cy="914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481" name="Text Box 53"/>
            <p:cNvSpPr/>
            <p:nvPr/>
          </p:nvSpPr>
          <p:spPr>
            <a:xfrm>
              <a:off x="6108840" y="297504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482" name="Group 54"/>
          <p:cNvGrpSpPr/>
          <p:nvPr/>
        </p:nvGrpSpPr>
        <p:grpSpPr>
          <a:xfrm>
            <a:off x="6184800" y="4227480"/>
            <a:ext cx="533520" cy="1112040"/>
            <a:chOff x="6184800" y="4227480"/>
            <a:chExt cx="533520" cy="1112040"/>
          </a:xfrm>
        </p:grpSpPr>
        <p:grpSp>
          <p:nvGrpSpPr>
            <p:cNvPr id="483" name=""/>
            <p:cNvGrpSpPr/>
            <p:nvPr/>
          </p:nvGrpSpPr>
          <p:grpSpPr>
            <a:xfrm>
              <a:off x="6261120" y="4227480"/>
              <a:ext cx="360" cy="914400"/>
              <a:chOff x="6261120" y="4227480"/>
              <a:chExt cx="360" cy="914400"/>
            </a:xfrm>
          </p:grpSpPr>
          <p:sp>
            <p:nvSpPr>
              <p:cNvPr id="484" name="Line 55"/>
              <p:cNvSpPr/>
              <p:nvPr/>
            </p:nvSpPr>
            <p:spPr>
              <a:xfrm>
                <a:off x="6261120" y="422748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6261120" y="4227480"/>
                <a:ext cx="360" cy="91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486" name="Text Box 56"/>
            <p:cNvSpPr/>
            <p:nvPr/>
          </p:nvSpPr>
          <p:spPr>
            <a:xfrm>
              <a:off x="6184800" y="4879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487" name="Group 57"/>
          <p:cNvGrpSpPr/>
          <p:nvPr/>
        </p:nvGrpSpPr>
        <p:grpSpPr>
          <a:xfrm>
            <a:off x="5499000" y="3813120"/>
            <a:ext cx="762120" cy="459720"/>
            <a:chOff x="5499000" y="3813120"/>
            <a:chExt cx="762120" cy="459720"/>
          </a:xfrm>
        </p:grpSpPr>
        <p:grpSp>
          <p:nvGrpSpPr>
            <p:cNvPr id="488" name=""/>
            <p:cNvGrpSpPr/>
            <p:nvPr/>
          </p:nvGrpSpPr>
          <p:grpSpPr>
            <a:xfrm>
              <a:off x="5727600" y="4179600"/>
              <a:ext cx="533520" cy="360"/>
              <a:chOff x="5727600" y="4179600"/>
              <a:chExt cx="533520" cy="360"/>
            </a:xfrm>
          </p:grpSpPr>
          <p:sp>
            <p:nvSpPr>
              <p:cNvPr id="489" name="Line 58"/>
              <p:cNvSpPr/>
              <p:nvPr/>
            </p:nvSpPr>
            <p:spPr>
              <a:xfrm flipH="1">
                <a:off x="5727600" y="4179600"/>
                <a:ext cx="5335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 txBox="1"/>
              <p:nvPr/>
            </p:nvSpPr>
            <p:spPr>
              <a:xfrm>
                <a:off x="5727600" y="417960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491" name="Text Box 59"/>
            <p:cNvSpPr/>
            <p:nvPr/>
          </p:nvSpPr>
          <p:spPr>
            <a:xfrm>
              <a:off x="5499000" y="3813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pic>
        <p:nvPicPr>
          <p:cNvPr id="492" name="Object 60" descr=""/>
          <p:cNvPicPr/>
          <p:nvPr/>
        </p:nvPicPr>
        <p:blipFill>
          <a:blip r:embed="rId2"/>
          <a:stretch/>
        </p:blipFill>
        <p:spPr>
          <a:xfrm>
            <a:off x="5062680" y="4976640"/>
            <a:ext cx="799920" cy="6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8465-5ECA-42FB-99A1-1F97FB3EF0D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669960" y="9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490680" y="2001960"/>
            <a:ext cx="792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为偶数时，绳子的起端（或末端）在定滑轮上；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为奇数时，绳子的起端（或末端） 在动滑轮上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96" name="AutoShape 11"/>
          <p:cNvSpPr/>
          <p:nvPr/>
        </p:nvSpPr>
        <p:spPr>
          <a:xfrm rot="10800000">
            <a:off x="495360" y="1004040"/>
            <a:ext cx="3448080" cy="22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97" name="Rectangle 13"/>
          <p:cNvSpPr/>
          <p:nvPr/>
        </p:nvSpPr>
        <p:spPr>
          <a:xfrm>
            <a:off x="523800" y="111924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滑轮组绳子的绕法：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C2AA-B14B-433A-A577-4DB87F50D81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622440" y="176220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想想议议：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00" name="Text Box 15"/>
          <p:cNvSpPr/>
          <p:nvPr/>
        </p:nvSpPr>
        <p:spPr>
          <a:xfrm>
            <a:off x="755640" y="2313000"/>
            <a:ext cx="773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杠杆、滑轮等简单机械，有的省力有的不省力；使用它们时，有的可以移动较短的距离，有的却要移动更长的距离。通过这几种简单机械的学习，你认为省力或费力、省距离或费距离，它们之间有什么关系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C173-F94D-46B7-A316-7D28BED8058E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02" name="Text Box 7"/>
          <p:cNvSpPr/>
          <p:nvPr/>
        </p:nvSpPr>
        <p:spPr>
          <a:xfrm>
            <a:off x="779400" y="614520"/>
            <a:ext cx="46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拓展知识：轮轴与斜面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611280" y="988920"/>
            <a:ext cx="7632720" cy="15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100" spc="-1" strike="noStrike">
                <a:solidFill>
                  <a:srgbClr val="0000ff"/>
                </a:solidFill>
                <a:latin typeface="宋体"/>
              </a:rPr>
              <a:t>简单的机械运动还包括轮轴与斜面，轮轴由一个轴和一个大轮组成，斜面是大家经常接触的，下面我们给出了常见的轮轴与斜面的图例：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11" descr="u=605832355,4292382619&amp;gp=2"/>
          <p:cNvPicPr/>
          <p:nvPr/>
        </p:nvPicPr>
        <p:blipFill>
          <a:blip r:embed="rId1"/>
          <a:stretch/>
        </p:blipFill>
        <p:spPr>
          <a:xfrm>
            <a:off x="1320840" y="4827600"/>
            <a:ext cx="1508040" cy="122400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12"/>
          <p:cNvSpPr/>
          <p:nvPr/>
        </p:nvSpPr>
        <p:spPr>
          <a:xfrm>
            <a:off x="2638440" y="528948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龙头（轮轴）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506" name="Picture 13" descr="u=2451828522,1220285185&amp;gp=0"/>
          <p:cNvPicPr/>
          <p:nvPr/>
        </p:nvPicPr>
        <p:blipFill>
          <a:blip r:embed="rId2"/>
          <a:stretch/>
        </p:blipFill>
        <p:spPr>
          <a:xfrm>
            <a:off x="5027760" y="3322800"/>
            <a:ext cx="2574720" cy="181260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14"/>
          <p:cNvSpPr/>
          <p:nvPr/>
        </p:nvSpPr>
        <p:spPr>
          <a:xfrm>
            <a:off x="5278320" y="5289480"/>
            <a:ext cx="33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自行车轮（轮轴）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508" name="Picture 15" descr=""/>
          <p:cNvPicPr/>
          <p:nvPr/>
        </p:nvPicPr>
        <p:blipFill>
          <a:blip r:embed="rId3"/>
          <a:stretch/>
        </p:blipFill>
        <p:spPr>
          <a:xfrm>
            <a:off x="946080" y="2960640"/>
            <a:ext cx="397512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3C4B-5FF3-4AC3-8DF0-A9FFBE685CF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510" name="Picture 15" descr=""/>
          <p:cNvPicPr/>
          <p:nvPr/>
        </p:nvPicPr>
        <p:blipFill>
          <a:blip r:embed="rId1"/>
          <a:stretch/>
        </p:blipFill>
        <p:spPr>
          <a:xfrm>
            <a:off x="1236600" y="1643040"/>
            <a:ext cx="6639120" cy="4881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21" descr="4"/>
          <p:cNvPicPr/>
          <p:nvPr/>
        </p:nvPicPr>
        <p:blipFill>
          <a:blip r:embed="rId2"/>
          <a:stretch/>
        </p:blipFill>
        <p:spPr>
          <a:xfrm>
            <a:off x="3265560" y="669960"/>
            <a:ext cx="3429000" cy="844560"/>
          </a:xfrm>
          <a:prstGeom prst="rect">
            <a:avLst/>
          </a:prstGeom>
          <a:ln w="0">
            <a:noFill/>
          </a:ln>
        </p:spPr>
      </p:pic>
      <p:sp>
        <p:nvSpPr>
          <p:cNvPr id="512" name="文本框 8199"/>
          <p:cNvSpPr/>
          <p:nvPr/>
        </p:nvSpPr>
        <p:spPr>
          <a:xfrm>
            <a:off x="1093680" y="244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8e163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C4D7-DCDE-4E54-ADD0-4B6F48A3FB3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14" name="Rectangle 11"/>
          <p:cNvSpPr/>
          <p:nvPr/>
        </p:nvSpPr>
        <p:spPr>
          <a:xfrm>
            <a:off x="1108080" y="115740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答案：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515" name="Picture 12" descr=""/>
          <p:cNvPicPr/>
          <p:nvPr/>
        </p:nvPicPr>
        <p:blipFill>
          <a:blip r:embed="rId1"/>
          <a:stretch/>
        </p:blipFill>
        <p:spPr>
          <a:xfrm>
            <a:off x="1676520" y="1687680"/>
            <a:ext cx="6048360" cy="42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3603-313D-476F-BCBC-35859F806C6F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517" name="Picture 142" descr=""/>
          <p:cNvPicPr/>
          <p:nvPr/>
        </p:nvPicPr>
        <p:blipFill>
          <a:blip r:embed="rId1"/>
          <a:stretch/>
        </p:blipFill>
        <p:spPr>
          <a:xfrm>
            <a:off x="1538280" y="1495440"/>
            <a:ext cx="1000080" cy="48816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143"/>
          <p:cNvSpPr/>
          <p:nvPr/>
        </p:nvSpPr>
        <p:spPr>
          <a:xfrm>
            <a:off x="2581200" y="1596960"/>
            <a:ext cx="29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(1)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定滑轮的定义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19" name="Text Box 144"/>
          <p:cNvSpPr/>
          <p:nvPr/>
        </p:nvSpPr>
        <p:spPr>
          <a:xfrm>
            <a:off x="2581200" y="2087640"/>
            <a:ext cx="283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定滑轮的作用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20" name="Text Box 145"/>
          <p:cNvSpPr/>
          <p:nvPr/>
        </p:nvSpPr>
        <p:spPr>
          <a:xfrm>
            <a:off x="2581200" y="2577960"/>
            <a:ext cx="26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(3)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定滑轮的实质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21" name="Text Box 146"/>
          <p:cNvSpPr/>
          <p:nvPr/>
        </p:nvSpPr>
        <p:spPr>
          <a:xfrm>
            <a:off x="2581200" y="30686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(1)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动滑轮的定义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22" name="Text Box 147"/>
          <p:cNvSpPr/>
          <p:nvPr/>
        </p:nvSpPr>
        <p:spPr>
          <a:xfrm>
            <a:off x="2581200" y="355932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动滑轮的作用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23" name="Text Box 148"/>
          <p:cNvSpPr/>
          <p:nvPr/>
        </p:nvSpPr>
        <p:spPr>
          <a:xfrm>
            <a:off x="2581200" y="4049640"/>
            <a:ext cx="27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(3)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动滑轮的实质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24" name="Text Box 149"/>
          <p:cNvSpPr/>
          <p:nvPr/>
        </p:nvSpPr>
        <p:spPr>
          <a:xfrm>
            <a:off x="2581200" y="4540320"/>
            <a:ext cx="24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(1)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滑轮组的作用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25" name="Text Box 150"/>
          <p:cNvSpPr/>
          <p:nvPr/>
        </p:nvSpPr>
        <p:spPr>
          <a:xfrm>
            <a:off x="2581200" y="5030640"/>
            <a:ext cx="33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(2)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拉力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F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与重物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G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的关系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26" name="Text Box 151"/>
          <p:cNvSpPr/>
          <p:nvPr/>
        </p:nvSpPr>
        <p:spPr>
          <a:xfrm>
            <a:off x="2581200" y="5521320"/>
            <a:ext cx="42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(3)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自由端与动滑轮移动距离的关系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27" name="Text Box 152"/>
          <p:cNvSpPr/>
          <p:nvPr/>
        </p:nvSpPr>
        <p:spPr>
          <a:xfrm>
            <a:off x="2581200" y="6013440"/>
            <a:ext cx="36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(4)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宋体"/>
              </a:rPr>
              <a:t>绳子股数的确定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528" name="Picture 166" descr="55"/>
          <p:cNvPicPr/>
          <p:nvPr/>
        </p:nvPicPr>
        <p:blipFill>
          <a:blip r:embed="rId2"/>
          <a:stretch/>
        </p:blipFill>
        <p:spPr>
          <a:xfrm>
            <a:off x="3476520" y="685800"/>
            <a:ext cx="3078360" cy="7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8AF6-BE0D-4E94-872F-255E00668877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879480" y="2492280"/>
            <a:ext cx="7386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认识定滑轮和动滑轮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79480" y="3309840"/>
            <a:ext cx="7386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知道定滑轮、动滑轮、滑轮组的作用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879480" y="4127400"/>
            <a:ext cx="7386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会根据要求使用和组装滑轮组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6" name="Rectangle 8"/>
          <p:cNvSpPr/>
          <p:nvPr/>
        </p:nvSpPr>
        <p:spPr>
          <a:xfrm>
            <a:off x="879480" y="4944960"/>
            <a:ext cx="7386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了解其他简单机械的一些应用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57" name="Picture 15" descr="学习目标"/>
          <p:cNvPicPr/>
          <p:nvPr/>
        </p:nvPicPr>
        <p:blipFill>
          <a:blip r:embed="rId1"/>
          <a:stretch/>
        </p:blipFill>
        <p:spPr>
          <a:xfrm>
            <a:off x="2824200" y="1095480"/>
            <a:ext cx="3403440" cy="83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e163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B5FB-06FA-46AC-AB0E-B3D84C0935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reeform 2"/>
          <p:cNvSpPr/>
          <p:nvPr/>
        </p:nvSpPr>
        <p:spPr>
          <a:xfrm>
            <a:off x="749160" y="4533840"/>
            <a:ext cx="7659720" cy="352440"/>
          </a:xfrm>
          <a:custGeom>
            <a:avLst/>
            <a:gdLst/>
            <a:ahLst/>
            <a:rect l="l" t="t" r="r" b="b"/>
            <a:pathLst>
              <a:path w="4825" h="222">
                <a:moveTo>
                  <a:pt x="4825" y="222"/>
                </a:moveTo>
                <a:lnTo>
                  <a:pt x="4808" y="217"/>
                </a:lnTo>
                <a:lnTo>
                  <a:pt x="4739" y="207"/>
                </a:lnTo>
                <a:lnTo>
                  <a:pt x="4627" y="191"/>
                </a:lnTo>
                <a:lnTo>
                  <a:pt x="4472" y="170"/>
                </a:lnTo>
                <a:lnTo>
                  <a:pt x="4274" y="145"/>
                </a:lnTo>
                <a:lnTo>
                  <a:pt x="4042" y="119"/>
                </a:lnTo>
                <a:lnTo>
                  <a:pt x="3776" y="98"/>
                </a:lnTo>
                <a:lnTo>
                  <a:pt x="3475" y="78"/>
                </a:lnTo>
                <a:lnTo>
                  <a:pt x="3148" y="62"/>
                </a:lnTo>
                <a:lnTo>
                  <a:pt x="2786" y="47"/>
                </a:lnTo>
                <a:lnTo>
                  <a:pt x="2399" y="47"/>
                </a:lnTo>
                <a:lnTo>
                  <a:pt x="2012" y="47"/>
                </a:lnTo>
                <a:lnTo>
                  <a:pt x="1660" y="62"/>
                </a:lnTo>
                <a:lnTo>
                  <a:pt x="1333" y="78"/>
                </a:lnTo>
                <a:lnTo>
                  <a:pt x="1032" y="98"/>
                </a:lnTo>
                <a:lnTo>
                  <a:pt x="774" y="119"/>
                </a:lnTo>
                <a:lnTo>
                  <a:pt x="550" y="145"/>
                </a:lnTo>
                <a:lnTo>
                  <a:pt x="361" y="170"/>
                </a:lnTo>
                <a:lnTo>
                  <a:pt x="206" y="191"/>
                </a:lnTo>
                <a:lnTo>
                  <a:pt x="94" y="207"/>
                </a:lnTo>
                <a:lnTo>
                  <a:pt x="34" y="217"/>
                </a:lnTo>
                <a:lnTo>
                  <a:pt x="8" y="222"/>
                </a:lnTo>
                <a:lnTo>
                  <a:pt x="0" y="8"/>
                </a:lnTo>
                <a:lnTo>
                  <a:pt x="2400" y="8"/>
                </a:lnTo>
                <a:lnTo>
                  <a:pt x="4800" y="0"/>
                </a:lnTo>
                <a:lnTo>
                  <a:pt x="4825" y="222"/>
                </a:lnTo>
                <a:lnTo>
                  <a:pt x="4825" y="222"/>
                </a:lnTo>
                <a:close/>
              </a:path>
            </a:pathLst>
          </a:custGeom>
          <a:solidFill>
            <a:srgbClr val="00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561960" y="2492280"/>
            <a:ext cx="8058240" cy="2041560"/>
          </a:xfrm>
          <a:prstGeom prst="rect">
            <a:avLst/>
          </a:prstGeom>
          <a:solidFill>
            <a:srgbClr val="f9e807">
              <a:alpha val="84000"/>
            </a:srgbClr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1084320" y="2698920"/>
            <a:ext cx="7121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智慧的花朵，常常开放在苦苦思索的枝头上。  </a:t>
            </a:r>
            <a:endParaRPr b="0" lang="en-US" sz="30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536" name="Picture 5" descr="图片2"/>
          <p:cNvPicPr/>
          <p:nvPr/>
        </p:nvPicPr>
        <p:blipFill>
          <a:blip r:embed="rId1"/>
          <a:stretch/>
        </p:blipFill>
        <p:spPr>
          <a:xfrm>
            <a:off x="3149640" y="1041480"/>
            <a:ext cx="3041640" cy="963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图片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30880" y="5067360"/>
            <a:ext cx="145764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485B-A3C5-441C-93B1-AE84A1569AFA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59" name="Picture 2" descr="image002"/>
          <p:cNvPicPr/>
          <p:nvPr/>
        </p:nvPicPr>
        <p:blipFill>
          <a:blip r:embed="rId1"/>
          <a:stretch/>
        </p:blipFill>
        <p:spPr>
          <a:xfrm>
            <a:off x="523800" y="650880"/>
            <a:ext cx="3807000" cy="5576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20066363321863"/>
          <p:cNvPicPr/>
          <p:nvPr/>
        </p:nvPicPr>
        <p:blipFill>
          <a:blip r:embed="rId2"/>
          <a:stretch/>
        </p:blipFill>
        <p:spPr>
          <a:xfrm>
            <a:off x="4502160" y="714240"/>
            <a:ext cx="41450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E339-C12E-41EA-8FA9-0719CAC86CD6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4186440" y="87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想一想，下面的漫画说明什么问题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63" name="Picture 9" descr="6666"/>
          <p:cNvPicPr/>
          <p:nvPr/>
        </p:nvPicPr>
        <p:blipFill>
          <a:blip r:embed="rId1"/>
          <a:srcRect l="0" t="-12537" r="0" b="0"/>
          <a:stretch/>
        </p:blipFill>
        <p:spPr>
          <a:xfrm>
            <a:off x="3263760" y="5643720"/>
            <a:ext cx="2895840" cy="682560"/>
          </a:xfrm>
          <a:prstGeom prst="rect">
            <a:avLst/>
          </a:prstGeom>
          <a:ln w="0">
            <a:noFill/>
          </a:ln>
        </p:spPr>
      </p:pic>
      <p:pic>
        <p:nvPicPr>
          <p:cNvPr id="364" name="ShockwaveFlash1" descr=""/>
          <p:cNvPicPr/>
          <p:nvPr/>
        </p:nvPicPr>
        <p:blipFill>
          <a:blip r:embed="rId2"/>
          <a:stretch/>
        </p:blipFill>
        <p:spPr>
          <a:xfrm>
            <a:off x="1471680" y="1528920"/>
            <a:ext cx="5991120" cy="40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41C3-E1FE-4508-9BE1-DDE95745396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6" name="Text Box 45"/>
          <p:cNvSpPr/>
          <p:nvPr/>
        </p:nvSpPr>
        <p:spPr>
          <a:xfrm>
            <a:off x="685800" y="1960560"/>
            <a:ext cx="764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有一袋粮食，想把它从一楼提到四楼，有哪些办法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67" name="Picture 46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340000" y="2876400"/>
            <a:ext cx="1184400" cy="2662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7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867280" y="2876400"/>
            <a:ext cx="1116000" cy="2664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8" descr="01"/>
          <p:cNvPicPr/>
          <p:nvPr/>
        </p:nvPicPr>
        <p:blipFill>
          <a:blip r:embed="rId3"/>
          <a:stretch/>
        </p:blipFill>
        <p:spPr>
          <a:xfrm>
            <a:off x="825480" y="1022400"/>
            <a:ext cx="228600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EEE7-29C1-4AA6-904B-0930DF4759B9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681120" y="954000"/>
            <a:ext cx="5638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宋体"/>
                <a:ea typeface="宋体"/>
              </a:rPr>
              <a:t>动滑轮和定滑轮</a:t>
            </a:r>
            <a:endParaRPr b="0" lang="en-US" sz="27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1187280" y="16970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定滑轮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轴固定不动的滑轮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73" name="Picture 38" descr="6666"/>
          <p:cNvPicPr/>
          <p:nvPr/>
        </p:nvPicPr>
        <p:blipFill>
          <a:blip r:embed="rId1"/>
          <a:srcRect l="0" t="-12537" r="0" b="0"/>
          <a:stretch/>
        </p:blipFill>
        <p:spPr>
          <a:xfrm>
            <a:off x="2976480" y="5467320"/>
            <a:ext cx="2895840" cy="682560"/>
          </a:xfrm>
          <a:prstGeom prst="rect">
            <a:avLst/>
          </a:prstGeom>
          <a:ln w="0">
            <a:noFill/>
          </a:ln>
        </p:spPr>
      </p:pic>
      <p:pic>
        <p:nvPicPr>
          <p:cNvPr id="374" name="ShockwaveFlash1" descr=""/>
          <p:cNvPicPr/>
          <p:nvPr/>
        </p:nvPicPr>
        <p:blipFill>
          <a:blip r:embed="rId2"/>
          <a:stretch/>
        </p:blipFill>
        <p:spPr>
          <a:xfrm>
            <a:off x="4422600" y="2637000"/>
            <a:ext cx="2873520" cy="2528640"/>
          </a:xfrm>
          <a:prstGeom prst="rect">
            <a:avLst/>
          </a:prstGeom>
          <a:ln w="0">
            <a:noFill/>
          </a:ln>
        </p:spPr>
      </p:pic>
      <p:pic>
        <p:nvPicPr>
          <p:cNvPr id="375" name="ShockwaveFlash2" descr=""/>
          <p:cNvPicPr/>
          <p:nvPr/>
        </p:nvPicPr>
        <p:blipFill>
          <a:blip r:embed="rId3"/>
          <a:stretch/>
        </p:blipFill>
        <p:spPr>
          <a:xfrm>
            <a:off x="1028880" y="2481120"/>
            <a:ext cx="304452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B24C-ADD5-44F1-8A61-87706982AC14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87280" y="156384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动滑轮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轴随着物体一起运动的滑轮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78" name="Picture 11" descr="6666"/>
          <p:cNvPicPr/>
          <p:nvPr/>
        </p:nvPicPr>
        <p:blipFill>
          <a:blip r:embed="rId1"/>
          <a:srcRect l="0" t="-12537" r="0" b="0"/>
          <a:stretch/>
        </p:blipFill>
        <p:spPr>
          <a:xfrm>
            <a:off x="2925720" y="5192640"/>
            <a:ext cx="2895480" cy="682560"/>
          </a:xfrm>
          <a:prstGeom prst="rect">
            <a:avLst/>
          </a:prstGeom>
          <a:ln w="0">
            <a:noFill/>
          </a:ln>
        </p:spPr>
      </p:pic>
      <p:pic>
        <p:nvPicPr>
          <p:cNvPr id="379" name="ShockwaveFlash2" descr=""/>
          <p:cNvPicPr/>
          <p:nvPr/>
        </p:nvPicPr>
        <p:blipFill>
          <a:blip r:embed="rId2"/>
          <a:stretch/>
        </p:blipFill>
        <p:spPr>
          <a:xfrm>
            <a:off x="1630440" y="2389320"/>
            <a:ext cx="5010120" cy="25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48E6-571C-4B1E-8D58-ACF3F2815A70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954000" y="79524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你还能想起滑轮的哪些应用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82" name="Picture 28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71640" y="1628640"/>
            <a:ext cx="2374920" cy="2125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9" descr=""/>
          <p:cNvPicPr/>
          <p:nvPr/>
        </p:nvPicPr>
        <p:blipFill>
          <a:blip r:embed="rId2"/>
          <a:stretch/>
        </p:blipFill>
        <p:spPr>
          <a:xfrm>
            <a:off x="4427640" y="1701720"/>
            <a:ext cx="2808360" cy="2210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0" descr=""/>
          <p:cNvPicPr/>
          <p:nvPr/>
        </p:nvPicPr>
        <p:blipFill>
          <a:blip r:embed="rId3"/>
          <a:stretch/>
        </p:blipFill>
        <p:spPr>
          <a:xfrm>
            <a:off x="900000" y="4078440"/>
            <a:ext cx="2886120" cy="1979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2" descr="u=1197501602,2176977244&amp;gp=0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643280" y="4221000"/>
            <a:ext cx="2160720" cy="1825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33" descr="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5940360" y="4221000"/>
            <a:ext cx="2376720" cy="1438560"/>
          </a:xfrm>
          <a:prstGeom prst="rect">
            <a:avLst/>
          </a:prstGeom>
          <a:ln w="0">
            <a:noFill/>
          </a:ln>
        </p:spPr>
      </p:pic>
      <p:sp>
        <p:nvSpPr>
          <p:cNvPr id="38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8e163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5963-8337-4268-80F9-11CD8A235C7B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9" name="Rectangle 21"/>
          <p:cNvSpPr/>
          <p:nvPr/>
        </p:nvSpPr>
        <p:spPr>
          <a:xfrm>
            <a:off x="976320" y="2554200"/>
            <a:ext cx="580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使用定滑轮拉物体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仔细观察实验，注意力的方向及大小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90" name="Picture 22" descr=""/>
          <p:cNvPicPr/>
          <p:nvPr/>
        </p:nvPicPr>
        <p:blipFill>
          <a:blip r:embed="rId1"/>
          <a:stretch/>
        </p:blipFill>
        <p:spPr>
          <a:xfrm>
            <a:off x="6861240" y="1967040"/>
            <a:ext cx="842760" cy="16398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3"/>
          <p:cNvSpPr/>
          <p:nvPr/>
        </p:nvSpPr>
        <p:spPr>
          <a:xfrm>
            <a:off x="976320" y="4137120"/>
            <a:ext cx="6116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使用动滑轮拉物体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仔细观察实验，注意力的方向及大小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92" name="Picture 24" descr=""/>
          <p:cNvPicPr/>
          <p:nvPr/>
        </p:nvPicPr>
        <p:blipFill>
          <a:blip r:embed="rId2"/>
          <a:stretch/>
        </p:blipFill>
        <p:spPr>
          <a:xfrm>
            <a:off x="7216920" y="3843360"/>
            <a:ext cx="742680" cy="20160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30"/>
          <p:cNvSpPr/>
          <p:nvPr/>
        </p:nvSpPr>
        <p:spPr>
          <a:xfrm>
            <a:off x="3359160" y="99540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实 验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8T04:5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41Z</dcterms:modified>
  <cp:revision>6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