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14.wmf" ContentType="image/x-wmf"/>
  <Override PartName="/ppt/media/chimes.wav" ContentType="audio/x-wav"/>
  <Override PartName="/ppt/media/image16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7.jpeg" ContentType="image/jpeg"/>
  <Override PartName="/ppt/media/image21.jpeg" ContentType="image/jpeg"/>
  <Override PartName="/ppt/media/image19.wmf" ContentType="image/x-wmf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F71-5AF0-4307-B482-BBBC501F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06E-5D03-49B0-8C2A-350D4339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84E-0561-437E-AAF0-A361F6DE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D615-F809-4092-9492-C2790240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4A9A-F438-4EFC-9A29-C3FADC55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DE49-FE4C-4439-96A5-C08E3E26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3176-7716-4413-9B8A-3FB235CB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84F3-A559-4E6C-9DB8-A1FFFE59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AD8-BB14-4045-A8BC-96578C4D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2588-D160-4A62-B314-B6B24A54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35B9-C303-4E6D-8865-EC7B740B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42D-AFEB-4516-A351-63ADFCEB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668B-FAA1-4859-A841-D825887E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B833-4E06-4212-8104-E43472CB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8C82-AB2E-4546-B1AE-134CBA67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F8FD-2377-4A4D-A2BC-2DC37FFF0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116-BA04-4EAA-93C5-65309202C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CECB-21C9-4CA3-B59B-5EF3F4EF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0D375-5E5E-43DD-9EDE-A879584C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271C-0C16-41ED-877E-C2232D003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8729E-D136-4639-B8D6-C4816106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DAA97-5F74-4613-8DF2-AE23DF59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6870-3764-43D5-AFAF-8F019F2B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CA62A-3119-4D13-A2A6-472541B2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07AE-4B2B-4D8E-B8E2-0566C69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EF78-05A0-48FA-A7D1-BA069DA3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8B305-2C22-4C3C-A1AF-AC04F64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1FF1-D751-4222-9D11-C1E06DE0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A37C4-2754-4869-B290-5A6697035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B0086-7330-4B65-BEA2-F9F96C10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7AF9E-EAAA-4C84-A182-C42C1DC8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5385-5702-49B8-A994-7D8B7A12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4C424-B405-41E6-8A76-F897E209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C4A-08ED-4B90-9BF4-BD7DF03E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DB14D-30CB-454F-98DA-DF9AF80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5410B-67A2-4BA2-865B-B617BBDE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6DA2-30AB-462D-B9F7-51A3CC00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7BB68-51D9-4C46-BD99-1F75D87F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B26C4-D902-407C-98AC-DCE0CBB8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204B-F2F8-4E1F-ACE6-16B8FF6E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971B5-5A93-464F-9AAE-7685E08F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3E96E-807B-4FF1-B26E-C5C8BB4E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1CCA6-5853-4B23-9EC3-14CEEC5DE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D4F15-2DF9-4502-839D-5BD8FE6B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58B-290C-4A22-A82A-F3ED6B7A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357E1-4FFE-4819-9CBA-A0C4520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79A80-3408-431A-A4B7-333AA68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DD8BD-9CDD-4825-82BB-9188505C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97975-DBC5-411B-AC39-D0A2972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9CCE1-C4F9-42F7-B143-BDEBCEF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5B2C2-7074-4D00-A191-D7BC37BA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B015D-3B40-45E8-B054-7D3553E3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0675-594D-46E3-AA67-FF970879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2DD8-287A-48D9-B326-89F7F689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CA948-6145-42B7-BE66-735D928B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5F3-D7E2-470C-AD7F-F2DE19E3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57C7A-B641-4CC9-AF36-5336932A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2D54C-A33F-47A7-8FA6-857A8442B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473D-7439-4172-8381-77544C231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723E5-7D4F-4CFB-883E-F1281C1C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37E30-B723-43BA-8936-CB2FAEF0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6EAB5-277D-4958-9EF0-0A28FDA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9BBB9-E3D4-4274-BB80-AA9192FC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4C40F-354B-4D04-8DBC-919201E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17BC-AAE6-4694-8880-5A3B8FF0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6D39C-44AF-4EBD-8811-9950140C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13E8-AFF9-48BE-98DC-A84E8C07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D3D2B-E8FB-4FB3-99DE-BEE5867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B079F-06C7-4198-8762-55840566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6E8D-AE3A-4ED8-ACFB-E376BA3C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02C3-5E79-4F37-96B2-24F3DEEB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D2DD3-B714-4FA2-AAA3-2F81CB75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DC91E-2801-4967-AC77-2FA0705C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6DA0D-9134-4134-9292-A7DCDE92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BDB80-7934-460D-9484-0543CBA0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64600"/>
            <a:ext cx="82296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61B22-61B7-42A1-8758-00ED55F8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6DD77-FC30-4A51-A87A-EE4566D1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6B9-2041-440D-A488-239A302B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CEA83-1E1F-4EAE-8FF6-B95386E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45487-3332-4212-87EB-F971BB71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F002-641E-407D-8C3B-2E7D232D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A8DF1-F32E-4D7E-803D-0736BD3F1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E6891-0F03-4D60-AC2E-94540FCB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7840-8B99-4892-910C-2054626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33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8E9A-8DE9-4C52-B4A3-ED61BBED2A43}" type="slidenum">
              <a:rPr b="0" lang="zh-CN" sz="8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B2ED-9724-4623-9DA9-5977674062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-1440" y="0"/>
            <a:ext cx="91422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83D-396E-4673-8D76-8BE945AD03E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9694-5EE4-4D97-BAF3-AC666007F03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Te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1" marL="343080" indent="-343080">
              <a:spcBef>
                <a:spcPts val="601"/>
              </a:spcBef>
              <a:buClr>
                <a:srgbClr val="003300"/>
              </a:buClr>
              <a:buFont typeface="Arial Narro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2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3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4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5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  <a:p>
            <a:pPr lvl="6" marL="343080" indent="-343080">
              <a:spcBef>
                <a:spcPts val="60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Arial Narrow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17892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411280" y="6597720"/>
            <a:ext cx="289584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5435280" y="6597720"/>
            <a:ext cx="2133720" cy="1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7A3E-3A89-486A-AA5D-F0886CA18040}" type="slidenum">
              <a:rPr b="0" lang="zh-CN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13A-CA19-416F-B22F-36C565139A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174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5F7A-6BDE-4E03-9009-30C666D01F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4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2"/>
          <p:cNvSpPr txBox="1"/>
          <p:nvPr/>
        </p:nvSpPr>
        <p:spPr>
          <a:xfrm>
            <a:off x="971640" y="1052640"/>
            <a:ext cx="7489800" cy="1293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减慢食物变质的速度</a:t>
            </a:r>
            <a:r>
              <a:rPr b="1" lang="en-US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4532400" cy="302400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00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324000" y="189000"/>
            <a:ext cx="5943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二、储存食物的各种方法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179280" y="14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我们已经知道引起食物变质需要有一定的空气、水分和温度等条件，如果要储存一条新鲜的小鱼，可以用什么方法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79280" y="2997360"/>
            <a:ext cx="84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小组讨论交流，并说说运用这种方法储存食物的理由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79280" y="3933720"/>
            <a:ext cx="86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食品罐头储存食物为什么能延长它的保质期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08000" y="465300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你还知道哪些储存食物的方法？为什么这些方法能减慢食物变质的速度？ 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0" y="59500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00"/>
                </a:solidFill>
                <a:latin typeface="Arial"/>
              </a:rPr>
              <a:t>、讨论：你还能用什么方法来储存食物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5724360" y="0"/>
            <a:ext cx="2448000" cy="19684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"/>
          <p:cNvPicPr/>
          <p:nvPr/>
        </p:nvPicPr>
        <p:blipFill>
          <a:blip r:embed="rId2"/>
          <a:stretch/>
        </p:blipFill>
        <p:spPr>
          <a:xfrm>
            <a:off x="5724360" y="1989000"/>
            <a:ext cx="2448000" cy="15112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"/>
          <p:cNvPicPr/>
          <p:nvPr/>
        </p:nvPicPr>
        <p:blipFill>
          <a:blip r:embed="rId3"/>
          <a:stretch/>
        </p:blipFill>
        <p:spPr>
          <a:xfrm>
            <a:off x="5724360" y="3500280"/>
            <a:ext cx="2376720" cy="1357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4"/>
          <a:stretch/>
        </p:blipFill>
        <p:spPr>
          <a:xfrm>
            <a:off x="5796000" y="4869000"/>
            <a:ext cx="2376360" cy="12906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6"/>
          <p:cNvSpPr/>
          <p:nvPr/>
        </p:nvSpPr>
        <p:spPr>
          <a:xfrm>
            <a:off x="3669120" y="263700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2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晒成鱼干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940560" y="4005360"/>
            <a:ext cx="5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3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用盐腌成咸鱼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7" name="Rectangle 8"/>
          <p:cNvSpPr/>
          <p:nvPr/>
        </p:nvSpPr>
        <p:spPr>
          <a:xfrm>
            <a:off x="3071880" y="537372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4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做成罐头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8" name="Rectangle 9"/>
          <p:cNvSpPr/>
          <p:nvPr/>
        </p:nvSpPr>
        <p:spPr>
          <a:xfrm>
            <a:off x="2987640" y="1125360"/>
            <a:ext cx="25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400" spc="-1" strike="noStrike">
                <a:solidFill>
                  <a:srgbClr val="003300"/>
                </a:solidFill>
                <a:latin typeface="Arial Narrow"/>
              </a:rPr>
              <a:t>、放进冰箱冷冻</a:t>
            </a:r>
            <a:r>
              <a:rPr b="0" lang="zh-CN" sz="2400" spc="-1" strike="noStrike">
                <a:solidFill>
                  <a:srgbClr val="0033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39" name="WordArt 10"/>
          <p:cNvSpPr txBox="1"/>
          <p:nvPr/>
        </p:nvSpPr>
        <p:spPr>
          <a:xfrm>
            <a:off x="250920" y="0"/>
            <a:ext cx="367344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储存一条鱼的方法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Rectangle 11"/>
          <p:cNvSpPr/>
          <p:nvPr/>
        </p:nvSpPr>
        <p:spPr>
          <a:xfrm>
            <a:off x="249120" y="2397240"/>
            <a:ext cx="24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ff"/>
                </a:solidFill>
                <a:latin typeface="Arial Narrow"/>
              </a:rPr>
              <a:t>同一种食物，我们可以用多种不同的方法来减慢它的变质速度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6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2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2"/>
          <p:cNvSpPr txBox="1"/>
          <p:nvPr/>
        </p:nvSpPr>
        <p:spPr>
          <a:xfrm>
            <a:off x="612720" y="476280"/>
            <a:ext cx="396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003300"/>
                  </a:solidFill>
                  <a:round/>
                </a:ln>
                <a:solidFill>
                  <a:srgbClr val="ff0000"/>
                </a:solidFill>
                <a:latin typeface="宋体"/>
              </a:rPr>
              <a:t>储存食物的方法</a:t>
            </a:r>
            <a:endParaRPr b="0" lang="en-US" sz="3600" spc="1" strike="noStrike">
              <a:ln w="9360">
                <a:solidFill>
                  <a:srgbClr val="003300"/>
                </a:solidFill>
                <a:round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468360" y="1701720"/>
            <a:ext cx="45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1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冷冻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468360" y="2421000"/>
            <a:ext cx="29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2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曝晒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539640" y="31417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3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腌制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539640" y="3860640"/>
            <a:ext cx="44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4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密封包装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539640" y="472428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5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真空包装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539640" y="5589720"/>
            <a:ext cx="48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6</a:t>
            </a: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、高温或低温灭菌法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4206960"/>
            <a:ext cx="8280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49" name="WordArt 3"/>
          <p:cNvSpPr txBox="1"/>
          <p:nvPr/>
        </p:nvSpPr>
        <p:spPr>
          <a:xfrm>
            <a:off x="324000" y="476280"/>
            <a:ext cx="352728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考你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324000" y="134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</a:rPr>
              <a:t>下面的说法对吗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0" y="213372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食物的腐败变质是由微生物的大量繁殖引起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0" y="285264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微生物的生长与繁殖需要空气、水分和适宜的温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3" name="Text Box 7"/>
          <p:cNvSpPr/>
          <p:nvPr/>
        </p:nvSpPr>
        <p:spPr>
          <a:xfrm>
            <a:off x="0" y="36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闻变质食物的气味时，要扇闻，并注意尽量少闻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54" name="Text Box 8"/>
          <p:cNvSpPr/>
          <p:nvPr/>
        </p:nvSpPr>
        <p:spPr>
          <a:xfrm>
            <a:off x="0" y="4437000"/>
            <a:ext cx="87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、用冷冻、晒干、真空包装等方法，能减慢食物变质的速度。其原因是破坏了微生物生长所需的条件。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"/>
          <p:cNvSpPr/>
          <p:nvPr/>
        </p:nvSpPr>
        <p:spPr>
          <a:xfrm>
            <a:off x="108000" y="1773360"/>
            <a:ext cx="89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 Narrow"/>
              </a:rPr>
              <a:t>       </a:t>
            </a:r>
            <a:r>
              <a:rPr b="1" lang="zh-CN" sz="2800" spc="-1" strike="noStrike">
                <a:solidFill>
                  <a:srgbClr val="cc0000"/>
                </a:solidFill>
                <a:latin typeface="Arial Narrow"/>
              </a:rPr>
              <a:t>今天小红和爸爸妈妈一起去超市买东西，她看到了很多食物，你能帮她分辨一下这些食物是用什么方法储存的吗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56" name="Picture 3" descr="get1"/>
          <p:cNvPicPr/>
          <p:nvPr/>
        </p:nvPicPr>
        <p:blipFill>
          <a:blip r:embed="rId1"/>
          <a:stretch/>
        </p:blipFill>
        <p:spPr>
          <a:xfrm>
            <a:off x="324000" y="3502080"/>
            <a:ext cx="3348000" cy="31273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get11"/>
          <p:cNvPicPr/>
          <p:nvPr/>
        </p:nvPicPr>
        <p:blipFill>
          <a:blip r:embed="rId2"/>
          <a:stretch/>
        </p:blipFill>
        <p:spPr>
          <a:xfrm>
            <a:off x="3852720" y="3645000"/>
            <a:ext cx="4716720" cy="2982960"/>
          </a:xfrm>
          <a:prstGeom prst="rect">
            <a:avLst/>
          </a:prstGeom>
          <a:ln w="0">
            <a:noFill/>
          </a:ln>
        </p:spPr>
      </p:pic>
      <p:sp>
        <p:nvSpPr>
          <p:cNvPr id="358" name="WordArt 5"/>
          <p:cNvSpPr txBox="1"/>
          <p:nvPr/>
        </p:nvSpPr>
        <p:spPr>
          <a:xfrm>
            <a:off x="612720" y="404640"/>
            <a:ext cx="403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gradFill rotWithShape="0">
                  <a:gsLst>
                    <a:gs pos="0">
                      <a:srgbClr val="d6d7b8"/>
                    </a:gs>
                    <a:gs pos="100000">
                      <a:srgbClr val="626354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助人为乐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gradFill rotWithShape="0">
                <a:gsLst>
                  <a:gs pos="0">
                    <a:srgbClr val="d6d7b8"/>
                  </a:gs>
                  <a:gs pos="100000">
                    <a:srgbClr val="626354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5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get12"/>
          <p:cNvPicPr/>
          <p:nvPr/>
        </p:nvPicPr>
        <p:blipFill>
          <a:blip r:embed="rId1"/>
          <a:stretch/>
        </p:blipFill>
        <p:spPr>
          <a:xfrm>
            <a:off x="108000" y="189000"/>
            <a:ext cx="3781440" cy="23349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get123"/>
          <p:cNvPicPr/>
          <p:nvPr/>
        </p:nvPicPr>
        <p:blipFill>
          <a:blip r:embed="rId2"/>
          <a:stretch/>
        </p:blipFill>
        <p:spPr>
          <a:xfrm>
            <a:off x="4716360" y="333360"/>
            <a:ext cx="3954600" cy="3162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get125"/>
          <p:cNvPicPr/>
          <p:nvPr/>
        </p:nvPicPr>
        <p:blipFill>
          <a:blip r:embed="rId3"/>
          <a:stretch/>
        </p:blipFill>
        <p:spPr>
          <a:xfrm>
            <a:off x="324000" y="357336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get135"/>
          <p:cNvPicPr/>
          <p:nvPr/>
        </p:nvPicPr>
        <p:blipFill>
          <a:blip r:embed="rId4"/>
          <a:stretch/>
        </p:blipFill>
        <p:spPr>
          <a:xfrm>
            <a:off x="4932360" y="3573360"/>
            <a:ext cx="3745080" cy="3110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539640" y="2852640"/>
            <a:ext cx="765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 Narrow"/>
              </a:rPr>
              <a:t>同学们：通过这一节课的学习，你学到了哪些知识呢？ 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65" name="WordArt 3"/>
          <p:cNvSpPr txBox="1"/>
          <p:nvPr/>
        </p:nvSpPr>
        <p:spPr>
          <a:xfrm>
            <a:off x="612720" y="477720"/>
            <a:ext cx="360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谈一谈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6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6D6A-0405-4EA3-8631-A25338A258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241280" y="1755720"/>
            <a:ext cx="7363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71" name="WordArt 3"/>
          <p:cNvSpPr txBox="1"/>
          <p:nvPr/>
        </p:nvSpPr>
        <p:spPr>
          <a:xfrm>
            <a:off x="684360" y="1271520"/>
            <a:ext cx="82818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谢谢各位老师的莅临和指导！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72" name="WordArt 4"/>
          <p:cNvSpPr txBox="1"/>
          <p:nvPr/>
        </p:nvSpPr>
        <p:spPr>
          <a:xfrm>
            <a:off x="1547640" y="3860640"/>
            <a:ext cx="61930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谢谢各位，再见！</a:t>
            </a:r>
            <a:endParaRPr b="0" lang="en-US" sz="36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wipe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1044720" y="838080"/>
            <a:ext cx="6337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民以食为天</a:t>
            </a:r>
            <a:endParaRPr b="0" lang="en-US" sz="36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755640" y="3068640"/>
            <a:ext cx="84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 Narrow"/>
                <a:ea typeface="宋体"/>
              </a:rPr>
              <a:t>我们每天都要吃很多食物，谁能说一说你最喜欢吃什么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0320" y="4606920"/>
            <a:ext cx="72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 Narrow"/>
                <a:ea typeface="宋体"/>
              </a:rPr>
              <a:t>老师也有很多喜欢的食物，请同学们看一看老师喜爱的食物！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WordArt 2"/>
          <p:cNvSpPr txBox="1"/>
          <p:nvPr/>
        </p:nvSpPr>
        <p:spPr>
          <a:xfrm>
            <a:off x="755640" y="476280"/>
            <a:ext cx="223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宋体"/>
              </a:rPr>
              <a:t>看一看</a:t>
            </a:r>
            <a:endParaRPr b="1" lang="en-US" sz="36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00" name="Picture 3" descr="鸡蛋"/>
          <p:cNvPicPr/>
          <p:nvPr/>
        </p:nvPicPr>
        <p:blipFill>
          <a:blip r:embed="rId3"/>
          <a:stretch/>
        </p:blipFill>
        <p:spPr>
          <a:xfrm>
            <a:off x="5292720" y="2924280"/>
            <a:ext cx="3816360" cy="38732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黄瓜"/>
          <p:cNvPicPr/>
          <p:nvPr/>
        </p:nvPicPr>
        <p:blipFill>
          <a:blip r:embed="rId4"/>
          <a:stretch/>
        </p:blipFill>
        <p:spPr>
          <a:xfrm>
            <a:off x="36360" y="2060640"/>
            <a:ext cx="3888000" cy="2998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西红柿"/>
          <p:cNvPicPr/>
          <p:nvPr/>
        </p:nvPicPr>
        <p:blipFill>
          <a:blip r:embed="rId5"/>
          <a:stretch/>
        </p:blipFill>
        <p:spPr>
          <a:xfrm>
            <a:off x="5796000" y="189000"/>
            <a:ext cx="316872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清蒸鱼"/>
          <p:cNvPicPr/>
          <p:nvPr/>
        </p:nvPicPr>
        <p:blipFill>
          <a:blip r:embed="rId1"/>
          <a:stretch/>
        </p:blipFill>
        <p:spPr>
          <a:xfrm>
            <a:off x="4861080" y="189000"/>
            <a:ext cx="4248000" cy="40701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猪腿"/>
          <p:cNvPicPr/>
          <p:nvPr/>
        </p:nvPicPr>
        <p:blipFill>
          <a:blip r:embed="rId2"/>
          <a:stretch/>
        </p:blipFill>
        <p:spPr>
          <a:xfrm>
            <a:off x="324000" y="3357720"/>
            <a:ext cx="4249440" cy="33130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烤鸭"/>
          <p:cNvPicPr/>
          <p:nvPr/>
        </p:nvPicPr>
        <p:blipFill>
          <a:blip r:embed="rId3"/>
          <a:stretch/>
        </p:blipFill>
        <p:spPr>
          <a:xfrm>
            <a:off x="108000" y="117360"/>
            <a:ext cx="4762440" cy="31435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5148360" y="4940280"/>
            <a:ext cx="35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  <a:ea typeface="宋体"/>
              </a:rPr>
              <a:t>你们喜欢吃吗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490680" y="1052640"/>
            <a:ext cx="5400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一、观察变质的食物</a:t>
            </a:r>
            <a:endParaRPr b="1" lang="en-US" sz="3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95280" y="220500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你吃过鱼干吗？味道怎样？</a:t>
            </a:r>
            <a:endParaRPr b="0" lang="en-US" sz="32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96000" y="3278160"/>
            <a:ext cx="4248000" cy="3579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5"/>
          <p:cNvSpPr/>
          <p:nvPr/>
        </p:nvSpPr>
        <p:spPr>
          <a:xfrm>
            <a:off x="396720" y="4653000"/>
            <a:ext cx="480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鱼干的味道：可口、美味、好吃等等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tretch/>
        </p:blipFill>
        <p:spPr>
          <a:xfrm>
            <a:off x="612720" y="2781360"/>
            <a:ext cx="2448000" cy="1511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、比较新鲜的食物和变质的食物，有哪些不同的地方？ </a:t>
            </a:r>
            <a:endParaRPr b="0" lang="en-US" sz="3200" spc="-1" strike="noStrike">
              <a:solidFill>
                <a:srgbClr val="ff00ff"/>
              </a:solidFill>
              <a:latin typeface="Arial Narrow"/>
            </a:endParaRPr>
          </a:p>
        </p:txBody>
      </p:sp>
      <p:pic>
        <p:nvPicPr>
          <p:cNvPr id="313" name="Picture 3" descr="%A]57[9%1OZY(_)_(7QW{T3"/>
          <p:cNvPicPr/>
          <p:nvPr/>
        </p:nvPicPr>
        <p:blipFill>
          <a:blip r:embed="rId1"/>
          <a:stretch/>
        </p:blipFill>
        <p:spPr>
          <a:xfrm>
            <a:off x="4861080" y="3284640"/>
            <a:ext cx="3781440" cy="3276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新鲜的小鱼"/>
          <p:cNvPicPr/>
          <p:nvPr/>
        </p:nvPicPr>
        <p:blipFill>
          <a:blip r:embed="rId2"/>
          <a:stretch/>
        </p:blipFill>
        <p:spPr>
          <a:xfrm>
            <a:off x="36360" y="2565360"/>
            <a:ext cx="3333960" cy="23623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变质的食物"/>
          <p:cNvPicPr/>
          <p:nvPr/>
        </p:nvPicPr>
        <p:blipFill>
          <a:blip r:embed="rId3"/>
          <a:stretch/>
        </p:blipFill>
        <p:spPr>
          <a:xfrm>
            <a:off x="5219640" y="476280"/>
            <a:ext cx="3333960" cy="2219400"/>
          </a:xfrm>
          <a:prstGeom prst="rect">
            <a:avLst/>
          </a:prstGeom>
          <a:ln w="0">
            <a:noFill/>
          </a:ln>
        </p:spPr>
      </p:pic>
      <p:sp>
        <p:nvSpPr>
          <p:cNvPr id="316" name="文本框 8199"/>
          <p:cNvSpPr/>
          <p:nvPr/>
        </p:nvSpPr>
        <p:spPr>
          <a:xfrm>
            <a:off x="755640" y="2174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559085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ff00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468360" y="21337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 Narrow"/>
              </a:rPr>
              <a:t>1</a:t>
            </a:r>
            <a:r>
              <a:rPr b="1" lang="zh-CN" sz="2800" spc="-1" strike="noStrike">
                <a:solidFill>
                  <a:srgbClr val="003300"/>
                </a:solidFill>
                <a:latin typeface="Arial Narrow"/>
              </a:rPr>
              <a:t>、腐败的小鱼、发馊的面条与发霉的面包有哪些相似的地方？</a:t>
            </a:r>
            <a:endParaRPr b="0" lang="en-US" sz="28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18" name="WordArt 3"/>
          <p:cNvSpPr txBox="1"/>
          <p:nvPr/>
        </p:nvSpPr>
        <p:spPr>
          <a:xfrm>
            <a:off x="684360" y="260280"/>
            <a:ext cx="172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黑体"/>
              </a:rPr>
              <a:t>想一想</a:t>
            </a:r>
            <a:endParaRPr b="0" lang="en-US" sz="3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684360" y="3357720"/>
            <a:ext cx="73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味道有变化，基本上是发酸发臭，食物变色、长毛、腐烂，都是食物变质的基本特点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1406520" y="1065240"/>
            <a:ext cx="75582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84360" y="1844640"/>
            <a:ext cx="74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主要原因是微生物捣蛋。只要温度适宜，微生物就生长繁殖，分解食物中的营养素，以满足微生物自身需要。此时食物中的蛋白质被分解成有机酸等物质。此时物质会发生氨臭味及酸味，食物也失去了原有的坚韧性及弹性，并使颜色异常。 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39640" y="404640"/>
            <a:ext cx="835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、这么新鲜的食物为什么放了一段时间就会变质呢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12720" y="129060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3300"/>
                </a:solidFill>
                <a:latin typeface="Arial"/>
              </a:rPr>
              <a:t>小鱼为什么在短时间里变质了？鱼干为什么能长时间地保持好闻的味道？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641520" y="2924280"/>
            <a:ext cx="72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Arial Narrow"/>
              </a:rPr>
              <a:t>因为新鲜的小鱼储存环境非常适宜各种微生物的生长和繁殖，从而易变质；反之鱼干的则正好相反，所以长时间也能保持很好的味道。</a:t>
            </a:r>
            <a:endParaRPr b="0" lang="en-US" sz="3600" spc="-1" strike="noStrike">
              <a:solidFill>
                <a:srgbClr val="ff00ff"/>
              </a:solidFill>
              <a:latin typeface="Arial Narrow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23:5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3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