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A14-70CB-4249-9E22-2AC39F08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BE1-DD6D-444D-9F75-DB1654D2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72D-D122-4BC0-B139-564F4997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56D-DAEC-43B5-B6BB-3F50C933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DC4-43CF-4FE0-AF4C-AF2815B6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878-FD90-4E0C-953D-6AEC6A69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E64-52E5-49FA-B98A-DDCE679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4AF-527B-4B35-BB5D-34122295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28A-9562-4263-8804-2BC2EED1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27A-BADE-4A07-8889-D9E59921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59F-B66F-42B9-B4C7-4237B3B0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009-FC60-4368-8B24-AD2E1F75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440"/>
            <a:ext cx="9144000" cy="688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f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252360" y="262080"/>
            <a:ext cx="8713800" cy="64087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E3F8-FBF0-4DE1-8407-BF267BE973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-11160"/>
            <a:ext cx="9144000" cy="686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f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52360" y="262080"/>
            <a:ext cx="8713800" cy="640872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pic>
        <p:nvPicPr>
          <p:cNvPr id="81" name="Picture 4" descr="20051218393_158552"/>
          <p:cNvPicPr/>
          <p:nvPr/>
        </p:nvPicPr>
        <p:blipFill>
          <a:blip r:embed="rId2"/>
          <a:stretch/>
        </p:blipFill>
        <p:spPr>
          <a:xfrm>
            <a:off x="612720" y="3933720"/>
            <a:ext cx="2654280" cy="2281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763560" y="8143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98600" y="47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33cc"/>
                </a:solidFill>
                <a:latin typeface="Arial"/>
              </a:rPr>
              <a:t>人教版九年级化学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403280" y="2317680"/>
            <a:ext cx="6553440" cy="114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33cc"/>
                </a:solidFill>
                <a:latin typeface="楷体_GB2312"/>
              </a:rPr>
              <a:t>金属的化学性质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33cc"/>
              </a:solidFill>
              <a:latin typeface="楷体_GB2312"/>
              <a:ea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6155"/>
          <p:cNvSpPr/>
          <p:nvPr/>
        </p:nvSpPr>
        <p:spPr>
          <a:xfrm>
            <a:off x="279360" y="6313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1913040" y="320040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金属的化学性质课件</a:t>
            </a:r>
            <a:r>
              <a:rPr b="1" lang="en-US" sz="4000" spc="-1" strike="noStrike">
                <a:solidFill>
                  <a:srgbClr val="0033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  <a:ea typeface="宋体"/>
              </a:rPr>
              <a:t>免费下载</a:t>
            </a:r>
            <a:endParaRPr b="1" lang="en-US" sz="40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3"/>
          <p:cNvSpPr txBox="1"/>
          <p:nvPr/>
        </p:nvSpPr>
        <p:spPr>
          <a:xfrm>
            <a:off x="468360" y="836640"/>
            <a:ext cx="244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探究活动一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979640" y="1413000"/>
            <a:ext cx="5329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金属与盐酸、硫酸的反应</a:t>
            </a:r>
            <a:endParaRPr b="1" lang="en-US" sz="40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708280"/>
            <a:ext cx="87138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 Narrow"/>
              </a:rPr>
              <a:t>实验步骤：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 Narrow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取一定量的颗粒尽量大小相同的镁、锌、铁、铜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分别放入四支试管中，各加入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毫升稀盐酸或稀硫酸，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将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燃着的小木条放在试管口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，进行对比实验。观察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哪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些金属能与稀盐酸、稀硫酸反应？哪些不能？反应的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剧烈程度如何？溶液的颜色有什么变化？是否放热？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如果有气体生成，判断生成的是什么气体？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2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" dur="2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042920" y="1341360"/>
          <a:ext cx="3457440" cy="2725560"/>
        </p:xfrm>
        <a:graphic>
          <a:graphicData uri="http://schemas.openxmlformats.org/drawingml/2006/table">
            <a:tbl>
              <a:tblPr/>
              <a:tblGrid>
                <a:gridCol w="1008000"/>
                <a:gridCol w="2449440"/>
              </a:tblGrid>
              <a:tr h="64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反应现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932360" y="1341360"/>
          <a:ext cx="3457440" cy="2725560"/>
        </p:xfrm>
        <a:graphic>
          <a:graphicData uri="http://schemas.openxmlformats.org/drawingml/2006/table">
            <a:tbl>
              <a:tblPr/>
              <a:tblGrid>
                <a:gridCol w="1008000"/>
                <a:gridCol w="2449440"/>
              </a:tblGrid>
              <a:tr h="64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反应现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2"/>
          <p:cNvSpPr/>
          <p:nvPr/>
        </p:nvSpPr>
        <p:spPr>
          <a:xfrm>
            <a:off x="1547640" y="549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组（与盐酸）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5364000" y="549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组（与硫酸）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042920" y="4437000"/>
            <a:ext cx="74898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注意：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、试管的编号与表格中的金属相对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、探究过程中实验操作的规范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、注意对比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观察现象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     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在探究中请按要求填好上面的两个表格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38" name="Group 55"/>
          <p:cNvGrpSpPr/>
          <p:nvPr/>
        </p:nvGrpSpPr>
        <p:grpSpPr>
          <a:xfrm>
            <a:off x="8172000" y="6021360"/>
            <a:ext cx="1584360" cy="604440"/>
            <a:chOff x="8172000" y="6021360"/>
            <a:chExt cx="1584360" cy="604440"/>
          </a:xfrm>
        </p:grpSpPr>
        <p:grpSp>
          <p:nvGrpSpPr>
            <p:cNvPr id="239" name="Group 56"/>
            <p:cNvGrpSpPr/>
            <p:nvPr/>
          </p:nvGrpSpPr>
          <p:grpSpPr>
            <a:xfrm>
              <a:off x="8172000" y="6092640"/>
              <a:ext cx="1584360" cy="533160"/>
              <a:chOff x="8172000" y="6092640"/>
              <a:chExt cx="1584360" cy="533160"/>
            </a:xfrm>
          </p:grpSpPr>
          <p:sp>
            <p:nvSpPr>
              <p:cNvPr id="240" name="AutoShape 57"/>
              <p:cNvSpPr/>
              <p:nvPr/>
            </p:nvSpPr>
            <p:spPr>
              <a:xfrm flipH="1">
                <a:off x="8171640" y="6365520"/>
                <a:ext cx="659160" cy="260280"/>
              </a:xfrm>
              <a:custGeom>
                <a:avLst/>
                <a:gdLst>
                  <a:gd name="textAreaLeft" fmla="*/ 114840 w 659160"/>
                  <a:gd name="textAreaRight" fmla="*/ 477720 w 659160"/>
                  <a:gd name="textAreaTop" fmla="*/ 34560 h 260280"/>
                  <a:gd name="textAreaBottom" fmla="*/ 2257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3175"/>
                    <a:lnTo>
                      <a:pt x="21168" y="7198"/>
                    </a:lnTo>
                    <a:lnTo>
                      <a:pt x="17280" y="0"/>
                    </a:lnTo>
                    <a:lnTo>
                      <a:pt x="12528" y="7198"/>
                    </a:lnTo>
                    <a:lnTo>
                      <a:pt x="14688" y="7198"/>
                    </a:lnTo>
                    <a:arcTo wR="7560" hR="21600" stAng="2716825" swAng="2325740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241" name="Text Box 58"/>
              <p:cNvSpPr/>
              <p:nvPr/>
            </p:nvSpPr>
            <p:spPr>
              <a:xfrm>
                <a:off x="8215920" y="6092640"/>
                <a:ext cx="154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楷体_GB2312"/>
                  </a:rPr>
                  <a:t>返回</a:t>
                </a:r>
                <a:endParaRPr b="1" lang="en-US" sz="18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242" name="Rectangle 59"/>
            <p:cNvSpPr/>
            <p:nvPr/>
          </p:nvSpPr>
          <p:spPr>
            <a:xfrm>
              <a:off x="8245440" y="6021360"/>
              <a:ext cx="7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43" name="Group 62"/>
          <p:cNvGrpSpPr/>
          <p:nvPr/>
        </p:nvGrpSpPr>
        <p:grpSpPr>
          <a:xfrm>
            <a:off x="8101080" y="6021360"/>
            <a:ext cx="863640" cy="647640"/>
            <a:chOff x="8101080" y="6021360"/>
            <a:chExt cx="863640" cy="647640"/>
          </a:xfrm>
        </p:grpSpPr>
        <p:sp>
          <p:nvSpPr>
            <p:cNvPr id="244" name="Rectangle 60"/>
            <p:cNvSpPr/>
            <p:nvPr/>
          </p:nvSpPr>
          <p:spPr>
            <a:xfrm>
              <a:off x="8172360" y="6021360"/>
              <a:ext cx="7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8101080" y="6093000"/>
              <a:ext cx="863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金属与酸的反应.wmv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247" name="WordArt 3"/>
          <p:cNvSpPr txBox="1"/>
          <p:nvPr/>
        </p:nvSpPr>
        <p:spPr>
          <a:xfrm>
            <a:off x="755640" y="404640"/>
            <a:ext cx="2016000" cy="62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视频再现一</a:t>
            </a:r>
            <a:endParaRPr b="1" lang="en-US" sz="32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  <p:grpSp>
        <p:nvGrpSpPr>
          <p:cNvPr id="248" name="Group 10"/>
          <p:cNvGrpSpPr/>
          <p:nvPr/>
        </p:nvGrpSpPr>
        <p:grpSpPr>
          <a:xfrm>
            <a:off x="8028000" y="6093000"/>
            <a:ext cx="1657080" cy="604440"/>
            <a:chOff x="8028000" y="6093000"/>
            <a:chExt cx="1657080" cy="604440"/>
          </a:xfrm>
        </p:grpSpPr>
        <p:grpSp>
          <p:nvGrpSpPr>
            <p:cNvPr id="249" name="Group 4"/>
            <p:cNvGrpSpPr/>
            <p:nvPr/>
          </p:nvGrpSpPr>
          <p:grpSpPr>
            <a:xfrm>
              <a:off x="8100720" y="6093000"/>
              <a:ext cx="1584360" cy="604440"/>
              <a:chOff x="8100720" y="6093000"/>
              <a:chExt cx="1584360" cy="604440"/>
            </a:xfrm>
          </p:grpSpPr>
          <p:grpSp>
            <p:nvGrpSpPr>
              <p:cNvPr id="250" name="Group 5"/>
              <p:cNvGrpSpPr/>
              <p:nvPr/>
            </p:nvGrpSpPr>
            <p:grpSpPr>
              <a:xfrm>
                <a:off x="8100720" y="6164280"/>
                <a:ext cx="1584360" cy="533160"/>
                <a:chOff x="8100720" y="6164280"/>
                <a:chExt cx="1584360" cy="533160"/>
              </a:xfrm>
            </p:grpSpPr>
            <p:sp>
              <p:nvSpPr>
                <p:cNvPr id="251" name="AutoShape 6"/>
                <p:cNvSpPr/>
                <p:nvPr/>
              </p:nvSpPr>
              <p:spPr>
                <a:xfrm flipH="1">
                  <a:off x="8100360" y="6437160"/>
                  <a:ext cx="659160" cy="26028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34560 h 260280"/>
                    <a:gd name="textAreaBottom" fmla="*/ 225720 h 26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252" name="Text Box 7"/>
                <p:cNvSpPr/>
                <p:nvPr/>
              </p:nvSpPr>
              <p:spPr>
                <a:xfrm>
                  <a:off x="8144640" y="616428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53" name="Rectangle 8"/>
              <p:cNvSpPr/>
              <p:nvPr/>
            </p:nvSpPr>
            <p:spPr>
              <a:xfrm>
                <a:off x="8174160" y="609300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254" name="Rectangle 9"/>
            <p:cNvSpPr/>
            <p:nvPr/>
          </p:nvSpPr>
          <p:spPr>
            <a:xfrm>
              <a:off x="8028000" y="6237360"/>
              <a:ext cx="936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3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5920" y="792000"/>
            <a:ext cx="83721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684360" y="1916280"/>
          <a:ext cx="7931160" cy="4201920"/>
        </p:xfrm>
        <a:graphic>
          <a:graphicData uri="http://schemas.openxmlformats.org/drawingml/2006/table">
            <a:tbl>
              <a:tblPr/>
              <a:tblGrid>
                <a:gridCol w="934920"/>
                <a:gridCol w="3221280"/>
                <a:gridCol w="3774960"/>
              </a:tblGrid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 应 现 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 学 方 程 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r>
                        <a:rPr b="1" lang="zh-CN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锌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r>
                        <a:rPr b="1" lang="zh-CN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r>
                        <a:rPr b="1" lang="zh-CN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铜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</a:t>
                      </a:r>
                      <a:r>
                        <a:rPr b="1" lang="zh-CN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Text Box 28"/>
          <p:cNvSpPr/>
          <p:nvPr/>
        </p:nvSpPr>
        <p:spPr>
          <a:xfrm>
            <a:off x="1981080" y="620640"/>
            <a:ext cx="5400720" cy="581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 Narrow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 Narrow"/>
              </a:rPr>
              <a:t>组：（金属和盐酸的反应）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788000" y="5229360"/>
            <a:ext cx="3887640" cy="863640"/>
            <a:chOff x="4788000" y="5229360"/>
            <a:chExt cx="3887640" cy="863640"/>
          </a:xfrm>
        </p:grpSpPr>
        <p:sp>
          <p:nvSpPr>
            <p:cNvPr id="259" name="Line 29"/>
            <p:cNvSpPr/>
            <p:nvPr/>
          </p:nvSpPr>
          <p:spPr>
            <a:xfrm>
              <a:off x="4788000" y="5229360"/>
              <a:ext cx="3887640" cy="863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788000" y="5229360"/>
              <a:ext cx="38876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308720" y="1197000"/>
            <a:ext cx="287640" cy="216000"/>
            <a:chOff x="7308720" y="1197000"/>
            <a:chExt cx="287640" cy="216000"/>
          </a:xfrm>
        </p:grpSpPr>
        <p:sp>
          <p:nvSpPr>
            <p:cNvPr id="262" name="Line 30"/>
            <p:cNvSpPr/>
            <p:nvPr/>
          </p:nvSpPr>
          <p:spPr>
            <a:xfrm>
              <a:off x="7308720" y="1197000"/>
              <a:ext cx="287640" cy="21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7308720" y="1197000"/>
              <a:ext cx="287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858920" y="5300280"/>
            <a:ext cx="3745080" cy="792360"/>
            <a:chOff x="4858920" y="5300280"/>
            <a:chExt cx="3745080" cy="792360"/>
          </a:xfrm>
        </p:grpSpPr>
        <p:sp>
          <p:nvSpPr>
            <p:cNvPr id="265" name="Line 31"/>
            <p:cNvSpPr/>
            <p:nvPr/>
          </p:nvSpPr>
          <p:spPr>
            <a:xfrm flipH="1" flipV="1">
              <a:off x="4858920" y="5300280"/>
              <a:ext cx="3745080" cy="79236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 rot="10800000">
              <a:off x="4858920" y="5300280"/>
              <a:ext cx="374508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267" name="Text Box 32"/>
          <p:cNvSpPr/>
          <p:nvPr/>
        </p:nvSpPr>
        <p:spPr>
          <a:xfrm>
            <a:off x="2168640" y="24210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大量的气泡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放出热量，形成无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2230560" y="36450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气泡，放出热量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形成无色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2107080" y="44370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少量的气泡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形成浅绿色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1921680" y="537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无明显变化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4934880" y="2781360"/>
            <a:ext cx="31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Mg+2HCl=MgCl</a:t>
            </a:r>
            <a:r>
              <a:rPr b="1" lang="zh-CN" sz="24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400" spc="-1" strike="noStrike" baseline="-4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4914000" y="3860640"/>
            <a:ext cx="31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Zn+2HCl=ZnCl</a:t>
            </a:r>
            <a:r>
              <a:rPr b="1" lang="zh-CN" sz="24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4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4934880" y="4581360"/>
            <a:ext cx="31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Fe+2HCl=FeCl</a:t>
            </a:r>
            <a:r>
              <a:rPr b="1" lang="zh-CN" sz="24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4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74" name="文本框 8194"/>
          <p:cNvSpPr/>
          <p:nvPr/>
        </p:nvSpPr>
        <p:spPr>
          <a:xfrm>
            <a:off x="2017800" y="623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539640" y="1557360"/>
          <a:ext cx="8229600" cy="4784760"/>
        </p:xfrm>
        <a:graphic>
          <a:graphicData uri="http://schemas.openxmlformats.org/drawingml/2006/table">
            <a:tbl>
              <a:tblPr/>
              <a:tblGrid>
                <a:gridCol w="969840"/>
                <a:gridCol w="3343320"/>
                <a:gridCol w="391644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金属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 应 现 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 学 方 程 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</a:t>
                      </a:r>
                      <a:r>
                        <a:rPr b="1" lang="en-US" sz="2800" spc="-1" strike="noStrike" baseline="-2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4859280" y="5444640"/>
            <a:ext cx="3889440" cy="863640"/>
            <a:chOff x="4859280" y="5444640"/>
            <a:chExt cx="3889440" cy="863640"/>
          </a:xfrm>
        </p:grpSpPr>
        <p:sp>
          <p:nvSpPr>
            <p:cNvPr id="277" name="Line 31"/>
            <p:cNvSpPr/>
            <p:nvPr/>
          </p:nvSpPr>
          <p:spPr>
            <a:xfrm flipH="1" flipV="1">
              <a:off x="4859280" y="5444640"/>
              <a:ext cx="3889440" cy="86364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 rot="10800000">
              <a:off x="4859280" y="5444640"/>
              <a:ext cx="38894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279" name="Text Box 32"/>
          <p:cNvSpPr/>
          <p:nvPr/>
        </p:nvSpPr>
        <p:spPr>
          <a:xfrm>
            <a:off x="1619280" y="2133720"/>
            <a:ext cx="26352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大量的气泡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放出热量，形成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无色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0" name="Text Box 33"/>
          <p:cNvSpPr/>
          <p:nvPr/>
        </p:nvSpPr>
        <p:spPr>
          <a:xfrm>
            <a:off x="2176560" y="35733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气泡，放出热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量，形成无色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1" name="Text Box 34"/>
          <p:cNvSpPr/>
          <p:nvPr/>
        </p:nvSpPr>
        <p:spPr>
          <a:xfrm>
            <a:off x="2115000" y="4508640"/>
            <a:ext cx="16437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产生少量的气泡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形成浅绿色的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2" name="Text Box 35"/>
          <p:cNvSpPr/>
          <p:nvPr/>
        </p:nvSpPr>
        <p:spPr>
          <a:xfrm>
            <a:off x="1929600" y="56610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无明显变化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3" name="Text Box 36"/>
          <p:cNvSpPr/>
          <p:nvPr/>
        </p:nvSpPr>
        <p:spPr>
          <a:xfrm>
            <a:off x="4698720" y="2838600"/>
            <a:ext cx="366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Mg+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=Mg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4" name="Text Box 37"/>
          <p:cNvSpPr/>
          <p:nvPr/>
        </p:nvSpPr>
        <p:spPr>
          <a:xfrm>
            <a:off x="4681800" y="3773520"/>
            <a:ext cx="387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Zn+ 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=Zn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5" name="Text Box 38"/>
          <p:cNvSpPr/>
          <p:nvPr/>
        </p:nvSpPr>
        <p:spPr>
          <a:xfrm>
            <a:off x="4647600" y="4638600"/>
            <a:ext cx="43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Fe+ 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 = FeSO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+H</a:t>
            </a:r>
            <a:r>
              <a:rPr b="1" lang="zh-CN" sz="28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↑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908000" y="54936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组：（金属和硫酸的反应）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4"/>
          <p:cNvSpPr/>
          <p:nvPr/>
        </p:nvSpPr>
        <p:spPr>
          <a:xfrm>
            <a:off x="539640" y="1916280"/>
            <a:ext cx="8136000" cy="435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、能与盐酸，稀硫酸反应的金属是  </a:t>
            </a:r>
            <a:r>
              <a:rPr b="0" lang="zh-CN" sz="2800" spc="-1" strike="noStrike">
                <a:solidFill>
                  <a:srgbClr val="0033cc"/>
                </a:solidFill>
                <a:latin typeface="Arial Narrow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、     、  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                         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它们反应的剧烈程度依次是         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&gt;          &gt;            .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、不能与盐酸，稀硫酸反应的金属是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、镁、锌、铁、铜四种金属的活动性顺序是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&gt;                &gt;             &gt;            .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、将镁、锌、铁、铜四种金属分为两类：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活泼金属 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:                                               .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不活泼金属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:                                               .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 Narrow"/>
              </a:rPr>
              <a:t>分类的依据是</a:t>
            </a:r>
            <a:r>
              <a:rPr b="1" lang="en-US" sz="2800" spc="-1" strike="noStrike">
                <a:solidFill>
                  <a:srgbClr val="0033cc"/>
                </a:solidFill>
                <a:latin typeface="Arial Narrow"/>
              </a:rPr>
              <a:t>:</a:t>
            </a: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.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27640" y="2349360"/>
            <a:ext cx="2233800" cy="360"/>
            <a:chOff x="6227640" y="2349360"/>
            <a:chExt cx="2233800" cy="360"/>
          </a:xfrm>
        </p:grpSpPr>
        <p:sp>
          <p:nvSpPr>
            <p:cNvPr id="289" name="Line 4"/>
            <p:cNvSpPr/>
            <p:nvPr/>
          </p:nvSpPr>
          <p:spPr>
            <a:xfrm>
              <a:off x="6227640" y="2349360"/>
              <a:ext cx="2233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6227640" y="2349360"/>
              <a:ext cx="223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580000" y="2781360"/>
            <a:ext cx="2881440" cy="360"/>
            <a:chOff x="5580000" y="2781360"/>
            <a:chExt cx="2881440" cy="360"/>
          </a:xfrm>
        </p:grpSpPr>
        <p:sp>
          <p:nvSpPr>
            <p:cNvPr id="292" name="Line 5"/>
            <p:cNvSpPr/>
            <p:nvPr/>
          </p:nvSpPr>
          <p:spPr>
            <a:xfrm>
              <a:off x="5580000" y="2781360"/>
              <a:ext cx="288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5580000" y="2781360"/>
              <a:ext cx="28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588000" y="3141720"/>
            <a:ext cx="1873440" cy="360"/>
            <a:chOff x="6588000" y="3141720"/>
            <a:chExt cx="1873440" cy="360"/>
          </a:xfrm>
        </p:grpSpPr>
        <p:sp>
          <p:nvSpPr>
            <p:cNvPr id="295" name="Line 6"/>
            <p:cNvSpPr/>
            <p:nvPr/>
          </p:nvSpPr>
          <p:spPr>
            <a:xfrm>
              <a:off x="6588000" y="3141720"/>
              <a:ext cx="1873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6588000" y="3141720"/>
              <a:ext cx="187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403280" y="4076640"/>
            <a:ext cx="4753080" cy="1800"/>
            <a:chOff x="1403280" y="4076640"/>
            <a:chExt cx="4753080" cy="1800"/>
          </a:xfrm>
        </p:grpSpPr>
        <p:sp>
          <p:nvSpPr>
            <p:cNvPr id="298" name="Line 7"/>
            <p:cNvSpPr/>
            <p:nvPr/>
          </p:nvSpPr>
          <p:spPr>
            <a:xfrm>
              <a:off x="1403280" y="4076640"/>
              <a:ext cx="47530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1403280" y="4076640"/>
              <a:ext cx="47530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917800" y="4869000"/>
            <a:ext cx="3672000" cy="1440"/>
            <a:chOff x="2917800" y="4869000"/>
            <a:chExt cx="3672000" cy="1440"/>
          </a:xfrm>
        </p:grpSpPr>
        <p:sp>
          <p:nvSpPr>
            <p:cNvPr id="301" name="Line 8"/>
            <p:cNvSpPr/>
            <p:nvPr/>
          </p:nvSpPr>
          <p:spPr>
            <a:xfrm>
              <a:off x="2917800" y="4869000"/>
              <a:ext cx="36720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917800" y="4869000"/>
              <a:ext cx="367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060720" y="5302080"/>
            <a:ext cx="3816360" cy="360"/>
            <a:chOff x="3060720" y="5302080"/>
            <a:chExt cx="3816360" cy="360"/>
          </a:xfrm>
        </p:grpSpPr>
        <p:sp>
          <p:nvSpPr>
            <p:cNvPr id="304" name="Line 9"/>
            <p:cNvSpPr/>
            <p:nvPr/>
          </p:nvSpPr>
          <p:spPr>
            <a:xfrm>
              <a:off x="3060720" y="5302080"/>
              <a:ext cx="381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060720" y="530208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6720" y="5803920"/>
            <a:ext cx="3600360" cy="1440"/>
            <a:chOff x="3276720" y="5803920"/>
            <a:chExt cx="3600360" cy="1440"/>
          </a:xfrm>
        </p:grpSpPr>
        <p:sp>
          <p:nvSpPr>
            <p:cNvPr id="307" name="Line 10"/>
            <p:cNvSpPr/>
            <p:nvPr/>
          </p:nvSpPr>
          <p:spPr>
            <a:xfrm>
              <a:off x="3276720" y="5803920"/>
              <a:ext cx="360036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3276720" y="5803920"/>
              <a:ext cx="3600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09" name="Text Box 13"/>
          <p:cNvSpPr/>
          <p:nvPr/>
        </p:nvSpPr>
        <p:spPr>
          <a:xfrm>
            <a:off x="7093080" y="1916280"/>
            <a:ext cx="4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Zn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7858080" y="19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Fe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5580000" y="2349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Mg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2" name="Text Box 21"/>
          <p:cNvSpPr/>
          <p:nvPr/>
        </p:nvSpPr>
        <p:spPr>
          <a:xfrm>
            <a:off x="6516720" y="234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Zn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7164360" y="2708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Cu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6300720" y="1916280"/>
            <a:ext cx="4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Mg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1619280" y="3573360"/>
            <a:ext cx="4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Mg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2771640" y="357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Zn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4140360" y="3573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Fe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5364000" y="3573360"/>
            <a:ext cx="6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Cu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3419640" y="4437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Mg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4500720" y="4437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Zn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1" name="Text Box 33"/>
          <p:cNvSpPr/>
          <p:nvPr/>
        </p:nvSpPr>
        <p:spPr>
          <a:xfrm>
            <a:off x="7596360" y="23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Fe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2" name="Text Box 34"/>
          <p:cNvSpPr/>
          <p:nvPr/>
        </p:nvSpPr>
        <p:spPr>
          <a:xfrm>
            <a:off x="5651640" y="4437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Fe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4716360" y="48690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</a:rPr>
              <a:t>Cu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4" name="Text Box 36"/>
          <p:cNvSpPr/>
          <p:nvPr/>
        </p:nvSpPr>
        <p:spPr>
          <a:xfrm>
            <a:off x="3988440" y="537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是否与酸反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5" name="AutoShape 37"/>
          <p:cNvSpPr/>
          <p:nvPr/>
        </p:nvSpPr>
        <p:spPr>
          <a:xfrm>
            <a:off x="5796000" y="476280"/>
            <a:ext cx="2808360" cy="1079640"/>
          </a:xfrm>
          <a:prstGeom prst="cloudCallout">
            <a:avLst>
              <a:gd name="adj1" fmla="val -121282"/>
              <a:gd name="adj2" fmla="val 49560"/>
            </a:avLst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</a:rPr>
              <a:t>讨论得出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26" name="Rectangle 38"/>
          <p:cNvSpPr/>
          <p:nvPr/>
        </p:nvSpPr>
        <p:spPr>
          <a:xfrm>
            <a:off x="8244000" y="6093000"/>
            <a:ext cx="7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327" name="Group 39"/>
          <p:cNvGrpSpPr/>
          <p:nvPr/>
        </p:nvGrpSpPr>
        <p:grpSpPr>
          <a:xfrm>
            <a:off x="8100720" y="6021360"/>
            <a:ext cx="1584360" cy="604440"/>
            <a:chOff x="8100720" y="6021360"/>
            <a:chExt cx="1584360" cy="604440"/>
          </a:xfrm>
        </p:grpSpPr>
        <p:grpSp>
          <p:nvGrpSpPr>
            <p:cNvPr id="328" name="Group 40"/>
            <p:cNvGrpSpPr/>
            <p:nvPr/>
          </p:nvGrpSpPr>
          <p:grpSpPr>
            <a:xfrm>
              <a:off x="8100720" y="6092640"/>
              <a:ext cx="1584360" cy="533160"/>
              <a:chOff x="8100720" y="6092640"/>
              <a:chExt cx="1584360" cy="533160"/>
            </a:xfrm>
          </p:grpSpPr>
          <p:sp>
            <p:nvSpPr>
              <p:cNvPr id="329" name="AutoShape 41"/>
              <p:cNvSpPr/>
              <p:nvPr/>
            </p:nvSpPr>
            <p:spPr>
              <a:xfrm flipH="1">
                <a:off x="8100360" y="6365520"/>
                <a:ext cx="659160" cy="260280"/>
              </a:xfrm>
              <a:custGeom>
                <a:avLst/>
                <a:gdLst>
                  <a:gd name="textAreaLeft" fmla="*/ 114840 w 659160"/>
                  <a:gd name="textAreaRight" fmla="*/ 477720 w 659160"/>
                  <a:gd name="textAreaTop" fmla="*/ 34560 h 260280"/>
                  <a:gd name="textAreaBottom" fmla="*/ 2257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3175"/>
                    <a:lnTo>
                      <a:pt x="21168" y="7198"/>
                    </a:lnTo>
                    <a:lnTo>
                      <a:pt x="17280" y="0"/>
                    </a:lnTo>
                    <a:lnTo>
                      <a:pt x="12528" y="7198"/>
                    </a:lnTo>
                    <a:lnTo>
                      <a:pt x="14688" y="7198"/>
                    </a:lnTo>
                    <a:arcTo wR="7560" hR="21600" stAng="2716825" swAng="2325740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330" name="Text Box 42"/>
              <p:cNvSpPr/>
              <p:nvPr/>
            </p:nvSpPr>
            <p:spPr>
              <a:xfrm>
                <a:off x="8144640" y="6092640"/>
                <a:ext cx="154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楷体_GB2312"/>
                  </a:rPr>
                  <a:t>返回</a:t>
                </a:r>
                <a:endParaRPr b="1" lang="en-US" sz="18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331" name="Rectangle 43"/>
            <p:cNvSpPr/>
            <p:nvPr/>
          </p:nvSpPr>
          <p:spPr>
            <a:xfrm>
              <a:off x="8174160" y="6021360"/>
              <a:ext cx="7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32" name="Rectangle 44"/>
          <p:cNvSpPr/>
          <p:nvPr/>
        </p:nvSpPr>
        <p:spPr>
          <a:xfrm>
            <a:off x="7956720" y="6021360"/>
            <a:ext cx="93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WordArt 3"/>
          <p:cNvSpPr txBox="1"/>
          <p:nvPr/>
        </p:nvSpPr>
        <p:spPr>
          <a:xfrm>
            <a:off x="971640" y="765000"/>
            <a:ext cx="22860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solidFill>
                  <a:srgbClr val="ff33cc"/>
                </a:solidFill>
                <a:latin typeface="宋体"/>
              </a:rPr>
              <a:t>探究活动二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solidFill>
                <a:srgbClr val="ff33cc"/>
              </a:solidFill>
              <a:latin typeface="宋体"/>
              <a:ea typeface="宋体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692360" y="1773360"/>
            <a:ext cx="61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金属与某些化合物溶液的反应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46280" y="2789280"/>
            <a:ext cx="75722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</a:rPr>
              <a:t>实验步骤：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把一根用砂纸打磨过的铝丝浸入氯化铜溶液中，一会取出，观察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把一洁净铜丝浸入硝酸银溶液中，一会取出，观察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把另一根洁净铜丝浸入硫酸铝溶液中，一会取出，观察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</a:rPr>
              <a:t>实验现象填于下面表格中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2268360" y="90792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组：（与金属化合物溶液）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828720" y="1916280"/>
          <a:ext cx="7777080" cy="3600360"/>
        </p:xfrm>
        <a:graphic>
          <a:graphicData uri="http://schemas.openxmlformats.org/drawingml/2006/table">
            <a:tbl>
              <a:tblPr/>
              <a:tblGrid>
                <a:gridCol w="2522520"/>
                <a:gridCol w="525456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验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 应 现 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铝丝浸入氯化铜溶液中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0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丝浸入硝酸银溶液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0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丝浸入硫酸铝溶液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0" lang="en-US" sz="28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8" name="Group 43"/>
          <p:cNvGrpSpPr/>
          <p:nvPr/>
        </p:nvGrpSpPr>
        <p:grpSpPr>
          <a:xfrm>
            <a:off x="7885080" y="6021360"/>
            <a:ext cx="1800000" cy="647640"/>
            <a:chOff x="7885080" y="6021360"/>
            <a:chExt cx="1800000" cy="647640"/>
          </a:xfrm>
        </p:grpSpPr>
        <p:grpSp>
          <p:nvGrpSpPr>
            <p:cNvPr id="339" name="Group 41"/>
            <p:cNvGrpSpPr/>
            <p:nvPr/>
          </p:nvGrpSpPr>
          <p:grpSpPr>
            <a:xfrm>
              <a:off x="8100720" y="6021360"/>
              <a:ext cx="1584360" cy="647640"/>
              <a:chOff x="8100720" y="6021360"/>
              <a:chExt cx="1584360" cy="647640"/>
            </a:xfrm>
          </p:grpSpPr>
          <p:grpSp>
            <p:nvGrpSpPr>
              <p:cNvPr id="340" name="Group 35"/>
              <p:cNvGrpSpPr/>
              <p:nvPr/>
            </p:nvGrpSpPr>
            <p:grpSpPr>
              <a:xfrm>
                <a:off x="8100720" y="6021360"/>
                <a:ext cx="1584360" cy="604440"/>
                <a:chOff x="8100720" y="6021360"/>
                <a:chExt cx="1584360" cy="604440"/>
              </a:xfrm>
            </p:grpSpPr>
            <p:grpSp>
              <p:nvGrpSpPr>
                <p:cNvPr id="341" name="Group 36"/>
                <p:cNvGrpSpPr/>
                <p:nvPr/>
              </p:nvGrpSpPr>
              <p:grpSpPr>
                <a:xfrm>
                  <a:off x="8100720" y="6092640"/>
                  <a:ext cx="1584360" cy="533160"/>
                  <a:chOff x="8100720" y="6092640"/>
                  <a:chExt cx="1584360" cy="533160"/>
                </a:xfrm>
              </p:grpSpPr>
              <p:sp>
                <p:nvSpPr>
                  <p:cNvPr id="342" name="AutoShape 37"/>
                  <p:cNvSpPr/>
                  <p:nvPr/>
                </p:nvSpPr>
                <p:spPr>
                  <a:xfrm flipH="1">
                    <a:off x="8100360" y="6365520"/>
                    <a:ext cx="659160" cy="260280"/>
                  </a:xfrm>
                  <a:custGeom>
                    <a:avLst/>
                    <a:gdLst>
                      <a:gd name="textAreaLeft" fmla="*/ 114840 w 659160"/>
                      <a:gd name="textAreaRight" fmla="*/ 477720 w 659160"/>
                      <a:gd name="textAreaTop" fmla="*/ 34560 h 260280"/>
                      <a:gd name="textAreaBottom" fmla="*/ 225720 h 2602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arcTo wR="7560" hR="21600" stAng="10800000" swAng="-5400000"/>
                        <a:lnTo>
                          <a:pt x="11880" y="21600"/>
                        </a:lnTo>
                        <a:arcTo wR="7560" hR="21600" stAng="5400000" swAng="-2683175"/>
                        <a:lnTo>
                          <a:pt x="21168" y="7198"/>
                        </a:lnTo>
                        <a:lnTo>
                          <a:pt x="17280" y="0"/>
                        </a:lnTo>
                        <a:lnTo>
                          <a:pt x="12528" y="7198"/>
                        </a:lnTo>
                        <a:lnTo>
                          <a:pt x="14688" y="7198"/>
                        </a:lnTo>
                        <a:arcTo wR="7560" hR="21600" stAng="2716825" swAng="2325740"/>
                        <a:lnTo>
                          <a:pt x="9720" y="20700"/>
                        </a:lnTo>
                        <a:arcTo wR="7560" hR="21600" stAng="5757435" swAng="5042565"/>
                        <a:close/>
                      </a:path>
                      <a:path fill="darkenLess" w="21600" h="21600">
                        <a:moveTo>
                          <a:pt x="0" y="0"/>
                        </a:moveTo>
                        <a:arcTo wR="7560" hR="21600" stAng="10800000" swAng="-5400000"/>
                        <a:lnTo>
                          <a:pt x="11880" y="21600"/>
                        </a:lnTo>
                        <a:arcTo wR="7560" hR="21600" stAng="5400000" swAng="357435"/>
                        <a:lnTo>
                          <a:pt x="9720" y="20700"/>
                        </a:lnTo>
                        <a:arcTo wR="7560" hR="21600" stAng="5757435" swAng="5042565"/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33cc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343" name="Text Box 38"/>
                  <p:cNvSpPr/>
                  <p:nvPr/>
                </p:nvSpPr>
                <p:spPr>
                  <a:xfrm>
                    <a:off x="8144640" y="6092640"/>
                    <a:ext cx="1540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ff0000"/>
                        </a:solidFill>
                        <a:latin typeface="楷体_GB2312"/>
                      </a:rPr>
                      <a:t>返回</a:t>
                    </a:r>
                    <a:endParaRPr b="1" lang="en-US" sz="1800" spc="-1" strike="noStrike">
                      <a:solidFill>
                        <a:srgbClr val="0033cc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344" name="Rectangle 39"/>
                <p:cNvSpPr/>
                <p:nvPr/>
              </p:nvSpPr>
              <p:spPr>
                <a:xfrm>
                  <a:off x="8174160" y="6021360"/>
                  <a:ext cx="720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45" name="Rectangle 40"/>
              <p:cNvSpPr/>
              <p:nvPr/>
            </p:nvSpPr>
            <p:spPr>
              <a:xfrm>
                <a:off x="8101080" y="6165720"/>
                <a:ext cx="79200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346" name="Rectangle 42"/>
            <p:cNvSpPr/>
            <p:nvPr/>
          </p:nvSpPr>
          <p:spPr>
            <a:xfrm>
              <a:off x="7885080" y="6165720"/>
              <a:ext cx="107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5金属与盐溶液的反应.wmv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77080" cy="52545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4"/>
          <p:cNvSpPr txBox="1"/>
          <p:nvPr/>
        </p:nvSpPr>
        <p:spPr>
          <a:xfrm>
            <a:off x="539640" y="33336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视频再现二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  <p:grpSp>
        <p:nvGrpSpPr>
          <p:cNvPr id="349" name="Group 11"/>
          <p:cNvGrpSpPr/>
          <p:nvPr/>
        </p:nvGrpSpPr>
        <p:grpSpPr>
          <a:xfrm>
            <a:off x="8028000" y="6165720"/>
            <a:ext cx="1657080" cy="692280"/>
            <a:chOff x="8028000" y="6165720"/>
            <a:chExt cx="1657080" cy="692280"/>
          </a:xfrm>
        </p:grpSpPr>
        <p:grpSp>
          <p:nvGrpSpPr>
            <p:cNvPr id="350" name="Group 5"/>
            <p:cNvGrpSpPr/>
            <p:nvPr/>
          </p:nvGrpSpPr>
          <p:grpSpPr>
            <a:xfrm>
              <a:off x="8100720" y="6165720"/>
              <a:ext cx="1584360" cy="459720"/>
              <a:chOff x="8100720" y="6165720"/>
              <a:chExt cx="1584360" cy="459720"/>
            </a:xfrm>
          </p:grpSpPr>
          <p:grpSp>
            <p:nvGrpSpPr>
              <p:cNvPr id="351" name="Group 6"/>
              <p:cNvGrpSpPr/>
              <p:nvPr/>
            </p:nvGrpSpPr>
            <p:grpSpPr>
              <a:xfrm>
                <a:off x="8100720" y="6219720"/>
                <a:ext cx="1584360" cy="405720"/>
                <a:chOff x="8100720" y="6219720"/>
                <a:chExt cx="1584360" cy="405720"/>
              </a:xfrm>
            </p:grpSpPr>
            <p:sp>
              <p:nvSpPr>
                <p:cNvPr id="352" name="AutoShape 7"/>
                <p:cNvSpPr/>
                <p:nvPr/>
              </p:nvSpPr>
              <p:spPr>
                <a:xfrm flipH="1">
                  <a:off x="8100360" y="6427440"/>
                  <a:ext cx="659160" cy="19800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26280 h 198000"/>
                    <a:gd name="textAreaBottom" fmla="*/ 171720 h 198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353" name="Text Box 8"/>
                <p:cNvSpPr/>
                <p:nvPr/>
              </p:nvSpPr>
              <p:spPr>
                <a:xfrm>
                  <a:off x="8144640" y="621972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54" name="Rectangle 9"/>
              <p:cNvSpPr/>
              <p:nvPr/>
            </p:nvSpPr>
            <p:spPr>
              <a:xfrm>
                <a:off x="8174160" y="6165720"/>
                <a:ext cx="720720" cy="43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355" name="Rectangle 10"/>
            <p:cNvSpPr/>
            <p:nvPr/>
          </p:nvSpPr>
          <p:spPr>
            <a:xfrm>
              <a:off x="8028000" y="6308640"/>
              <a:ext cx="865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8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" action="ppaction://hlinkshowjump?jump=nextslide"/>
          </p:cNvPr>
          <p:cNvSpPr/>
          <p:nvPr/>
        </p:nvSpPr>
        <p:spPr>
          <a:xfrm>
            <a:off x="8532720" y="645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239840" y="112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684160" y="836640"/>
            <a:ext cx="26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课件使用说明</a:t>
            </a:r>
            <a:endParaRPr b="1" lang="en-US" sz="40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611280" y="1989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隶书"/>
              </a:rPr>
              <a:t>课件封面右下角设计有音乐开关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11280" y="2781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隶书"/>
              </a:rPr>
              <a:t>课件有六部分内容，第二部分又分为五小部分，每部分结束，点击         返导航回页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11280" y="3976560"/>
            <a:ext cx="777708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隶书"/>
              </a:rPr>
              <a:t>课件使用二个视频，点击 （第十三张）‘‘视频再现一’’与（第二十张）‘‘视频再现二’’ ，即可观看视频。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129" name="Group 17"/>
          <p:cNvGrpSpPr/>
          <p:nvPr/>
        </p:nvGrpSpPr>
        <p:grpSpPr>
          <a:xfrm>
            <a:off x="3924000" y="3068640"/>
            <a:ext cx="1584360" cy="604440"/>
            <a:chOff x="3924000" y="3068640"/>
            <a:chExt cx="1584360" cy="604440"/>
          </a:xfrm>
        </p:grpSpPr>
        <p:grpSp>
          <p:nvGrpSpPr>
            <p:cNvPr id="130" name="Group 18"/>
            <p:cNvGrpSpPr/>
            <p:nvPr/>
          </p:nvGrpSpPr>
          <p:grpSpPr>
            <a:xfrm>
              <a:off x="3924000" y="3139920"/>
              <a:ext cx="1584360" cy="533160"/>
              <a:chOff x="3924000" y="3139920"/>
              <a:chExt cx="1584360" cy="533160"/>
            </a:xfrm>
          </p:grpSpPr>
          <p:sp>
            <p:nvSpPr>
              <p:cNvPr id="131" name="AutoShape 19"/>
              <p:cNvSpPr/>
              <p:nvPr/>
            </p:nvSpPr>
            <p:spPr>
              <a:xfrm flipH="1">
                <a:off x="3923640" y="3412800"/>
                <a:ext cx="659160" cy="260280"/>
              </a:xfrm>
              <a:custGeom>
                <a:avLst/>
                <a:gdLst>
                  <a:gd name="textAreaLeft" fmla="*/ 114840 w 659160"/>
                  <a:gd name="textAreaRight" fmla="*/ 477720 w 659160"/>
                  <a:gd name="textAreaTop" fmla="*/ 34560 h 260280"/>
                  <a:gd name="textAreaBottom" fmla="*/ 2257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3175"/>
                    <a:lnTo>
                      <a:pt x="21168" y="7198"/>
                    </a:lnTo>
                    <a:lnTo>
                      <a:pt x="17280" y="0"/>
                    </a:lnTo>
                    <a:lnTo>
                      <a:pt x="12528" y="7198"/>
                    </a:lnTo>
                    <a:lnTo>
                      <a:pt x="14688" y="7198"/>
                    </a:lnTo>
                    <a:arcTo wR="7560" hR="21600" stAng="2716825" swAng="2325740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132" name="Text Box 20"/>
              <p:cNvSpPr/>
              <p:nvPr/>
            </p:nvSpPr>
            <p:spPr>
              <a:xfrm>
                <a:off x="3967920" y="3139920"/>
                <a:ext cx="154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楷体_GB2312"/>
                  </a:rPr>
                  <a:t>返回</a:t>
                </a:r>
                <a:endParaRPr b="1" lang="en-US" sz="18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133" name="Rectangle 21"/>
            <p:cNvSpPr/>
            <p:nvPr/>
          </p:nvSpPr>
          <p:spPr>
            <a:xfrm>
              <a:off x="3997440" y="3068640"/>
              <a:ext cx="7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pic_21761"/>
          <p:cNvPicPr/>
          <p:nvPr/>
        </p:nvPicPr>
        <p:blipFill>
          <a:blip r:embed="rId1"/>
          <a:stretch/>
        </p:blipFill>
        <p:spPr>
          <a:xfrm>
            <a:off x="539640" y="907920"/>
            <a:ext cx="3527640" cy="5689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pic_21762"/>
          <p:cNvPicPr/>
          <p:nvPr/>
        </p:nvPicPr>
        <p:blipFill>
          <a:blip r:embed="rId2"/>
          <a:stretch/>
        </p:blipFill>
        <p:spPr>
          <a:xfrm>
            <a:off x="4932360" y="907920"/>
            <a:ext cx="3527280" cy="56898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4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铝丝浸入氯化铜溶液中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铜丝浸入硝酸银溶液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252360" y="981000"/>
          <a:ext cx="8713800" cy="5676840"/>
        </p:xfrm>
        <a:graphic>
          <a:graphicData uri="http://schemas.openxmlformats.org/drawingml/2006/table">
            <a:tbl>
              <a:tblPr/>
              <a:tblGrid>
                <a:gridCol w="1658880"/>
                <a:gridCol w="2536920"/>
                <a:gridCol w="4518000"/>
              </a:tblGrid>
              <a:tr h="1033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验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 应 现 象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 学 方 程 式</a:t>
                      </a: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铝丝浸入氯化铜溶液中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24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丝浸入硝酸银溶液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24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铜丝浸入硫酸铝溶液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r>
                        <a:rPr b="1" lang="en-US" sz="2400" spc="-1" strike="noStrike" baseline="-2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cc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6"/>
          <p:cNvSpPr/>
          <p:nvPr/>
        </p:nvSpPr>
        <p:spPr>
          <a:xfrm>
            <a:off x="2773440" y="26028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金属与金属化合物溶液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427640" y="5157720"/>
            <a:ext cx="4537080" cy="1440000"/>
            <a:chOff x="4427640" y="5157720"/>
            <a:chExt cx="4537080" cy="1440000"/>
          </a:xfrm>
        </p:grpSpPr>
        <p:sp>
          <p:nvSpPr>
            <p:cNvPr id="362" name="Line 48"/>
            <p:cNvSpPr/>
            <p:nvPr/>
          </p:nvSpPr>
          <p:spPr>
            <a:xfrm>
              <a:off x="4427640" y="5157720"/>
              <a:ext cx="4537080" cy="144000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4427640" y="5157720"/>
              <a:ext cx="453708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64" name="Text Box 50"/>
          <p:cNvSpPr/>
          <p:nvPr/>
        </p:nvSpPr>
        <p:spPr>
          <a:xfrm>
            <a:off x="1835280" y="2060640"/>
            <a:ext cx="23288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铝丝上有红色物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质生成，溶液颜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色逐渐变淡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2269080" y="3637080"/>
            <a:ext cx="14608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铜丝上有银白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物质生成，溶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由无色逐渐变为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淡蓝色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66" name="Text Box 53"/>
          <p:cNvSpPr/>
          <p:nvPr/>
        </p:nvSpPr>
        <p:spPr>
          <a:xfrm>
            <a:off x="2280240" y="544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没有明显变化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67" name="Text Box 54"/>
          <p:cNvSpPr/>
          <p:nvPr/>
        </p:nvSpPr>
        <p:spPr>
          <a:xfrm>
            <a:off x="4390920" y="3933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Cu+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2Ag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NO</a:t>
            </a:r>
            <a:r>
              <a:rPr b="1" lang="zh-CN" sz="2400" spc="-1" strike="noStrike" baseline="-2000">
                <a:solidFill>
                  <a:srgbClr val="0000cc"/>
                </a:solidFill>
                <a:latin typeface="楷体_GB2312"/>
              </a:rPr>
              <a:t>3</a:t>
            </a:r>
            <a:r>
              <a:rPr b="1" lang="en-US" sz="2400" spc="-1" strike="noStrike" baseline="-2000">
                <a:solidFill>
                  <a:srgbClr val="0000cc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= 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2A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g+Cu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NO</a:t>
            </a:r>
            <a:r>
              <a:rPr b="1" lang="zh-CN" sz="2400" spc="-1" strike="noStrike" baseline="-2000">
                <a:solidFill>
                  <a:srgbClr val="0000cc"/>
                </a:solidFill>
                <a:latin typeface="楷体_GB2312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）</a:t>
            </a:r>
            <a:r>
              <a:rPr b="1" lang="zh-CN" sz="2400" spc="-1" strike="noStrike" baseline="-2000">
                <a:solidFill>
                  <a:srgbClr val="0000cc"/>
                </a:solidFill>
                <a:latin typeface="楷体_GB2312"/>
              </a:rPr>
              <a:t>2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68" name="Text Box 56"/>
          <p:cNvSpPr/>
          <p:nvPr/>
        </p:nvSpPr>
        <p:spPr>
          <a:xfrm>
            <a:off x="4135320" y="2565360"/>
            <a:ext cx="41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2Al+3Cu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Cl</a:t>
            </a:r>
            <a:r>
              <a:rPr b="1" lang="en-US" sz="2400" spc="-1" strike="noStrike" baseline="-2000">
                <a:solidFill>
                  <a:srgbClr val="0000cc"/>
                </a:solidFill>
                <a:latin typeface="楷体_GB2312"/>
              </a:rPr>
              <a:t>2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= 3Cu+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Al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Cl</a:t>
            </a:r>
            <a:r>
              <a:rPr b="1" lang="en-US" sz="2400" spc="-1" strike="noStrike" baseline="-2000">
                <a:solidFill>
                  <a:srgbClr val="0000cc"/>
                </a:solidFill>
                <a:latin typeface="楷体_GB2312"/>
              </a:rPr>
              <a:t>3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1116000" y="3357720"/>
            <a:ext cx="69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Adobe 楷体 Std R"/>
              </a:rPr>
              <a:t>铝、铜、银三种金属的活动性顺序是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Arial"/>
                <a:ea typeface="宋体"/>
              </a:rPr>
              <a:t>                         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5003640" y="765000"/>
            <a:ext cx="3745080" cy="1152720"/>
          </a:xfrm>
          <a:prstGeom prst="cloudCallout">
            <a:avLst>
              <a:gd name="adj1" fmla="val -120625"/>
              <a:gd name="adj2" fmla="val 122587"/>
            </a:avLst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5327640" y="692280"/>
            <a:ext cx="3816360" cy="1152360"/>
          </a:xfrm>
          <a:prstGeom prst="cloudCallout">
            <a:avLst>
              <a:gd name="adj1" fmla="val -22087"/>
              <a:gd name="adj2" fmla="val 1118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隶书"/>
                <a:ea typeface="隶书"/>
              </a:rPr>
              <a:t>讨论得出</a:t>
            </a:r>
            <a:endParaRPr b="1" lang="en-US" sz="4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09196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Al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56832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Cu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504468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Ag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187280" y="4508640"/>
            <a:ext cx="6697800" cy="360"/>
            <a:chOff x="1187280" y="4508640"/>
            <a:chExt cx="6697800" cy="360"/>
          </a:xfrm>
        </p:grpSpPr>
        <p:sp>
          <p:nvSpPr>
            <p:cNvPr id="376" name="Line 11"/>
            <p:cNvSpPr/>
            <p:nvPr/>
          </p:nvSpPr>
          <p:spPr>
            <a:xfrm>
              <a:off x="1187280" y="4508640"/>
              <a:ext cx="6697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1187280" y="4508640"/>
              <a:ext cx="669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78" name="Text Box 12"/>
          <p:cNvSpPr/>
          <p:nvPr/>
        </p:nvSpPr>
        <p:spPr>
          <a:xfrm>
            <a:off x="290376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</a:rPr>
              <a:t>&gt;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48812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</a:rPr>
              <a:t>&gt;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WordArt 4"/>
          <p:cNvSpPr txBox="1"/>
          <p:nvPr/>
        </p:nvSpPr>
        <p:spPr>
          <a:xfrm>
            <a:off x="468360" y="620640"/>
            <a:ext cx="201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规律学习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900000" y="1700280"/>
            <a:ext cx="723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通过无数的科学探究，科学家总结出一个   重要规律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金属活动性顺序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87120" y="2708280"/>
            <a:ext cx="815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K Ca Na Mg Al Zn Fe S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P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H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）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Cu Hg Ag Pt Au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金属活动性由强逐渐减弱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11280" y="3141720"/>
            <a:ext cx="7057800" cy="360"/>
            <a:chOff x="611280" y="3141720"/>
            <a:chExt cx="7057800" cy="360"/>
          </a:xfrm>
        </p:grpSpPr>
        <p:sp>
          <p:nvSpPr>
            <p:cNvPr id="384" name="Line 8"/>
            <p:cNvSpPr/>
            <p:nvPr/>
          </p:nvSpPr>
          <p:spPr>
            <a:xfrm>
              <a:off x="611280" y="3141720"/>
              <a:ext cx="70578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611280" y="3141720"/>
              <a:ext cx="70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86" name="Rectangle 9"/>
          <p:cNvSpPr/>
          <p:nvPr/>
        </p:nvSpPr>
        <p:spPr>
          <a:xfrm>
            <a:off x="1703160" y="3664080"/>
            <a:ext cx="33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_GB2312"/>
              </a:rPr>
              <a:t> 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楷体_GB2312"/>
              </a:rPr>
              <a:t>判断常见金属活泼性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</a:rPr>
              <a:t>方法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900000" y="4365720"/>
            <a:ext cx="7162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）金属能否与酸反应及反应的剧烈程度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900000" y="5051520"/>
            <a:ext cx="7772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）金属能否与金属化合物</a:t>
            </a:r>
            <a:r>
              <a:rPr b="1" lang="en-US" sz="2400" spc="-1" strike="noStrike">
                <a:solidFill>
                  <a:srgbClr val="0000cc"/>
                </a:solidFill>
                <a:latin typeface="楷体_GB2312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</a:rPr>
              <a:t>盐）溶液反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在金属活动性顺序里，金属的位置越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前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它的活动性就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在金属活动性顺序里，位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前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金属能置换出盐酸，稀硫酸中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、在金属活动顺序里，位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前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金属</a:t>
            </a: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钾、钙、钠</a:t>
            </a:r>
            <a:r>
              <a:rPr b="1" lang="zh-CN" sz="2400" spc="-1" strike="noStrike">
                <a:solidFill>
                  <a:srgbClr val="0000cc"/>
                </a:solidFill>
                <a:latin typeface="Arial Narrow"/>
              </a:rPr>
              <a:t>除外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能把位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后面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金属从它们化合物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溶液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中置换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1282680" y="957240"/>
            <a:ext cx="15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759040" y="1052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</a:rPr>
              <a:t>金属活动性顺序的应用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392" name="Group 11"/>
          <p:cNvGrpSpPr/>
          <p:nvPr/>
        </p:nvGrpSpPr>
        <p:grpSpPr>
          <a:xfrm>
            <a:off x="8172360" y="6021360"/>
            <a:ext cx="1655640" cy="647640"/>
            <a:chOff x="8172360" y="6021360"/>
            <a:chExt cx="1655640" cy="647640"/>
          </a:xfrm>
        </p:grpSpPr>
        <p:grpSp>
          <p:nvGrpSpPr>
            <p:cNvPr id="393" name="Group 5"/>
            <p:cNvGrpSpPr/>
            <p:nvPr/>
          </p:nvGrpSpPr>
          <p:grpSpPr>
            <a:xfrm>
              <a:off x="8243640" y="6021360"/>
              <a:ext cx="1584360" cy="604440"/>
              <a:chOff x="8243640" y="6021360"/>
              <a:chExt cx="1584360" cy="604440"/>
            </a:xfrm>
          </p:grpSpPr>
          <p:grpSp>
            <p:nvGrpSpPr>
              <p:cNvPr id="394" name="Group 6"/>
              <p:cNvGrpSpPr/>
              <p:nvPr/>
            </p:nvGrpSpPr>
            <p:grpSpPr>
              <a:xfrm>
                <a:off x="8243640" y="6092640"/>
                <a:ext cx="1584360" cy="533160"/>
                <a:chOff x="8243640" y="6092640"/>
                <a:chExt cx="1584360" cy="533160"/>
              </a:xfrm>
            </p:grpSpPr>
            <p:sp>
              <p:nvSpPr>
                <p:cNvPr id="395" name="AutoShape 7"/>
                <p:cNvSpPr/>
                <p:nvPr/>
              </p:nvSpPr>
              <p:spPr>
                <a:xfrm flipH="1">
                  <a:off x="8243280" y="6365520"/>
                  <a:ext cx="659160" cy="26028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34560 h 260280"/>
                    <a:gd name="textAreaBottom" fmla="*/ 225720 h 26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396" name="Text Box 8"/>
                <p:cNvSpPr/>
                <p:nvPr/>
              </p:nvSpPr>
              <p:spPr>
                <a:xfrm>
                  <a:off x="8287560" y="609264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97" name="Rectangle 9"/>
              <p:cNvSpPr/>
              <p:nvPr/>
            </p:nvSpPr>
            <p:spPr>
              <a:xfrm>
                <a:off x="8317080" y="602136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398" name="Rectangle 10"/>
            <p:cNvSpPr/>
            <p:nvPr/>
          </p:nvSpPr>
          <p:spPr>
            <a:xfrm>
              <a:off x="8172360" y="6021360"/>
              <a:ext cx="720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399" name="文本框 8194"/>
          <p:cNvSpPr/>
          <p:nvPr/>
        </p:nvSpPr>
        <p:spPr>
          <a:xfrm>
            <a:off x="1023840" y="5541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16286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根据金属活动性顺序，下列能发生反应的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.   Ag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O</a:t>
            </a:r>
            <a:r>
              <a:rPr b="0" lang="en-US" sz="2400" spc="-1" strike="noStrike" baseline="-2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溶液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.   Fe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uSO</a:t>
            </a:r>
            <a:r>
              <a:rPr b="0" lang="en-US" sz="2400" spc="-1" strike="noStrike" baseline="-2000">
                <a:solidFill>
                  <a:srgbClr val="00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溶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.   Cu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gCl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.   Zn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aCl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溶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将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. Y. Z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三种金属分别浸入稀硫酸中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溶解，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.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不溶解；将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浸入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的化合物溶液中，在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的表面析出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则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. Y. Z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三种金属的活动性由强到弱的顺序为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.   Z&gt;Y&gt;X                         B.   Y&gt;Z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.   Z&gt;X&gt;Y                         D.   Y&gt;X&gt;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466560" y="404640"/>
            <a:ext cx="3889440" cy="752760"/>
          </a:xfrm>
          <a:prstGeom prst="flowChartAlternateProcess">
            <a:avLst/>
          </a:prstGeom>
          <a:gradFill rotWithShape="0">
            <a:gsLst>
              <a:gs pos="0">
                <a:srgbClr val="66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611280" y="476280"/>
            <a:ext cx="3598920" cy="574560"/>
          </a:xfrm>
          <a:prstGeom prst="flowChartAlternateProcess">
            <a:avLst/>
          </a:prstGeom>
          <a:gradFill rotWithShape="0">
            <a:gsLst>
              <a:gs pos="0">
                <a:srgbClr val="009999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楷体_GB2312"/>
              </a:rPr>
              <a:t>练 习 巩 固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7293600" y="1541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B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7725600" y="3736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C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8100720" y="6021360"/>
            <a:ext cx="1584360" cy="604440"/>
            <a:chOff x="8100720" y="6021360"/>
            <a:chExt cx="1584360" cy="604440"/>
          </a:xfrm>
        </p:grpSpPr>
        <p:grpSp>
          <p:nvGrpSpPr>
            <p:cNvPr id="406" name="Group 10"/>
            <p:cNvGrpSpPr/>
            <p:nvPr/>
          </p:nvGrpSpPr>
          <p:grpSpPr>
            <a:xfrm>
              <a:off x="8100720" y="6092640"/>
              <a:ext cx="1584360" cy="533160"/>
              <a:chOff x="8100720" y="6092640"/>
              <a:chExt cx="1584360" cy="533160"/>
            </a:xfrm>
          </p:grpSpPr>
          <p:sp>
            <p:nvSpPr>
              <p:cNvPr id="407" name="AutoShape 11"/>
              <p:cNvSpPr/>
              <p:nvPr/>
            </p:nvSpPr>
            <p:spPr>
              <a:xfrm flipH="1">
                <a:off x="8100360" y="6365520"/>
                <a:ext cx="659160" cy="260280"/>
              </a:xfrm>
              <a:custGeom>
                <a:avLst/>
                <a:gdLst>
                  <a:gd name="textAreaLeft" fmla="*/ 114840 w 659160"/>
                  <a:gd name="textAreaRight" fmla="*/ 477720 w 659160"/>
                  <a:gd name="textAreaTop" fmla="*/ 34560 h 260280"/>
                  <a:gd name="textAreaBottom" fmla="*/ 2257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3175"/>
                    <a:lnTo>
                      <a:pt x="21168" y="7198"/>
                    </a:lnTo>
                    <a:lnTo>
                      <a:pt x="17280" y="0"/>
                    </a:lnTo>
                    <a:lnTo>
                      <a:pt x="12528" y="7198"/>
                    </a:lnTo>
                    <a:lnTo>
                      <a:pt x="14688" y="7198"/>
                    </a:lnTo>
                    <a:arcTo wR="7560" hR="21600" stAng="2716825" swAng="2325740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408" name="Text Box 12"/>
              <p:cNvSpPr/>
              <p:nvPr/>
            </p:nvSpPr>
            <p:spPr>
              <a:xfrm>
                <a:off x="8144640" y="6092640"/>
                <a:ext cx="154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楷体_GB2312"/>
                  </a:rPr>
                  <a:t>返回</a:t>
                </a:r>
                <a:endParaRPr b="1" lang="en-US" sz="18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409" name="Rectangle 13"/>
            <p:cNvSpPr/>
            <p:nvPr/>
          </p:nvSpPr>
          <p:spPr>
            <a:xfrm>
              <a:off x="8174160" y="6021360"/>
              <a:ext cx="7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410" name="Rectangle 14"/>
          <p:cNvSpPr/>
          <p:nvPr/>
        </p:nvSpPr>
        <p:spPr>
          <a:xfrm>
            <a:off x="8101080" y="6165720"/>
            <a:ext cx="79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94920" y="2060640"/>
            <a:ext cx="843588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cc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多数金属能与氧气发生反应，但反应的难易和剧烈程度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活泼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金属都能和稀盐酸、稀硫酸反应，但反应的难易和剧烈程度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排在前面的金属可以和排在后面金属化合物（盐）的溶液反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金属的活动性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 Ca Na Mg Al Zn Fe Sn Pb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u Hg Ag Pt 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金属活动性由强逐渐减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187280" y="5805360"/>
            <a:ext cx="7058160" cy="360"/>
            <a:chOff x="1187280" y="5805360"/>
            <a:chExt cx="7058160" cy="360"/>
          </a:xfrm>
        </p:grpSpPr>
        <p:sp>
          <p:nvSpPr>
            <p:cNvPr id="413" name="Line 4"/>
            <p:cNvSpPr/>
            <p:nvPr/>
          </p:nvSpPr>
          <p:spPr>
            <a:xfrm>
              <a:off x="1187280" y="5805360"/>
              <a:ext cx="7058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1187280" y="5805360"/>
              <a:ext cx="7058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415" name="Text Box 5"/>
          <p:cNvSpPr/>
          <p:nvPr/>
        </p:nvSpPr>
        <p:spPr>
          <a:xfrm>
            <a:off x="3205080" y="12682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金属的化学性质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324000" y="333360"/>
            <a:ext cx="3889080" cy="752400"/>
          </a:xfrm>
          <a:prstGeom prst="flowChartAlternateProcess">
            <a:avLst/>
          </a:prstGeom>
          <a:gradFill rotWithShape="0">
            <a:gsLst>
              <a:gs pos="0">
                <a:srgbClr val="66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468360" y="404640"/>
            <a:ext cx="3598920" cy="574920"/>
          </a:xfrm>
          <a:prstGeom prst="flowChartAlternateProcess">
            <a:avLst/>
          </a:prstGeom>
          <a:gradFill rotWithShape="0">
            <a:gsLst>
              <a:gs pos="0">
                <a:srgbClr val="009999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楷体_GB2312"/>
              </a:rPr>
              <a:t>归 纳 小 结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418" name="Group 17"/>
          <p:cNvGrpSpPr/>
          <p:nvPr/>
        </p:nvGrpSpPr>
        <p:grpSpPr>
          <a:xfrm>
            <a:off x="8028000" y="6021360"/>
            <a:ext cx="1657080" cy="647640"/>
            <a:chOff x="8028000" y="6021360"/>
            <a:chExt cx="1657080" cy="647640"/>
          </a:xfrm>
        </p:grpSpPr>
        <p:grpSp>
          <p:nvGrpSpPr>
            <p:cNvPr id="419" name="Group 11"/>
            <p:cNvGrpSpPr/>
            <p:nvPr/>
          </p:nvGrpSpPr>
          <p:grpSpPr>
            <a:xfrm>
              <a:off x="8100720" y="6021360"/>
              <a:ext cx="1584360" cy="604440"/>
              <a:chOff x="8100720" y="6021360"/>
              <a:chExt cx="1584360" cy="604440"/>
            </a:xfrm>
          </p:grpSpPr>
          <p:grpSp>
            <p:nvGrpSpPr>
              <p:cNvPr id="420" name="Group 12"/>
              <p:cNvGrpSpPr/>
              <p:nvPr/>
            </p:nvGrpSpPr>
            <p:grpSpPr>
              <a:xfrm>
                <a:off x="8100720" y="6092640"/>
                <a:ext cx="1584360" cy="533160"/>
                <a:chOff x="8100720" y="6092640"/>
                <a:chExt cx="1584360" cy="533160"/>
              </a:xfrm>
            </p:grpSpPr>
            <p:sp>
              <p:nvSpPr>
                <p:cNvPr id="421" name="AutoShape 13"/>
                <p:cNvSpPr/>
                <p:nvPr/>
              </p:nvSpPr>
              <p:spPr>
                <a:xfrm flipH="1">
                  <a:off x="8100360" y="6365520"/>
                  <a:ext cx="659160" cy="26028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34560 h 260280"/>
                    <a:gd name="textAreaBottom" fmla="*/ 225720 h 26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422" name="Text Box 14"/>
                <p:cNvSpPr/>
                <p:nvPr/>
              </p:nvSpPr>
              <p:spPr>
                <a:xfrm>
                  <a:off x="8144640" y="609264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423" name="Rectangle 15"/>
              <p:cNvSpPr/>
              <p:nvPr/>
            </p:nvSpPr>
            <p:spPr>
              <a:xfrm>
                <a:off x="8174160" y="602136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424" name="Rectangle 16"/>
            <p:cNvSpPr/>
            <p:nvPr/>
          </p:nvSpPr>
          <p:spPr>
            <a:xfrm>
              <a:off x="8028000" y="6165720"/>
              <a:ext cx="86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1110-DB13-473C-B168-4E36074180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在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CuCl</a:t>
            </a:r>
            <a:r>
              <a:rPr b="0" lang="en-US" sz="3200" spc="-1" strike="noStrike" baseline="-2000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MgCl</a:t>
            </a:r>
            <a:r>
              <a:rPr b="0" lang="en-US" sz="3200" spc="-1" strike="noStrike" baseline="-2000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混合溶液中加入过量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Zn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粉，充分反应后过滤，留在滤纸上的物质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. 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Zn              B. Cu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C. Cu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Zn          D. Mg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u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466560" y="404640"/>
            <a:ext cx="3889440" cy="752760"/>
          </a:xfrm>
          <a:prstGeom prst="flowChartAlternateProcess">
            <a:avLst/>
          </a:prstGeom>
          <a:gradFill rotWithShape="0">
            <a:gsLst>
              <a:gs pos="0">
                <a:srgbClr val="66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611280" y="476280"/>
            <a:ext cx="3598920" cy="574560"/>
          </a:xfrm>
          <a:prstGeom prst="flowChartAlternateProcess">
            <a:avLst/>
          </a:prstGeom>
          <a:gradFill rotWithShape="0">
            <a:gsLst>
              <a:gs pos="0">
                <a:srgbClr val="009999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楷体_GB2312"/>
              </a:rPr>
              <a:t>拓 展 延 伸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1501560" y="3141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C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433" name="Group 14"/>
          <p:cNvGrpSpPr/>
          <p:nvPr/>
        </p:nvGrpSpPr>
        <p:grpSpPr>
          <a:xfrm>
            <a:off x="8100720" y="6021360"/>
            <a:ext cx="1584360" cy="647640"/>
            <a:chOff x="8100720" y="6021360"/>
            <a:chExt cx="1584360" cy="647640"/>
          </a:xfrm>
        </p:grpSpPr>
        <p:grpSp>
          <p:nvGrpSpPr>
            <p:cNvPr id="434" name="Group 8"/>
            <p:cNvGrpSpPr/>
            <p:nvPr/>
          </p:nvGrpSpPr>
          <p:grpSpPr>
            <a:xfrm>
              <a:off x="8100720" y="6021360"/>
              <a:ext cx="1584360" cy="604440"/>
              <a:chOff x="8100720" y="6021360"/>
              <a:chExt cx="1584360" cy="604440"/>
            </a:xfrm>
          </p:grpSpPr>
          <p:grpSp>
            <p:nvGrpSpPr>
              <p:cNvPr id="435" name="Group 9"/>
              <p:cNvGrpSpPr/>
              <p:nvPr/>
            </p:nvGrpSpPr>
            <p:grpSpPr>
              <a:xfrm>
                <a:off x="8100720" y="6092640"/>
                <a:ext cx="1584360" cy="533160"/>
                <a:chOff x="8100720" y="6092640"/>
                <a:chExt cx="1584360" cy="533160"/>
              </a:xfrm>
            </p:grpSpPr>
            <p:sp>
              <p:nvSpPr>
                <p:cNvPr id="436" name="AutoShape 10"/>
                <p:cNvSpPr/>
                <p:nvPr/>
              </p:nvSpPr>
              <p:spPr>
                <a:xfrm flipH="1">
                  <a:off x="8100360" y="6365520"/>
                  <a:ext cx="659160" cy="26028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34560 h 260280"/>
                    <a:gd name="textAreaBottom" fmla="*/ 225720 h 26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437" name="Text Box 11"/>
                <p:cNvSpPr/>
                <p:nvPr/>
              </p:nvSpPr>
              <p:spPr>
                <a:xfrm>
                  <a:off x="8144640" y="609264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438" name="Rectangle 12"/>
              <p:cNvSpPr/>
              <p:nvPr/>
            </p:nvSpPr>
            <p:spPr>
              <a:xfrm>
                <a:off x="8174160" y="602136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439" name="Rectangle 13"/>
            <p:cNvSpPr/>
            <p:nvPr/>
          </p:nvSpPr>
          <p:spPr>
            <a:xfrm>
              <a:off x="8101080" y="6093000"/>
              <a:ext cx="7189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6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2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2008327224631742_2"/>
          <p:cNvPicPr/>
          <p:nvPr/>
        </p:nvPicPr>
        <p:blipFill>
          <a:blip r:embed="rId1"/>
          <a:srcRect l="0" t="41834" r="28534" b="0"/>
          <a:stretch/>
        </p:blipFill>
        <p:spPr>
          <a:xfrm>
            <a:off x="611280" y="3068640"/>
            <a:ext cx="2520720" cy="34034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"/>
          <p:cNvSpPr txBox="1"/>
          <p:nvPr/>
        </p:nvSpPr>
        <p:spPr>
          <a:xfrm>
            <a:off x="684360" y="1052640"/>
            <a:ext cx="266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导航页面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3851280" y="1197000"/>
            <a:ext cx="23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回顾已知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851280" y="1959120"/>
            <a:ext cx="230508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学习新知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3851280" y="3500280"/>
            <a:ext cx="23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归纳小结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3851280" y="2708280"/>
            <a:ext cx="23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练习巩固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3851280" y="4249800"/>
            <a:ext cx="23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拓展延伸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851280" y="5013360"/>
            <a:ext cx="2305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>
                  <a:alpha val="92156"/>
                </a:srgbClr>
              </a:gs>
              <a:gs pos="50000">
                <a:srgbClr val="33ccff"/>
              </a:gs>
              <a:gs pos="100000">
                <a:srgbClr val="009999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作业设计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6516720" y="620640"/>
            <a:ext cx="287280" cy="31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6227640" y="209556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6804000" y="765000"/>
            <a:ext cx="1871640" cy="36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lnTo>
                  <a:pt x="1482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33cc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</a:rPr>
              <a:t>学习目标</a:t>
            </a:r>
            <a:endParaRPr b="1" lang="en-US" sz="1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5" name="AutoShape 13"/>
          <p:cNvSpPr/>
          <p:nvPr/>
        </p:nvSpPr>
        <p:spPr>
          <a:xfrm>
            <a:off x="6804000" y="1359000"/>
            <a:ext cx="1871640" cy="36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lnTo>
                  <a:pt x="1482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33cc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</a:rPr>
              <a:t>阅读答疑</a:t>
            </a:r>
            <a:endParaRPr b="1" lang="en-US" sz="1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6804000" y="3141720"/>
            <a:ext cx="1871640" cy="36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18" y="0"/>
                </a:lnTo>
                <a:lnTo>
                  <a:pt x="21600" y="10800"/>
                </a:lnTo>
                <a:lnTo>
                  <a:pt x="20118" y="21600"/>
                </a:lnTo>
                <a:lnTo>
                  <a:pt x="0" y="21600"/>
                </a:lnTo>
                <a:lnTo>
                  <a:pt x="1482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33cc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</a:rPr>
              <a:t>规律学习</a:t>
            </a:r>
            <a:endParaRPr b="1" lang="en-US" sz="1800" spc="-1" strike="noStrike">
              <a:solidFill>
                <a:srgbClr val="0033cc"/>
              </a:solidFill>
              <a:latin typeface="楷体_GB2312"/>
            </a:endParaRPr>
          </a:p>
        </p:txBody>
      </p:sp>
      <p:pic>
        <p:nvPicPr>
          <p:cNvPr id="147" name="Picture 17" descr="http_i"/>
          <p:cNvPicPr/>
          <p:nvPr/>
        </p:nvPicPr>
        <p:blipFill>
          <a:blip r:embed="rId2"/>
          <a:stretch/>
        </p:blipFill>
        <p:spPr>
          <a:xfrm>
            <a:off x="7020000" y="5084640"/>
            <a:ext cx="1784160" cy="14274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8"/>
          <p:cNvSpPr/>
          <p:nvPr/>
        </p:nvSpPr>
        <p:spPr>
          <a:xfrm rot="5400000">
            <a:off x="4932360" y="1728720"/>
            <a:ext cx="216000" cy="216000"/>
          </a:xfrm>
          <a:prstGeom prst="rightArrow">
            <a:avLst>
              <a:gd name="adj1" fmla="val 0"/>
              <a:gd name="adj2" fmla="val 10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49" name="AutoShape 19"/>
          <p:cNvSpPr/>
          <p:nvPr/>
        </p:nvSpPr>
        <p:spPr>
          <a:xfrm rot="5400000">
            <a:off x="4932360" y="2501640"/>
            <a:ext cx="215640" cy="216000"/>
          </a:xfrm>
          <a:prstGeom prst="rightArrow">
            <a:avLst>
              <a:gd name="adj1" fmla="val 0"/>
              <a:gd name="adj2" fmla="val 10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50" name="AutoShape 20"/>
          <p:cNvSpPr/>
          <p:nvPr/>
        </p:nvSpPr>
        <p:spPr>
          <a:xfrm rot="5400000">
            <a:off x="4932360" y="3265560"/>
            <a:ext cx="216000" cy="216000"/>
          </a:xfrm>
          <a:prstGeom prst="rightArrow">
            <a:avLst>
              <a:gd name="adj1" fmla="val 0"/>
              <a:gd name="adj2" fmla="val 10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51" name="AutoShape 21"/>
          <p:cNvSpPr/>
          <p:nvPr/>
        </p:nvSpPr>
        <p:spPr>
          <a:xfrm rot="5400000">
            <a:off x="4932360" y="4029120"/>
            <a:ext cx="216000" cy="216000"/>
          </a:xfrm>
          <a:prstGeom prst="rightArrow">
            <a:avLst>
              <a:gd name="adj1" fmla="val 0"/>
              <a:gd name="adj2" fmla="val 10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52" name="AutoShape 22"/>
          <p:cNvSpPr/>
          <p:nvPr/>
        </p:nvSpPr>
        <p:spPr>
          <a:xfrm rot="5400000">
            <a:off x="4932360" y="4797360"/>
            <a:ext cx="216000" cy="216000"/>
          </a:xfrm>
          <a:prstGeom prst="rightArrow">
            <a:avLst>
              <a:gd name="adj1" fmla="val 0"/>
              <a:gd name="adj2" fmla="val 10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153" name="Group 27"/>
          <p:cNvGrpSpPr/>
          <p:nvPr/>
        </p:nvGrpSpPr>
        <p:grpSpPr>
          <a:xfrm>
            <a:off x="6732360" y="1995120"/>
            <a:ext cx="2016000" cy="396720"/>
            <a:chOff x="6732360" y="1995120"/>
            <a:chExt cx="2016000" cy="396720"/>
          </a:xfrm>
        </p:grpSpPr>
        <p:grpSp>
          <p:nvGrpSpPr>
            <p:cNvPr id="154" name="Group 24"/>
            <p:cNvGrpSpPr/>
            <p:nvPr/>
          </p:nvGrpSpPr>
          <p:grpSpPr>
            <a:xfrm>
              <a:off x="6732360" y="1995120"/>
              <a:ext cx="2016000" cy="396720"/>
              <a:chOff x="6732360" y="1995120"/>
              <a:chExt cx="2016000" cy="396720"/>
            </a:xfrm>
          </p:grpSpPr>
          <p:sp>
            <p:nvSpPr>
              <p:cNvPr id="155" name="AutoShape 14"/>
              <p:cNvSpPr/>
              <p:nvPr/>
            </p:nvSpPr>
            <p:spPr>
              <a:xfrm>
                <a:off x="7741440" y="1995480"/>
                <a:ext cx="1006920" cy="396360"/>
              </a:xfrm>
              <a:custGeom>
                <a:avLst/>
                <a:gdLst>
                  <a:gd name="textAreaLeft" fmla="*/ 0 w 1006920"/>
                  <a:gd name="textAreaRight" fmla="*/ 1007280 w 10069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502" y="0"/>
                    </a:lnTo>
                    <a:lnTo>
                      <a:pt x="21600" y="10800"/>
                    </a:lnTo>
                    <a:lnTo>
                      <a:pt x="18502" y="21600"/>
                    </a:lnTo>
                    <a:lnTo>
                      <a:pt x="0" y="21600"/>
                    </a:lnTo>
                    <a:lnTo>
                      <a:pt x="3098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156" name="AutoShape 23"/>
              <p:cNvSpPr/>
              <p:nvPr/>
            </p:nvSpPr>
            <p:spPr>
              <a:xfrm rot="10800000">
                <a:off x="6732360" y="1995120"/>
                <a:ext cx="1153080" cy="396360"/>
              </a:xfrm>
              <a:custGeom>
                <a:avLst/>
                <a:gdLst>
                  <a:gd name="textAreaLeft" fmla="*/ 0 w 1153080"/>
                  <a:gd name="textAreaRight" fmla="*/ 1153440 w 11530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615" y="0"/>
                    </a:lnTo>
                    <a:lnTo>
                      <a:pt x="21600" y="10800"/>
                    </a:lnTo>
                    <a:lnTo>
                      <a:pt x="17615" y="21600"/>
                    </a:lnTo>
                    <a:lnTo>
                      <a:pt x="0" y="21600"/>
                    </a:lnTo>
                    <a:lnTo>
                      <a:pt x="398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157" name="Text Box 25"/>
            <p:cNvSpPr/>
            <p:nvPr/>
          </p:nvSpPr>
          <p:spPr>
            <a:xfrm>
              <a:off x="7020000" y="2017800"/>
              <a:ext cx="15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楷体_GB2312"/>
                </a:rPr>
                <a:t>1 </a:t>
              </a:r>
              <a:r>
                <a:rPr b="1" lang="zh-CN" sz="1800" spc="-1" strike="noStrike">
                  <a:solidFill>
                    <a:srgbClr val="ff33cc"/>
                  </a:solidFill>
                  <a:latin typeface="楷体_GB2312"/>
                </a:rPr>
                <a:t>探   究 </a:t>
              </a:r>
              <a:r>
                <a:rPr b="1" lang="en-US" sz="1800" spc="-1" strike="noStrike">
                  <a:solidFill>
                    <a:srgbClr val="ff33cc"/>
                  </a:solidFill>
                  <a:latin typeface="楷体_GB2312"/>
                </a:rPr>
                <a:t>2</a:t>
              </a:r>
              <a:endParaRPr b="1" lang="en-US" sz="1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158" name="Rectangle 28"/>
          <p:cNvSpPr/>
          <p:nvPr/>
        </p:nvSpPr>
        <p:spPr>
          <a:xfrm>
            <a:off x="6732720" y="19890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59" name="Rectangle 29"/>
          <p:cNvSpPr/>
          <p:nvPr/>
        </p:nvSpPr>
        <p:spPr>
          <a:xfrm>
            <a:off x="7812000" y="198900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6732360" y="2571480"/>
            <a:ext cx="2016000" cy="396720"/>
            <a:chOff x="6732360" y="2571480"/>
            <a:chExt cx="2016000" cy="396720"/>
          </a:xfrm>
        </p:grpSpPr>
        <p:grpSp>
          <p:nvGrpSpPr>
            <p:cNvPr id="161" name="Group 31"/>
            <p:cNvGrpSpPr/>
            <p:nvPr/>
          </p:nvGrpSpPr>
          <p:grpSpPr>
            <a:xfrm>
              <a:off x="6732360" y="2571480"/>
              <a:ext cx="2016000" cy="396720"/>
              <a:chOff x="6732360" y="2571480"/>
              <a:chExt cx="2016000" cy="396720"/>
            </a:xfrm>
          </p:grpSpPr>
          <p:sp>
            <p:nvSpPr>
              <p:cNvPr id="162" name="AutoShape 32"/>
              <p:cNvSpPr/>
              <p:nvPr/>
            </p:nvSpPr>
            <p:spPr>
              <a:xfrm>
                <a:off x="7741440" y="2571840"/>
                <a:ext cx="1006920" cy="396360"/>
              </a:xfrm>
              <a:custGeom>
                <a:avLst/>
                <a:gdLst>
                  <a:gd name="textAreaLeft" fmla="*/ 0 w 1006920"/>
                  <a:gd name="textAreaRight" fmla="*/ 1007280 w 100692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502" y="0"/>
                    </a:lnTo>
                    <a:lnTo>
                      <a:pt x="21600" y="10800"/>
                    </a:lnTo>
                    <a:lnTo>
                      <a:pt x="18502" y="21600"/>
                    </a:lnTo>
                    <a:lnTo>
                      <a:pt x="0" y="21600"/>
                    </a:lnTo>
                    <a:lnTo>
                      <a:pt x="3098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163" name="AutoShape 33"/>
              <p:cNvSpPr/>
              <p:nvPr/>
            </p:nvSpPr>
            <p:spPr>
              <a:xfrm rot="10800000">
                <a:off x="6732360" y="2571480"/>
                <a:ext cx="1153080" cy="396360"/>
              </a:xfrm>
              <a:custGeom>
                <a:avLst/>
                <a:gdLst>
                  <a:gd name="textAreaLeft" fmla="*/ 0 w 1153080"/>
                  <a:gd name="textAreaRight" fmla="*/ 1153440 w 115308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615" y="0"/>
                    </a:lnTo>
                    <a:lnTo>
                      <a:pt x="21600" y="10800"/>
                    </a:lnTo>
                    <a:lnTo>
                      <a:pt x="17615" y="21600"/>
                    </a:lnTo>
                    <a:lnTo>
                      <a:pt x="0" y="21600"/>
                    </a:lnTo>
                    <a:lnTo>
                      <a:pt x="398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ffff"/>
                  </a:gs>
                  <a:gs pos="50000">
                    <a:srgbClr val="33ccff"/>
                  </a:gs>
                  <a:gs pos="100000">
                    <a:srgbClr val="66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164" name="Text Box 34"/>
            <p:cNvSpPr/>
            <p:nvPr/>
          </p:nvSpPr>
          <p:spPr>
            <a:xfrm>
              <a:off x="7020000" y="2594160"/>
              <a:ext cx="15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楷体_GB2312"/>
                </a:rPr>
                <a:t>1 </a:t>
              </a:r>
              <a:r>
                <a:rPr b="1" lang="zh-CN" sz="1800" spc="-1" strike="noStrike">
                  <a:solidFill>
                    <a:srgbClr val="ff33cc"/>
                  </a:solidFill>
                  <a:latin typeface="楷体_GB2312"/>
                </a:rPr>
                <a:t>视   频 </a:t>
              </a:r>
              <a:r>
                <a:rPr b="1" lang="en-US" sz="1800" spc="-1" strike="noStrike">
                  <a:solidFill>
                    <a:srgbClr val="ff33cc"/>
                  </a:solidFill>
                  <a:latin typeface="楷体_GB2312"/>
                </a:rPr>
                <a:t>2</a:t>
              </a:r>
              <a:endParaRPr b="1" lang="en-US" sz="1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165" name="Rectangle 35"/>
          <p:cNvSpPr/>
          <p:nvPr/>
        </p:nvSpPr>
        <p:spPr>
          <a:xfrm>
            <a:off x="6732720" y="25653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66" name="Rectangle 36"/>
          <p:cNvSpPr/>
          <p:nvPr/>
        </p:nvSpPr>
        <p:spPr>
          <a:xfrm>
            <a:off x="7812000" y="256536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ic_32594"/>
          <p:cNvPicPr/>
          <p:nvPr/>
        </p:nvPicPr>
        <p:blipFill>
          <a:blip r:embed="rId1"/>
          <a:stretch/>
        </p:blipFill>
        <p:spPr>
          <a:xfrm>
            <a:off x="755640" y="1197000"/>
            <a:ext cx="3884760" cy="446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pic_35194"/>
          <p:cNvPicPr/>
          <p:nvPr/>
        </p:nvPicPr>
        <p:blipFill>
          <a:blip r:embed="rId2"/>
          <a:stretch/>
        </p:blipFill>
        <p:spPr>
          <a:xfrm>
            <a:off x="5003640" y="1197000"/>
            <a:ext cx="3200400" cy="44038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1403280" y="5661000"/>
            <a:ext cx="3673080" cy="664920"/>
            <a:chOff x="1403280" y="5661000"/>
            <a:chExt cx="3673080" cy="664920"/>
          </a:xfrm>
        </p:grpSpPr>
        <p:sp>
          <p:nvSpPr>
            <p:cNvPr id="170" name="Rectangle 6"/>
            <p:cNvSpPr/>
            <p:nvPr/>
          </p:nvSpPr>
          <p:spPr>
            <a:xfrm>
              <a:off x="2808720" y="5661000"/>
              <a:ext cx="937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点燃</a:t>
              </a:r>
              <a:endParaRPr b="1" lang="en-US" sz="1800" spc="-1" strike="noStrike">
                <a:solidFill>
                  <a:srgbClr val="0033cc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03280" y="5805360"/>
              <a:ext cx="36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Fe+2O</a:t>
              </a:r>
              <a:r>
                <a:rPr b="0" lang="en-US" sz="2800" spc="-1" strike="noStrike" baseline="-2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 baseline="-2000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= Fe</a:t>
              </a:r>
              <a:r>
                <a:rPr b="0" lang="en-US" sz="2800" spc="-1" strike="noStrike" baseline="-2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</a:t>
              </a:r>
              <a:r>
                <a:rPr b="0" lang="en-US" sz="2800" spc="-1" strike="noStrike" baseline="-2000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2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172" name="Group 8"/>
          <p:cNvGrpSpPr/>
          <p:nvPr/>
        </p:nvGrpSpPr>
        <p:grpSpPr>
          <a:xfrm>
            <a:off x="4932360" y="5661000"/>
            <a:ext cx="3456000" cy="741240"/>
            <a:chOff x="4932360" y="5661000"/>
            <a:chExt cx="3456000" cy="741240"/>
          </a:xfrm>
        </p:grpSpPr>
        <p:sp>
          <p:nvSpPr>
            <p:cNvPr id="173" name="Text Box 9"/>
            <p:cNvSpPr/>
            <p:nvPr/>
          </p:nvSpPr>
          <p:spPr>
            <a:xfrm>
              <a:off x="4932360" y="588168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Mg+O</a:t>
              </a:r>
              <a:r>
                <a:rPr b="0" lang="en-US" sz="2800" spc="-1" strike="noStrike" baseline="-2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== 2MgO</a:t>
              </a:r>
              <a:endParaRPr b="1" lang="en-US" sz="2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174" name="Text Box 10"/>
            <p:cNvSpPr/>
            <p:nvPr/>
          </p:nvSpPr>
          <p:spPr>
            <a:xfrm>
              <a:off x="6300720" y="566100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点燃</a:t>
              </a:r>
              <a:endParaRPr b="1" lang="en-US" sz="18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175" name="AutoShape 20"/>
          <p:cNvSpPr/>
          <p:nvPr/>
        </p:nvSpPr>
        <p:spPr>
          <a:xfrm>
            <a:off x="395280" y="404640"/>
            <a:ext cx="3889440" cy="752760"/>
          </a:xfrm>
          <a:prstGeom prst="flowChartAlternateProcess">
            <a:avLst/>
          </a:prstGeom>
          <a:gradFill rotWithShape="0">
            <a:gsLst>
              <a:gs pos="0">
                <a:srgbClr val="66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76" name="AutoShape 21"/>
          <p:cNvSpPr/>
          <p:nvPr/>
        </p:nvSpPr>
        <p:spPr>
          <a:xfrm>
            <a:off x="539640" y="476280"/>
            <a:ext cx="3598920" cy="574560"/>
          </a:xfrm>
          <a:prstGeom prst="flowChartAlternateProcess">
            <a:avLst/>
          </a:prstGeom>
          <a:gradFill rotWithShape="0">
            <a:gsLst>
              <a:gs pos="0">
                <a:srgbClr val="009999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楷体_GB2312"/>
              </a:rPr>
              <a:t>回 顾 已 知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镁和盐酸"/>
          <p:cNvPicPr/>
          <p:nvPr/>
        </p:nvPicPr>
        <p:blipFill>
          <a:blip r:embed="rId1"/>
          <a:stretch/>
        </p:blipFill>
        <p:spPr>
          <a:xfrm>
            <a:off x="900000" y="549360"/>
            <a:ext cx="2714760" cy="5183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95280" y="59500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Mg+2HCl=MgCl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+H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↑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924360" y="59500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Zn+ H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SO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=ZnSO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+H</a:t>
            </a:r>
            <a:r>
              <a:rPr b="1" lang="en-US" sz="2800" spc="-1" strike="noStrike" baseline="-2000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↑</a:t>
            </a:r>
            <a:endParaRPr b="1" lang="en-US" sz="2800" spc="-1" strike="noStrike">
              <a:solidFill>
                <a:srgbClr val="0033cc"/>
              </a:solidFill>
              <a:latin typeface="楷体_GB2312"/>
            </a:endParaRPr>
          </a:p>
        </p:txBody>
      </p:sp>
      <p:pic>
        <p:nvPicPr>
          <p:cNvPr id="180" name="Picture 5" descr="zhiqingqi"/>
          <p:cNvPicPr/>
          <p:nvPr/>
        </p:nvPicPr>
        <p:blipFill>
          <a:blip r:embed="rId2"/>
          <a:srcRect l="0" t="3083" r="49515" b="12310"/>
          <a:stretch/>
        </p:blipFill>
        <p:spPr>
          <a:xfrm>
            <a:off x="3708360" y="692280"/>
            <a:ext cx="3816360" cy="5041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氢气"/>
          <p:cNvPicPr/>
          <p:nvPr/>
        </p:nvPicPr>
        <p:blipFill>
          <a:blip r:embed="rId3"/>
          <a:srcRect l="-1694" t="49188" r="68039" b="5650"/>
          <a:stretch/>
        </p:blipFill>
        <p:spPr>
          <a:xfrm>
            <a:off x="7524720" y="333360"/>
            <a:ext cx="1379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2008101521311815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4824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2268360" y="5805360"/>
            <a:ext cx="534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Fe+CuSO</a:t>
            </a:r>
            <a:r>
              <a:rPr b="1" lang="en-US" sz="3600" spc="-1" strike="noStrike" baseline="-25000">
                <a:solidFill>
                  <a:srgbClr val="0033cc"/>
                </a:solidFill>
                <a:latin typeface="Arial"/>
                <a:ea typeface="宋体"/>
              </a:rPr>
              <a:t>4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=FeSO</a:t>
            </a:r>
            <a:r>
              <a:rPr b="1" lang="en-US" sz="3600" spc="-1" strike="noStrike" baseline="-25000">
                <a:solidFill>
                  <a:srgbClr val="0033cc"/>
                </a:solidFill>
                <a:latin typeface="Arial"/>
                <a:ea typeface="宋体"/>
              </a:rPr>
              <a:t>4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+Cu</a:t>
            </a:r>
            <a:endParaRPr b="1" lang="en-US" sz="36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8243640" y="6021360"/>
            <a:ext cx="1584360" cy="604440"/>
            <a:chOff x="8243640" y="6021360"/>
            <a:chExt cx="1584360" cy="604440"/>
          </a:xfrm>
        </p:grpSpPr>
        <p:grpSp>
          <p:nvGrpSpPr>
            <p:cNvPr id="185" name="Group 10"/>
            <p:cNvGrpSpPr/>
            <p:nvPr/>
          </p:nvGrpSpPr>
          <p:grpSpPr>
            <a:xfrm>
              <a:off x="8243640" y="6092640"/>
              <a:ext cx="1584360" cy="533160"/>
              <a:chOff x="8243640" y="6092640"/>
              <a:chExt cx="1584360" cy="533160"/>
            </a:xfrm>
          </p:grpSpPr>
          <p:sp>
            <p:nvSpPr>
              <p:cNvPr id="186" name="AutoShape 11"/>
              <p:cNvSpPr/>
              <p:nvPr/>
            </p:nvSpPr>
            <p:spPr>
              <a:xfrm flipH="1">
                <a:off x="8243280" y="6365520"/>
                <a:ext cx="659160" cy="260280"/>
              </a:xfrm>
              <a:custGeom>
                <a:avLst/>
                <a:gdLst>
                  <a:gd name="textAreaLeft" fmla="*/ 114840 w 659160"/>
                  <a:gd name="textAreaRight" fmla="*/ 477720 w 659160"/>
                  <a:gd name="textAreaTop" fmla="*/ 34560 h 260280"/>
                  <a:gd name="textAreaBottom" fmla="*/ 2257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3175"/>
                    <a:lnTo>
                      <a:pt x="21168" y="7198"/>
                    </a:lnTo>
                    <a:lnTo>
                      <a:pt x="17280" y="0"/>
                    </a:lnTo>
                    <a:lnTo>
                      <a:pt x="12528" y="7198"/>
                    </a:lnTo>
                    <a:lnTo>
                      <a:pt x="14688" y="7198"/>
                    </a:lnTo>
                    <a:arcTo wR="7560" hR="21600" stAng="2716825" swAng="2325740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187" name="Text Box 12"/>
              <p:cNvSpPr/>
              <p:nvPr/>
            </p:nvSpPr>
            <p:spPr>
              <a:xfrm>
                <a:off x="8287560" y="6092640"/>
                <a:ext cx="154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楷体_GB2312"/>
                  </a:rPr>
                  <a:t>返回</a:t>
                </a:r>
                <a:endParaRPr b="1" lang="en-US" sz="18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188" name="Rectangle 13"/>
            <p:cNvSpPr/>
            <p:nvPr/>
          </p:nvSpPr>
          <p:spPr>
            <a:xfrm>
              <a:off x="8317080" y="6021360"/>
              <a:ext cx="7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4000" y="2420640"/>
            <a:ext cx="8073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知道镁、锌、铁、铜等金属与氧气的反应及剧烈程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探究不同金属与稀盐酸、稀硫酸及某些金属化合物（盐）溶液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初步了解一些常见金属的活动性强弱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826920" y="981000"/>
            <a:ext cx="1828800" cy="6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学习目标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95280" y="1197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问题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：为什么日常生活中，铝器不用涂油漆？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2" name="Rectangle 4"/>
          <p:cNvSpPr/>
          <p:nvPr/>
        </p:nvSpPr>
        <p:spPr>
          <a:xfrm flipV="1" rot="10800000">
            <a:off x="0" y="4436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问题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真金不怕红炉火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</a:rPr>
              <a:t>是指什么意思？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39640" y="1989000"/>
            <a:ext cx="804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84360" y="184464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61928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58920" y="191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258920" y="2060640"/>
            <a:ext cx="72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187280" y="1844640"/>
            <a:ext cx="741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答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铝在空气中能与氧气反应，使其表面生成一层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致密的氧化铝薄膜，从而阻止里层的铝进一步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被氧化，所以铝器本身就有良好的抗腐蚀性能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不用涂油漆。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419120" y="5433840"/>
            <a:ext cx="682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1116000" y="5229360"/>
            <a:ext cx="65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答</a:t>
            </a:r>
            <a:r>
              <a:rPr b="0" lang="zh-CN" sz="2400" spc="-1" strike="noStrike">
                <a:solidFill>
                  <a:srgbClr val="0033cc"/>
                </a:solidFill>
                <a:latin typeface="楷体_GB2312"/>
              </a:rPr>
              <a:t>：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说明金在高温时也不能与氧气反应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01" name="WordArt 13"/>
          <p:cNvSpPr txBox="1"/>
          <p:nvPr/>
        </p:nvSpPr>
        <p:spPr>
          <a:xfrm>
            <a:off x="395280" y="333360"/>
            <a:ext cx="194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noFill/>
                <a:latin typeface="宋体"/>
              </a:rPr>
              <a:t>阅读答疑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noFill/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金属与氧气的反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900000" y="1916280"/>
            <a:ext cx="763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在常温下，镁和铝可以和氧气反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26920" y="4365720"/>
            <a:ext cx="72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金即使在高温时也不能与氧气反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39640" y="112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楷体_GB2312"/>
              </a:rPr>
              <a:t>大多数金属都能与氧气反应，但反应难易和剧烈程度不同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042920" y="2349360"/>
            <a:ext cx="244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1187280" y="2273400"/>
            <a:ext cx="3097080" cy="797400"/>
            <a:chOff x="1187280" y="2273400"/>
            <a:chExt cx="3097080" cy="797400"/>
          </a:xfrm>
        </p:grpSpPr>
        <p:sp>
          <p:nvSpPr>
            <p:cNvPr id="208" name="Rectangle 8"/>
            <p:cNvSpPr/>
            <p:nvPr/>
          </p:nvSpPr>
          <p:spPr>
            <a:xfrm>
              <a:off x="1187280" y="2489400"/>
              <a:ext cx="30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楷体_GB2312"/>
                </a:rPr>
                <a:t>2Mg+O</a:t>
              </a:r>
              <a:r>
                <a:rPr b="0" lang="en-US" sz="3200" spc="-1" strike="noStrike" baseline="-2000">
                  <a:solidFill>
                    <a:srgbClr val="0033cc"/>
                  </a:solidFill>
                  <a:latin typeface="楷体_GB2312"/>
                </a:rPr>
                <a:t>2</a:t>
              </a:r>
              <a:r>
                <a:rPr b="0" lang="en-US" sz="3200" spc="-1" strike="noStrike">
                  <a:solidFill>
                    <a:srgbClr val="0033cc"/>
                  </a:solidFill>
                  <a:latin typeface="楷体_GB2312"/>
                </a:rPr>
                <a:t>==2MgO</a:t>
              </a:r>
              <a:endParaRPr b="1" lang="en-US" sz="32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268360" y="22734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</a:rPr>
                <a:t>点燃</a:t>
              </a: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210" name="Rectangle 10"/>
          <p:cNvSpPr/>
          <p:nvPr/>
        </p:nvSpPr>
        <p:spPr>
          <a:xfrm>
            <a:off x="4427640" y="248904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楷体_GB2312"/>
              </a:rPr>
              <a:t>4Al+3O</a:t>
            </a:r>
            <a:r>
              <a:rPr b="0" lang="en-US" sz="32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</a:rPr>
              <a:t>==2Al</a:t>
            </a:r>
            <a:r>
              <a:rPr b="0" lang="en-US" sz="3200" spc="-1" strike="noStrike" baseline="-2000">
                <a:solidFill>
                  <a:srgbClr val="0033cc"/>
                </a:solidFill>
                <a:latin typeface="楷体_GB2312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</a:rPr>
              <a:t>O</a:t>
            </a:r>
            <a:r>
              <a:rPr b="0" lang="en-US" sz="3200" spc="-1" strike="noStrike" baseline="-2000">
                <a:solidFill>
                  <a:srgbClr val="0033cc"/>
                </a:solidFill>
                <a:latin typeface="楷体_GB2312"/>
              </a:rPr>
              <a:t>3</a:t>
            </a:r>
            <a:endParaRPr b="1" lang="en-US" sz="32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11" name="Group 21"/>
          <p:cNvGrpSpPr/>
          <p:nvPr/>
        </p:nvGrpSpPr>
        <p:grpSpPr>
          <a:xfrm>
            <a:off x="4427640" y="3573360"/>
            <a:ext cx="3168720" cy="973080"/>
            <a:chOff x="4427640" y="3573360"/>
            <a:chExt cx="3168720" cy="973080"/>
          </a:xfrm>
        </p:grpSpPr>
        <p:grpSp>
          <p:nvGrpSpPr>
            <p:cNvPr id="212" name="Group 20"/>
            <p:cNvGrpSpPr/>
            <p:nvPr/>
          </p:nvGrpSpPr>
          <p:grpSpPr>
            <a:xfrm>
              <a:off x="4427640" y="3645000"/>
              <a:ext cx="3168720" cy="901440"/>
              <a:chOff x="4427640" y="3645000"/>
              <a:chExt cx="3168720" cy="901440"/>
            </a:xfrm>
          </p:grpSpPr>
          <p:sp>
            <p:nvSpPr>
              <p:cNvPr id="213" name="Text Box 11"/>
              <p:cNvSpPr/>
              <p:nvPr/>
            </p:nvSpPr>
            <p:spPr>
              <a:xfrm>
                <a:off x="4427640" y="3789360"/>
                <a:ext cx="3168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cc"/>
                    </a:solidFill>
                    <a:latin typeface="楷体_GB2312"/>
                  </a:rPr>
                  <a:t>2Cu+O</a:t>
                </a:r>
                <a:r>
                  <a:rPr b="0" lang="en-US" sz="3200" spc="-1" strike="noStrike" baseline="-2000">
                    <a:solidFill>
                      <a:srgbClr val="0033cc"/>
                    </a:solidFill>
                    <a:latin typeface="楷体_GB2312"/>
                  </a:rPr>
                  <a:t>2</a:t>
                </a:r>
                <a:r>
                  <a:rPr b="0" lang="en-US" sz="3200" spc="-1" strike="noStrike">
                    <a:solidFill>
                      <a:srgbClr val="0033cc"/>
                    </a:solidFill>
                    <a:latin typeface="楷体_GB2312"/>
                  </a:rPr>
                  <a:t>==2CuO</a:t>
                </a:r>
                <a:endParaRPr b="1" lang="en-US" sz="32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  <p:sp>
            <p:nvSpPr>
              <p:cNvPr id="214" name="AutoShape 12"/>
              <p:cNvSpPr/>
              <p:nvPr/>
            </p:nvSpPr>
            <p:spPr>
              <a:xfrm>
                <a:off x="5796000" y="3645000"/>
                <a:ext cx="685800" cy="901440"/>
              </a:xfrm>
              <a:prstGeom prst="flowChartExtra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215" name="Text Box 13"/>
            <p:cNvSpPr/>
            <p:nvPr/>
          </p:nvSpPr>
          <p:spPr>
            <a:xfrm>
              <a:off x="5435640" y="357336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</a:rPr>
                <a:t>加热</a:t>
              </a: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grpSp>
        <p:nvGrpSpPr>
          <p:cNvPr id="216" name="Group 14"/>
          <p:cNvGrpSpPr/>
          <p:nvPr/>
        </p:nvGrpSpPr>
        <p:grpSpPr>
          <a:xfrm>
            <a:off x="899640" y="3067920"/>
            <a:ext cx="7272360" cy="1790280"/>
            <a:chOff x="899640" y="3067920"/>
            <a:chExt cx="7272360" cy="1790280"/>
          </a:xfrm>
        </p:grpSpPr>
        <p:sp>
          <p:nvSpPr>
            <p:cNvPr id="217" name="Rectangle 15"/>
            <p:cNvSpPr/>
            <p:nvPr/>
          </p:nvSpPr>
          <p:spPr>
            <a:xfrm flipV="1" rot="10800000">
              <a:off x="899640" y="3067560"/>
              <a:ext cx="7272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18" name="Rectangle 16"/>
            <p:cNvSpPr/>
            <p:nvPr/>
          </p:nvSpPr>
          <p:spPr>
            <a:xfrm flipV="1" rot="10800000">
              <a:off x="1116000" y="3789000"/>
              <a:ext cx="3240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楷体_GB2312"/>
                </a:rPr>
                <a:t>3Fe+2O</a:t>
              </a:r>
              <a:r>
                <a:rPr b="0" lang="en-US" sz="3200" spc="-1" strike="noStrike" baseline="-2000">
                  <a:solidFill>
                    <a:srgbClr val="0033cc"/>
                  </a:solidFill>
                  <a:latin typeface="楷体_GB2312"/>
                </a:rPr>
                <a:t>2</a:t>
              </a:r>
              <a:r>
                <a:rPr b="0" lang="en-US" sz="3200" spc="-1" strike="noStrike">
                  <a:solidFill>
                    <a:srgbClr val="0033cc"/>
                  </a:solidFill>
                  <a:latin typeface="楷体_GB2312"/>
                </a:rPr>
                <a:t>==Fe</a:t>
              </a:r>
              <a:r>
                <a:rPr b="0" lang="en-US" sz="3200" spc="-1" strike="noStrike" baseline="-2000">
                  <a:solidFill>
                    <a:srgbClr val="0033cc"/>
                  </a:solidFill>
                  <a:latin typeface="楷体_GB2312"/>
                </a:rPr>
                <a:t>3</a:t>
              </a:r>
              <a:r>
                <a:rPr b="0" lang="en-US" sz="3200" spc="-1" strike="noStrike">
                  <a:solidFill>
                    <a:srgbClr val="0033cc"/>
                  </a:solidFill>
                  <a:latin typeface="楷体_GB2312"/>
                </a:rPr>
                <a:t>O</a:t>
              </a:r>
              <a:r>
                <a:rPr b="0" lang="en-US" sz="3200" spc="-1" strike="noStrike" baseline="-2000">
                  <a:solidFill>
                    <a:srgbClr val="0033cc"/>
                  </a:solidFill>
                  <a:latin typeface="楷体_GB2312"/>
                </a:rPr>
                <a:t>4</a:t>
              </a:r>
              <a:r>
                <a:rPr b="0" lang="en-US" sz="2400" spc="-1" strike="noStrike" u="sng">
                  <a:solidFill>
                    <a:srgbClr val="0033cc"/>
                  </a:solidFill>
                  <a:uFillTx/>
                  <a:latin typeface="楷体_GB2312"/>
                </a:rPr>
                <a:t> </a:t>
              </a: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  <p:sp>
          <p:nvSpPr>
            <p:cNvPr id="219" name="Text Box 17"/>
            <p:cNvSpPr/>
            <p:nvPr/>
          </p:nvSpPr>
          <p:spPr>
            <a:xfrm>
              <a:off x="2411280" y="3573360"/>
              <a:ext cx="7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楷体_GB2312"/>
                </a:rPr>
                <a:t>点燃</a:t>
              </a: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  <p:sp>
        <p:nvSpPr>
          <p:cNvPr id="220" name="Rectangle 18"/>
          <p:cNvSpPr/>
          <p:nvPr/>
        </p:nvSpPr>
        <p:spPr>
          <a:xfrm>
            <a:off x="1042920" y="5084640"/>
            <a:ext cx="77058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根据反应的难易及剧烈程度可以得出：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</a:rPr>
              <a:t>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楷体_GB2312"/>
              </a:rPr>
              <a:t>镁、铝较活泼，铁、铜次之，金最不活泼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。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1736640" y="321300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在高温时，铁和铜也可以和氧气反应</a:t>
            </a: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8244000" y="6093000"/>
            <a:ext cx="7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cc"/>
              </a:solidFill>
              <a:latin typeface="楷体_GB2312"/>
            </a:endParaRPr>
          </a:p>
        </p:txBody>
      </p:sp>
      <p:grpSp>
        <p:nvGrpSpPr>
          <p:cNvPr id="223" name="Group 34"/>
          <p:cNvGrpSpPr/>
          <p:nvPr/>
        </p:nvGrpSpPr>
        <p:grpSpPr>
          <a:xfrm>
            <a:off x="8100720" y="6021360"/>
            <a:ext cx="1584360" cy="676080"/>
            <a:chOff x="8100720" y="6021360"/>
            <a:chExt cx="1584360" cy="676080"/>
          </a:xfrm>
        </p:grpSpPr>
        <p:grpSp>
          <p:nvGrpSpPr>
            <p:cNvPr id="224" name="Group 28"/>
            <p:cNvGrpSpPr/>
            <p:nvPr/>
          </p:nvGrpSpPr>
          <p:grpSpPr>
            <a:xfrm>
              <a:off x="8100720" y="6093000"/>
              <a:ext cx="1584360" cy="604440"/>
              <a:chOff x="8100720" y="6093000"/>
              <a:chExt cx="1584360" cy="604440"/>
            </a:xfrm>
          </p:grpSpPr>
          <p:grpSp>
            <p:nvGrpSpPr>
              <p:cNvPr id="225" name="Group 29"/>
              <p:cNvGrpSpPr/>
              <p:nvPr/>
            </p:nvGrpSpPr>
            <p:grpSpPr>
              <a:xfrm>
                <a:off x="8100720" y="6164280"/>
                <a:ext cx="1584360" cy="533160"/>
                <a:chOff x="8100720" y="6164280"/>
                <a:chExt cx="1584360" cy="533160"/>
              </a:xfrm>
            </p:grpSpPr>
            <p:sp>
              <p:nvSpPr>
                <p:cNvPr id="226" name="AutoShape 30"/>
                <p:cNvSpPr/>
                <p:nvPr/>
              </p:nvSpPr>
              <p:spPr>
                <a:xfrm flipH="1">
                  <a:off x="8100360" y="6437160"/>
                  <a:ext cx="659160" cy="260280"/>
                </a:xfrm>
                <a:custGeom>
                  <a:avLst/>
                  <a:gdLst>
                    <a:gd name="textAreaLeft" fmla="*/ 114840 w 659160"/>
                    <a:gd name="textAreaRight" fmla="*/ 477720 w 659160"/>
                    <a:gd name="textAreaTop" fmla="*/ 34560 h 260280"/>
                    <a:gd name="textAreaBottom" fmla="*/ 225720 h 260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-2683175"/>
                      <a:lnTo>
                        <a:pt x="21168" y="7198"/>
                      </a:lnTo>
                      <a:lnTo>
                        <a:pt x="17280" y="0"/>
                      </a:lnTo>
                      <a:lnTo>
                        <a:pt x="12528" y="7198"/>
                      </a:lnTo>
                      <a:lnTo>
                        <a:pt x="14688" y="7198"/>
                      </a:lnTo>
                      <a:arcTo wR="7560" hR="21600" stAng="2716825" swAng="2325740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7560" hR="21600" stAng="10800000" swAng="-5400000"/>
                      <a:lnTo>
                        <a:pt x="11880" y="21600"/>
                      </a:lnTo>
                      <a:arcTo wR="7560" hR="21600" stAng="5400000" swAng="357435"/>
                      <a:lnTo>
                        <a:pt x="9720" y="20700"/>
                      </a:lnTo>
                      <a:arcTo wR="7560" hR="21600" stAng="5757435" swAng="5042565"/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  <p:sp>
              <p:nvSpPr>
                <p:cNvPr id="227" name="Text Box 31"/>
                <p:cNvSpPr/>
                <p:nvPr/>
              </p:nvSpPr>
              <p:spPr>
                <a:xfrm>
                  <a:off x="8144640" y="6164280"/>
                  <a:ext cx="1540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0000"/>
                      </a:solidFill>
                      <a:latin typeface="楷体_GB2312"/>
                    </a:rPr>
                    <a:t>返回</a:t>
                  </a:r>
                  <a:endParaRPr b="1" lang="en-US" sz="1800" spc="-1" strike="noStrike">
                    <a:solidFill>
                      <a:srgbClr val="0033cc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28" name="Rectangle 32"/>
              <p:cNvSpPr/>
              <p:nvPr/>
            </p:nvSpPr>
            <p:spPr>
              <a:xfrm>
                <a:off x="8174160" y="6093000"/>
                <a:ext cx="720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cc"/>
                  </a:solidFill>
                  <a:latin typeface="楷体_GB2312"/>
                </a:endParaRPr>
              </a:p>
            </p:txBody>
          </p:sp>
        </p:grpSp>
        <p:sp>
          <p:nvSpPr>
            <p:cNvPr id="229" name="Rectangle 33"/>
            <p:cNvSpPr/>
            <p:nvPr/>
          </p:nvSpPr>
          <p:spPr>
            <a:xfrm>
              <a:off x="8101080" y="6021360"/>
              <a:ext cx="863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cc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7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34Z</dcterms:modified>
  <cp:revision>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