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8575F-AE6C-4939-81C7-466674C2F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964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219200"/>
            <a:ext cx="822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4B734-D6D1-4051-8E12-D744ADDA4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964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21920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21920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8C370-0EC8-4F7A-B606-546067B2B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964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213372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213372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21920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421920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421920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AA53A-9C9D-46E6-ACD8-34E6BAFC4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28ACB-3E7F-4F2D-B726-3B1B72640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964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3C2C9-41B9-4295-B460-3DD71F31C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964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DD019-BB28-48A2-A403-D171AA244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964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0A4A6-64C4-4C88-934B-89E978E37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964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2CC0A-AC59-4391-8C29-C8150EED7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39640" y="764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CAA18-4278-410C-AD72-CD7C1D4C7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964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21920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B449E-E383-4F55-9512-CD2CC3E5B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964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2D6E6-5493-410A-929C-5A92D0221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964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21920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B1B9D-A970-469D-87A5-7D012E097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964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219200"/>
            <a:ext cx="822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6408B-7468-41CC-8C65-3354E3C56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964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219200"/>
            <a:ext cx="822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6F19A-BB5C-44EB-A560-4DC52C93B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964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21920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21920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F7A72-A502-47CC-8928-040698CEA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964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213372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213372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21920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21920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21920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76856-965D-4D82-A0B5-A2B99578A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54A867-3D35-47C3-BBC6-DAB63EB54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964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C38FD3-1BE6-4476-A721-C050C7984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964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44BC53-2665-483C-AD63-46C91989F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964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712D70-A72B-4496-9DF6-D92DFCDD2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964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6F16CF-BC36-4802-AB2B-672C10C2B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964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DBCAD-5FB5-4231-A7A8-7D70EA001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39640" y="764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254C58-38DD-479C-8C77-C70085F28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964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21920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ED5B2A-FAF4-49DE-A9AC-2A4CBB3F9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964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421920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824562-0A4A-48B0-B78F-AD6523E92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964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4219200"/>
            <a:ext cx="822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C8AE1C-DD20-4EA5-BF8E-45C3B2331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964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4219200"/>
            <a:ext cx="822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DAEBC3-239D-44BD-9470-90CAFDF2D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964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1920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421920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8CCB4A-E2FA-4B6B-B32C-A81D1EA92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964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213372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213372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421920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421920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421920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CB2C2F-3AEB-41EB-A88F-4B43B479F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964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B92D5-30F0-4835-B6A9-12774999F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964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1C387-D63E-4149-A934-B9E1AC3BD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39640" y="764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971D6-F5E4-4C27-8099-384518389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964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21920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7E908-8AF4-44E8-973E-0B7EA5881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964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21920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8E5BC-9E13-426D-AED3-0CB5EAC79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964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19200"/>
            <a:ext cx="822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BA7C6-80A9-4E3E-AF9F-72D29DF30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图片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3964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A2BAA-7C94-4065-BCDB-8AA4DC2F74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7B519-CC30-4D77-951A-AEF71592928A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图片1"/>
          <p:cNvPicPr/>
          <p:nvPr/>
        </p:nvPicPr>
        <p:blipFill>
          <a:blip r:embed="rId2"/>
          <a:stretch/>
        </p:blipFill>
        <p:spPr>
          <a:xfrm>
            <a:off x="0" y="-792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8"/>
          <p:cNvSpPr/>
          <p:nvPr/>
        </p:nvSpPr>
        <p:spPr>
          <a:xfrm>
            <a:off x="4284720" y="0"/>
            <a:ext cx="2158920" cy="54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964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65DAB-CED1-46CF-8E6A-82AA7494CE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hyperlink" Target="http://www.eeppt.com" TargetMode="External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图片 1" descr=""/>
          <p:cNvPicPr/>
          <p:nvPr/>
        </p:nvPicPr>
        <p:blipFill>
          <a:blip r:embed="rId1"/>
          <a:stretch/>
        </p:blipFill>
        <p:spPr>
          <a:xfrm>
            <a:off x="5243400" y="2882880"/>
            <a:ext cx="3024360" cy="278928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92280" y="1152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减少丢弃及重新使用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  <a:ea typeface="宋体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图片 5" descr=""/>
          <p:cNvPicPr/>
          <p:nvPr/>
        </p:nvPicPr>
        <p:blipFill>
          <a:blip r:embed="rId2"/>
          <a:stretch/>
        </p:blipFill>
        <p:spPr>
          <a:xfrm>
            <a:off x="1362240" y="2905200"/>
            <a:ext cx="3714480" cy="2673360"/>
          </a:xfrm>
          <a:prstGeom prst="rect">
            <a:avLst/>
          </a:prstGeom>
          <a:ln w="0">
            <a:noFill/>
          </a:ln>
        </p:spPr>
      </p:pic>
      <p:sp>
        <p:nvSpPr>
          <p:cNvPr id="129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366840" y="1125000"/>
            <a:ext cx="8229600" cy="39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家庭中将要被当作垃圾丢弃的物品中，哪些是可以重新使用的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4" descr="未标题-21"/>
          <p:cNvPicPr/>
          <p:nvPr/>
        </p:nvPicPr>
        <p:blipFill>
          <a:blip r:embed="rId1"/>
          <a:stretch/>
        </p:blipFill>
        <p:spPr>
          <a:xfrm>
            <a:off x="250920" y="2781360"/>
            <a:ext cx="8459640" cy="34941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468360" y="191628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估计一下，可以重新利用的物品大约能占全部生活垃圾的多大比例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5F0C9-4302-4D39-BBC5-C70EA4BF7631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964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我们应怎样做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解决垃圾问题要从各方面努力，首先要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减少垃圾的数量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然后把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可利用的材料回收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剩下的再作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无害处理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Arial"/>
              </a:rPr>
              <a:t>减少垃圾的数量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是从源头上解决垃圾问题的办法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我们有哪些减少垃圾的办法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964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减少丢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9640" y="1773000"/>
            <a:ext cx="8229600" cy="93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日常生活中哪些垃圾是可以减少的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4" descr="未标题-15"/>
          <p:cNvPicPr/>
          <p:nvPr/>
        </p:nvPicPr>
        <p:blipFill>
          <a:blip r:embed="rId1"/>
          <a:stretch/>
        </p:blipFill>
        <p:spPr>
          <a:xfrm>
            <a:off x="324000" y="2708280"/>
            <a:ext cx="7956360" cy="387360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5"/>
          <p:cNvSpPr/>
          <p:nvPr/>
        </p:nvSpPr>
        <p:spPr>
          <a:xfrm>
            <a:off x="357120" y="2732040"/>
            <a:ext cx="8604360" cy="354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、双面打印可以节约纸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、自带喝水杯外出，少买瓶装饮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、尽量少用或不用一次性用品，以减少纸和塑料的丢弃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…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文本框 8200"/>
          <p:cNvSpPr/>
          <p:nvPr/>
        </p:nvSpPr>
        <p:spPr>
          <a:xfrm>
            <a:off x="1619280" y="545796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468360" y="907560"/>
            <a:ext cx="8229600" cy="39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从家里带一个商品包装盒，观察并交流下列问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4" descr="未标题-16"/>
          <p:cNvPicPr/>
          <p:nvPr/>
        </p:nvPicPr>
        <p:blipFill>
          <a:blip r:embed="rId1"/>
          <a:stretch/>
        </p:blipFill>
        <p:spPr>
          <a:xfrm>
            <a:off x="755640" y="1989000"/>
            <a:ext cx="6553080" cy="46418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468000" y="1125360"/>
            <a:ext cx="835164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包装盒是用什么材料做的，商品用完后，我们是如何处理包装材料的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4"/>
          <p:cNvSpPr/>
          <p:nvPr/>
        </p:nvSpPr>
        <p:spPr>
          <a:xfrm>
            <a:off x="539640" y="2205000"/>
            <a:ext cx="81378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（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1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）作为废品卖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（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2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）直接作为垃圾扔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5"/>
          <p:cNvSpPr/>
          <p:nvPr/>
        </p:nvSpPr>
        <p:spPr>
          <a:xfrm>
            <a:off x="755640" y="4724280"/>
            <a:ext cx="727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有些包装是不必要的，有些包装严重超出其实际需要的。（过度包装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7"/>
          <p:cNvSpPr/>
          <p:nvPr/>
        </p:nvSpPr>
        <p:spPr>
          <a:xfrm>
            <a:off x="539640" y="3573360"/>
            <a:ext cx="777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、包装盒的体积与商品本身的体积差多少，我们发现了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395280" y="980640"/>
            <a:ext cx="8229600" cy="39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对有些生产厂家过度包装的行为我们是怎样看的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           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过度包装既浪费了纸张、木材等宝贵资源，又增加了垃圾量，也增加了消费者的负担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我们在购物时应该选择怎样包装的商品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选择适度包装、简包装的商品。适度包装、简包装的商品就是参与了环境保护行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68000" y="907560"/>
            <a:ext cx="8435880" cy="39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给商品的生产厂家写几点减少包装浪费的建议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我的建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826920" y="2205000"/>
          <a:ext cx="7859880" cy="3959280"/>
        </p:xfrm>
        <a:graphic>
          <a:graphicData uri="http://schemas.openxmlformats.org/drawingml/2006/table">
            <a:tbl>
              <a:tblPr/>
              <a:tblGrid>
                <a:gridCol w="7859880"/>
              </a:tblGrid>
              <a:tr h="13525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1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、简包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050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2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、包装回收重复使用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017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3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、容器重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random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3964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重新使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Arial"/>
              </a:rPr>
              <a:t>重新使用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是指多次或用另一种方法来使用已用过的物品，它也是减少垃圾的重要方法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4" descr="未标题-18"/>
          <p:cNvPicPr/>
          <p:nvPr/>
        </p:nvPicPr>
        <p:blipFill>
          <a:blip r:embed="rId1"/>
          <a:stretch/>
        </p:blipFill>
        <p:spPr>
          <a:xfrm>
            <a:off x="179280" y="1773360"/>
            <a:ext cx="3210120" cy="48290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6" descr="未标题-19"/>
          <p:cNvPicPr/>
          <p:nvPr/>
        </p:nvPicPr>
        <p:blipFill>
          <a:blip r:embed="rId2"/>
          <a:stretch/>
        </p:blipFill>
        <p:spPr>
          <a:xfrm>
            <a:off x="3059280" y="1773360"/>
            <a:ext cx="2895480" cy="485748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7" descr="未标题-20"/>
          <p:cNvPicPr/>
          <p:nvPr/>
        </p:nvPicPr>
        <p:blipFill>
          <a:blip r:embed="rId3"/>
          <a:stretch/>
        </p:blipFill>
        <p:spPr>
          <a:xfrm>
            <a:off x="5940360" y="1844640"/>
            <a:ext cx="2867040" cy="480060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8"/>
          <p:cNvSpPr/>
          <p:nvPr/>
        </p:nvSpPr>
        <p:spPr>
          <a:xfrm>
            <a:off x="395280" y="836640"/>
            <a:ext cx="669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我们能想出这些方法来吗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文本框 8200"/>
          <p:cNvSpPr/>
          <p:nvPr/>
        </p:nvSpPr>
        <p:spPr>
          <a:xfrm>
            <a:off x="755640" y="170172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4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8T06:36:48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45:01Z</dcterms:modified>
  <cp:revision>341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