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24.jpeg" ContentType="image/jpeg"/>
  <Override PartName="/ppt/media/image27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06E-2064-4E4D-AE18-A195082D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DC4-5606-432E-9C12-ABD930F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778-F1E9-48C5-9FCA-A89035DC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93F-F785-4332-B19C-41C82437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62A7-CA72-435E-B41C-988A4B81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E9E-F775-424E-B686-3D01BB1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D36F-19E3-4792-A2A5-4C00B96A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763D-2213-4029-948A-0025619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7F45-CEC0-4987-9045-869EB34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4D6B-B06D-4DAC-BA02-C8B28CAE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A39F-8518-42B1-88A2-33C8FC2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AB4-716B-4AC6-AF33-1C744983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4E2A-D452-48E9-BE38-43D4BF5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76E3-A339-4445-8B04-1321F24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B30-D756-4E00-92E0-65913CBC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14DF-CEC5-45FD-B4C3-47579D78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35B-76EE-46E7-9A24-34059756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6BAD-F920-4B46-9D2A-E0A0594C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7344-706C-40BD-885A-1BF124B6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FDCF-DD03-40B9-A79C-7B92BAAF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C272-61D2-4780-B99A-9241D55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043E-C5BB-44A8-A1A1-9DA55B1F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92A-241D-4109-8579-5DED54E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96B1-7BBA-4E96-8448-96ABA44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7833-2ADC-4256-9681-884207BA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1C62-93F8-4F8A-86A1-AA53510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9E2E-5935-40F8-AEF1-338A8CD3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9C64-2F61-455D-B392-96EF283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A96D-A956-4BEA-BEB7-344D5E7A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E602-FDA8-4096-B572-E7D5BFCC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052-7721-44C0-B423-B4D529D2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00D-9EA1-4BF4-861F-10E65FA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F04-E409-4A60-8A3E-B9DB693D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0F9-45EA-479C-8DFC-B3BE327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700-D16F-4426-BA1D-C13AB7C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370-18E1-4EC6-8E6C-878ACD6F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0A56-A243-45F4-8AC4-D956129EBE3B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A560-5F03-432A-9926-5AE58A6CEF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orbeil"/>
          <p:cNvPicPr/>
          <p:nvPr/>
        </p:nvPicPr>
        <p:blipFill>
          <a:blip r:embed="rId4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orbeil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orbeil"/>
          <p:cNvPicPr/>
          <p:nvPr/>
        </p:nvPicPr>
        <p:blipFill>
          <a:blip r:embed="rId6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5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/>
            <a:ahLst/>
            <a:rect l="l" t="t" r="r" b="b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/>
            <a:ahLst/>
            <a:rect l="l" t="t" r="r" b="b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1963-F726-403E-A378-354778AE02B3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.hnol.net/bbsimg/2006-04-3/10/200643106147104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aike.baidu.com/image/30ecd5ef63280179acafd5d5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042920" y="1052640"/>
            <a:ext cx="730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建设有中国特色的社会主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3618000" cy="276552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53964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11280" y="1197000"/>
            <a:ext cx="8064360" cy="360"/>
            <a:chOff x="611280" y="1197000"/>
            <a:chExt cx="8064360" cy="360"/>
          </a:xfrm>
        </p:grpSpPr>
        <p:sp>
          <p:nvSpPr>
            <p:cNvPr id="196" name="Line 5"/>
            <p:cNvSpPr/>
            <p:nvPr/>
          </p:nvSpPr>
          <p:spPr>
            <a:xfrm>
              <a:off x="611280" y="1197000"/>
              <a:ext cx="80643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611280" y="119700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6"/>
          <p:cNvSpPr/>
          <p:nvPr/>
        </p:nvSpPr>
        <p:spPr>
          <a:xfrm>
            <a:off x="0" y="1341360"/>
            <a:ext cx="946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小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邓小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改革开放和现代化建设的总设计师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十一届三中全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邓小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实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革开放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改革开放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提出坚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项基本原则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中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十二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提出建设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特色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社会主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中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十三大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阐明了社会主义初级阶段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基本路线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经济发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步走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之，在改革开放和社会主义现代化建设中，邓小平解决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什么是社会主义，怎样建设社会主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问题，为中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革开放和现代化建设指明了前进的方向和道路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说他是改革开放和现代化建设的总设计师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9640" y="1052640"/>
            <a:ext cx="8064720" cy="360"/>
            <a:chOff x="539640" y="1052640"/>
            <a:chExt cx="8064720" cy="360"/>
          </a:xfrm>
        </p:grpSpPr>
        <p:sp>
          <p:nvSpPr>
            <p:cNvPr id="201" name="Line 5"/>
            <p:cNvSpPr/>
            <p:nvPr/>
          </p:nvSpPr>
          <p:spPr>
            <a:xfrm>
              <a:off x="539640" y="1052640"/>
              <a:ext cx="80647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39640" y="105264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6"/>
          <p:cNvSpPr/>
          <p:nvPr/>
        </p:nvSpPr>
        <p:spPr>
          <a:xfrm>
            <a:off x="395280" y="1413000"/>
            <a:ext cx="82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南巡讲话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背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末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初，中国社会主义现代化建设和改革开放遇到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问题的困扰。这些问题如不及时解决，就会影响我国改革开放和现代化建设的进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NO_2458"/>
          <p:cNvPicPr/>
          <p:nvPr/>
        </p:nvPicPr>
        <p:blipFill>
          <a:blip r:embed="rId1"/>
          <a:stretch/>
        </p:blipFill>
        <p:spPr>
          <a:xfrm>
            <a:off x="3348000" y="692280"/>
            <a:ext cx="198288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b7bc4c666e82033eab184c8b"/>
          <p:cNvPicPr/>
          <p:nvPr/>
        </p:nvPicPr>
        <p:blipFill>
          <a:blip r:embed="rId2"/>
          <a:stretch/>
        </p:blipFill>
        <p:spPr>
          <a:xfrm>
            <a:off x="684360" y="692280"/>
            <a:ext cx="233172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8474fbdde27fffae76c63894"/>
          <p:cNvPicPr/>
          <p:nvPr/>
        </p:nvPicPr>
        <p:blipFill>
          <a:blip r:embed="rId3"/>
          <a:stretch/>
        </p:blipFill>
        <p:spPr>
          <a:xfrm>
            <a:off x="5580000" y="692280"/>
            <a:ext cx="2766960" cy="1798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539640" y="2421000"/>
            <a:ext cx="81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南巡讲话内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主要精神，四句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党的基本路线一百年不动摇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区姓社不姓资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改革开放胆子要大一些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展经济是关键；发展才是硬道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9640" y="479736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方谈话”核心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社会主义的本质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解放和发展生产力</a:t>
            </a:r>
            <a:r>
              <a:rPr b="1" lang="en-US" sz="2800" spc="-1" strike="noStrike">
                <a:solidFill>
                  <a:srgbClr val="ca0808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共同富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三个</a:t>
            </a:r>
            <a:r>
              <a:rPr b="1" lang="zh-CN" sz="2800" spc="-1" strike="noStrike">
                <a:solidFill>
                  <a:srgbClr val="2a03c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有利于</a:t>
            </a:r>
            <a:r>
              <a:rPr b="1" lang="zh-CN" sz="2800" spc="-1" strike="noStrike">
                <a:solidFill>
                  <a:srgbClr val="2a03c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标准：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判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否姓社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三标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两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不等于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计划经济</a:t>
            </a:r>
            <a:r>
              <a:rPr b="1" lang="en-US" sz="2800" spc="-1" strike="noStrike">
                <a:solidFill>
                  <a:srgbClr val="ca0808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市场经济</a:t>
            </a:r>
            <a:r>
              <a:rPr b="1" lang="en-US" sz="2800" spc="-1" strike="noStrike">
                <a:solidFill>
                  <a:srgbClr val="ca0808"/>
                </a:solidFill>
                <a:latin typeface="Arial"/>
                <a:ea typeface="黑体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3964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01300000323733123030561837641"/>
          <p:cNvPicPr/>
          <p:nvPr/>
        </p:nvPicPr>
        <p:blipFill>
          <a:blip r:embed="rId1"/>
          <a:stretch/>
        </p:blipFill>
        <p:spPr>
          <a:xfrm>
            <a:off x="395280" y="907920"/>
            <a:ext cx="3774960" cy="576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00080287d09809f2380114"/>
          <p:cNvPicPr/>
          <p:nvPr/>
        </p:nvPicPr>
        <p:blipFill>
          <a:blip r:embed="rId2"/>
          <a:stretch/>
        </p:blipFill>
        <p:spPr>
          <a:xfrm>
            <a:off x="1979640" y="3933720"/>
            <a:ext cx="1727280" cy="1873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4427640" y="1052640"/>
            <a:ext cx="3960720" cy="31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南巡讲话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历史意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进一步解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人们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特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社会主义产生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远影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被称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改革开放的第二次宣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5733720"/>
            <a:ext cx="8082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a03c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a03cf"/>
                </a:solidFill>
                <a:latin typeface="Arial"/>
              </a:rPr>
              <a:t>提出中国经济体制改革目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a03c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a03cf"/>
                </a:solidFill>
                <a:latin typeface="Arial"/>
              </a:rPr>
              <a:t>建立社会主义市场经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U868P1T1D13524776F21DT20070725122619"/>
          <p:cNvPicPr/>
          <p:nvPr/>
        </p:nvPicPr>
        <p:blipFill>
          <a:blip r:embed="rId1"/>
          <a:stretch/>
        </p:blipFill>
        <p:spPr>
          <a:xfrm>
            <a:off x="179280" y="1989000"/>
            <a:ext cx="5580000" cy="379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20073272392444484"/>
          <p:cNvPicPr/>
          <p:nvPr/>
        </p:nvPicPr>
        <p:blipFill>
          <a:blip r:embed="rId2"/>
          <a:stretch/>
        </p:blipFill>
        <p:spPr>
          <a:xfrm>
            <a:off x="5759280" y="1989000"/>
            <a:ext cx="3384720" cy="3816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395280" y="4869000"/>
            <a:ext cx="806616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高举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中国特色的社会主义理论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旗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4000" y="981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中共十四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度评价了邓小平建设有中国特色社会主义理论，确定了它在全党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导地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95280" y="981000"/>
            <a:ext cx="8064360" cy="360"/>
            <a:chOff x="395280" y="981000"/>
            <a:chExt cx="8064360" cy="360"/>
          </a:xfrm>
        </p:grpSpPr>
        <p:sp>
          <p:nvSpPr>
            <p:cNvPr id="221" name="Line 9"/>
            <p:cNvSpPr/>
            <p:nvPr/>
          </p:nvSpPr>
          <p:spPr>
            <a:xfrm>
              <a:off x="395280" y="981000"/>
              <a:ext cx="80643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95280" y="98100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8199"/>
          <p:cNvSpPr/>
          <p:nvPr/>
        </p:nvSpPr>
        <p:spPr>
          <a:xfrm>
            <a:off x="1922400" y="723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6a2112339747ceeb1a4cff33"/>
          <p:cNvPicPr/>
          <p:nvPr/>
        </p:nvPicPr>
        <p:blipFill>
          <a:blip r:embed="rId1"/>
          <a:stretch/>
        </p:blipFill>
        <p:spPr>
          <a:xfrm>
            <a:off x="250920" y="2133720"/>
            <a:ext cx="677232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39640" y="907920"/>
            <a:ext cx="8064720" cy="360"/>
            <a:chOff x="539640" y="907920"/>
            <a:chExt cx="8064720" cy="360"/>
          </a:xfrm>
        </p:grpSpPr>
        <p:sp>
          <p:nvSpPr>
            <p:cNvPr id="227" name="Line 9"/>
            <p:cNvSpPr/>
            <p:nvPr/>
          </p:nvSpPr>
          <p:spPr>
            <a:xfrm>
              <a:off x="539640" y="907920"/>
              <a:ext cx="80647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39640" y="90792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0"/>
          <p:cNvSpPr/>
          <p:nvPr/>
        </p:nvSpPr>
        <p:spPr>
          <a:xfrm>
            <a:off x="108000" y="105264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中共十五大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邓小平理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确立为党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导思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对建设有中国特色社会主义具有重要意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6551640" y="2060640"/>
            <a:ext cx="2592360" cy="257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大会作了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高举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邓小平理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伟大旗帜，把建设有中国特色社会主义事业全面推向二十一世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的报告，并写入党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次大会的灵魂就是高举邓小平理论的伟大旗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39640" y="126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邓小平理论的形成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24000" y="206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形成标志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解放思想，实事求是，团结一致向前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24000" y="26370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逐步形成和发展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一届三中全会，改革开放的拉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0" y="3213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在改革开放中，建设中国特色社会主义理论</a:t>
            </a: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邓小平理论逐步形成和发展起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24000" y="4149720"/>
            <a:ext cx="8820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形成完整体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成熟标志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南方讲话和中共十四大，     （十四大把建设有中国特色社会主义理论确立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指导地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809000" y="5157720"/>
            <a:ext cx="5013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写入党章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共十五大，首次提出使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邓小平理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把邓小平理论确立为党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指导思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9640" y="1125360"/>
            <a:ext cx="8064720" cy="360"/>
            <a:chOff x="539640" y="1125360"/>
            <a:chExt cx="8064720" cy="360"/>
          </a:xfrm>
        </p:grpSpPr>
        <p:sp>
          <p:nvSpPr>
            <p:cNvPr id="239" name="Line 15"/>
            <p:cNvSpPr/>
            <p:nvPr/>
          </p:nvSpPr>
          <p:spPr>
            <a:xfrm>
              <a:off x="539640" y="1125360"/>
              <a:ext cx="80647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39640" y="1125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13" descr="cc506c8b0475d653c8fc7a83"/>
          <p:cNvPicPr/>
          <p:nvPr/>
        </p:nvPicPr>
        <p:blipFill>
          <a:blip r:embed="rId1"/>
          <a:stretch/>
        </p:blipFill>
        <p:spPr>
          <a:xfrm>
            <a:off x="7451640" y="189000"/>
            <a:ext cx="12956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英、法、俄、西、日文版《邓小平文选》"/>
          <p:cNvPicPr/>
          <p:nvPr/>
        </p:nvPicPr>
        <p:blipFill>
          <a:blip r:embed="rId1"/>
          <a:stretch/>
        </p:blipFill>
        <p:spPr>
          <a:xfrm>
            <a:off x="0" y="2133720"/>
            <a:ext cx="2556000" cy="4319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44800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2a03c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邓小平理论的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14240" y="0"/>
            <a:ext cx="66294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发展阶段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社会主义初级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根本任务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放发展生产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外部条件：和平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政治保证：坚持四项基本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战略步骤：三步走战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党的领导：坚持中共的领导核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依靠力量：工人、农民、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子，各族人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祖国统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国两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发展道路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建设有中国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社会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3573360"/>
            <a:ext cx="9144000" cy="106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邓小平理论的精髓：解放思想，实事求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1431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按此在新窗口浏览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19400" cy="3843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20064310115931049"/>
          <p:cNvPicPr/>
          <p:nvPr/>
        </p:nvPicPr>
        <p:blipFill>
          <a:blip r:embed="rId3"/>
          <a:stretch/>
        </p:blipFill>
        <p:spPr>
          <a:xfrm>
            <a:off x="3276720" y="0"/>
            <a:ext cx="2950920" cy="37162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6300720" y="476280"/>
            <a:ext cx="273528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，正当中国的改革开放事业蒸蒸日上，香港也即将回到中国人民怀抱的时候，邓小平同志却因病医治无效在北京去世，享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他的角膜也贡献出来了，遗体也捐作医学研究，最后，骨灰也撒到祖国的大海里去。他什么都没有留下。</a:t>
            </a:r>
            <a:r>
              <a:rPr b="1" lang="zh-CN" sz="2400" spc="-1" strike="noStrike">
                <a:solidFill>
                  <a:srgbClr val="ffff99"/>
                </a:solidFill>
                <a:latin typeface="宋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ffff99"/>
                </a:solidFill>
                <a:latin typeface="宋体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xin_4110041211116561321920"/>
          <p:cNvPicPr/>
          <p:nvPr/>
        </p:nvPicPr>
        <p:blipFill>
          <a:blip r:embed="rId4"/>
          <a:stretch/>
        </p:blipFill>
        <p:spPr>
          <a:xfrm>
            <a:off x="3203640" y="3500280"/>
            <a:ext cx="3024000" cy="335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D2"/>
          <p:cNvPicPr/>
          <p:nvPr/>
        </p:nvPicPr>
        <p:blipFill>
          <a:blip r:embed="rId5"/>
          <a:stretch/>
        </p:blipFill>
        <p:spPr>
          <a:xfrm>
            <a:off x="0" y="3645000"/>
            <a:ext cx="320364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7135200" y="0"/>
            <a:ext cx="20088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是中国人民的儿子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深情地爱着我的祖国和人民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xinsrc_c2aef2f00ff94dd6892d0b2859112292"/>
          <p:cNvPicPr/>
          <p:nvPr/>
        </p:nvPicPr>
        <p:blipFill>
          <a:blip r:embed="rId1"/>
          <a:stretch/>
        </p:blipFill>
        <p:spPr>
          <a:xfrm>
            <a:off x="0" y="0"/>
            <a:ext cx="788508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211640" y="404640"/>
            <a:ext cx="4465800" cy="2287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岁赴法国勤工俭学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欧洲接受了马克思主义思潮的洗礼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投身于中华民族的解放事业。在枪林弹雨中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参与创建了新中国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新中国的初期岁月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参与筹划巩固政权和经济建设。在文革浩劫中，曾受到错误批判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被撤销党内外一切职务。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97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以后，他成为中共的主要决策人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国改革和现代化建设的总设计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2cb39e9c0ddbb3b87ce2e"/>
          <p:cNvPicPr/>
          <p:nvPr/>
        </p:nvPicPr>
        <p:blipFill>
          <a:blip r:embed="rId1"/>
          <a:stretch/>
        </p:blipFill>
        <p:spPr>
          <a:xfrm>
            <a:off x="395280" y="260280"/>
            <a:ext cx="3354480" cy="4791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50920" y="551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邓小平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(1904---1997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2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187280" y="3213000"/>
            <a:ext cx="594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和平与发展是当今时代的主题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763640" y="2492280"/>
            <a:ext cx="5162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科学技术是第一生产力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411280" y="3860640"/>
            <a:ext cx="4321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贫穷不是社会主义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11280" y="4365720"/>
            <a:ext cx="7561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革开放胆子要大一些，敢于试验，不能像小脚女人一样。看准了的，就大胆地试，大胆地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79280" y="1844640"/>
            <a:ext cx="822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b6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4ab6"/>
                </a:solidFill>
                <a:latin typeface="宋体"/>
              </a:rPr>
              <a:t>不管白猫黑猫</a:t>
            </a:r>
            <a:r>
              <a:rPr b="1" lang="en-US" sz="3200" spc="-1" strike="noStrike">
                <a:solidFill>
                  <a:srgbClr val="004ab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4ab6"/>
                </a:solidFill>
                <a:latin typeface="宋体"/>
              </a:rPr>
              <a:t>捉住老鼠就是好猫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95280" y="69228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是中国人民的儿子，我深情地爱着我的祖国和人民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8229600" y="6400800"/>
            <a:ext cx="914400" cy="4572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666880" y="30240"/>
            <a:ext cx="2743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小平语录摘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10" descr=""/>
          <p:cNvPicPr/>
          <p:nvPr/>
        </p:nvPicPr>
        <p:blipFill>
          <a:blip r:embed="rId1"/>
          <a:stretch/>
        </p:blipFill>
        <p:spPr>
          <a:xfrm>
            <a:off x="7273800" y="0"/>
            <a:ext cx="1870200" cy="24922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1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现四化，永不称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1676520"/>
            <a:ext cx="7621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邓小平大幅度提高人民生活水平，作为与建国之父毛泽东并列的“中兴始祖”肯定将名垂青史。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　　　　 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——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共同社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116000" y="4076640"/>
            <a:ext cx="746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邓小平把中国带出了落后与孤立，是社会主义市场经济之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　　　　　　　　　　　　　　　　　　　    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——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德新社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981080" y="228600"/>
            <a:ext cx="4953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国际社会的评价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6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324000" y="404640"/>
            <a:ext cx="38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1413000"/>
            <a:ext cx="9144000" cy="360"/>
            <a:chOff x="0" y="1413000"/>
            <a:chExt cx="9144000" cy="360"/>
          </a:xfrm>
        </p:grpSpPr>
        <p:sp>
          <p:nvSpPr>
            <p:cNvPr id="272" name="Line 3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0" y="1413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4"/>
          <p:cNvSpPr/>
          <p:nvPr/>
        </p:nvSpPr>
        <p:spPr>
          <a:xfrm>
            <a:off x="324000" y="1700280"/>
            <a:ext cx="345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、革命时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08000" y="2708280"/>
            <a:ext cx="9144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他领导百色起义和龙州起义，建立左右江革命根据地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解放战争时期率军开辟中原战场，领导淮海战役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渡江战役为新中国的诞生立下了赫赫战功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建国初期解放西南，主政西南，为和平解放西藏做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大量工作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8997840" cy="647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0480" y="30240"/>
            <a:ext cx="40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052640"/>
            <a:ext cx="9144000" cy="360"/>
            <a:chOff x="0" y="1052640"/>
            <a:chExt cx="9144000" cy="360"/>
          </a:xfrm>
        </p:grpSpPr>
        <p:sp>
          <p:nvSpPr>
            <p:cNvPr id="279" name="Line 4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0" y="1052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5"/>
          <p:cNvSpPr/>
          <p:nvPr/>
        </p:nvSpPr>
        <p:spPr>
          <a:xfrm>
            <a:off x="0" y="1197000"/>
            <a:ext cx="3411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、建设时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47720" y="2060640"/>
            <a:ext cx="968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重新确立了解放思想、实事求是的思想路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278136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创立了建设有中国特色社会主义伟大理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0" y="357336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以经济建设为中心，大力发展生产力，不断推进改革           开放，推动国民经济高速发展，国家综合国力大大增强，国际地位大大提高，社会主义建设取得巨大成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一国两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伟大构想指导下成功地解决香港、澳门问题，逐步实现祖国统一大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是无产阶级革命家，为新中国的诞生作出了重要贡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更是中国改革开放和现代化建设的总设计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是建设中国特色社会主义理论的创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24000" y="260280"/>
            <a:ext cx="38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9280" y="1197000"/>
            <a:ext cx="8785440" cy="360"/>
            <a:chOff x="179280" y="1197000"/>
            <a:chExt cx="8785440" cy="360"/>
          </a:xfrm>
        </p:grpSpPr>
        <p:sp>
          <p:nvSpPr>
            <p:cNvPr id="290" name="Line 6"/>
            <p:cNvSpPr/>
            <p:nvPr/>
          </p:nvSpPr>
          <p:spPr>
            <a:xfrm>
              <a:off x="179280" y="1197000"/>
              <a:ext cx="878544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179280" y="1197000"/>
              <a:ext cx="878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"/>
          <p:cNvSpPr/>
          <p:nvPr/>
        </p:nvSpPr>
        <p:spPr>
          <a:xfrm>
            <a:off x="324000" y="1484280"/>
            <a:ext cx="388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、全面评价邓小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24000" y="227664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胸怀宽广，志向高远，以国家民族的解放和进步为已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勤奋好学，积极探索，以丰富的知识和科学的理论武装自己的头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勇于实践、实事求是，结合实践不断检验、完善和更新已有的思想理论体系，不盲从迷信权威和经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539640" y="155736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、伟人的优秀品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89000"/>
            <a:ext cx="38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9280" y="1197000"/>
            <a:ext cx="8785440" cy="360"/>
            <a:chOff x="179280" y="1197000"/>
            <a:chExt cx="8785440" cy="360"/>
          </a:xfrm>
        </p:grpSpPr>
        <p:sp>
          <p:nvSpPr>
            <p:cNvPr id="298" name="Line 7"/>
            <p:cNvSpPr/>
            <p:nvPr/>
          </p:nvSpPr>
          <p:spPr>
            <a:xfrm>
              <a:off x="179280" y="1197000"/>
              <a:ext cx="878544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79280" y="1197000"/>
              <a:ext cx="878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9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3505320" y="15228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 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24000" y="3429000"/>
            <a:ext cx="14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邓小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71280" y="2133360"/>
            <a:ext cx="360" cy="1368360"/>
            <a:chOff x="971280" y="2133360"/>
            <a:chExt cx="360" cy="1368360"/>
          </a:xfrm>
        </p:grpSpPr>
        <p:sp>
          <p:nvSpPr>
            <p:cNvPr id="304" name="Line 11"/>
            <p:cNvSpPr/>
            <p:nvPr/>
          </p:nvSpPr>
          <p:spPr>
            <a:xfrm flipV="1">
              <a:off x="971640" y="2133360"/>
              <a:ext cx="0" cy="1368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971280" y="213336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2"/>
          <p:cNvSpPr/>
          <p:nvPr/>
        </p:nvSpPr>
        <p:spPr>
          <a:xfrm>
            <a:off x="250920" y="1197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毛泽东思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7956720" y="476280"/>
            <a:ext cx="838080" cy="432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2556000" y="836640"/>
            <a:ext cx="4060800" cy="9471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决半殖民地半封建社会的中国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何独立并走向社会主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问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340000" y="3429000"/>
            <a:ext cx="4746600" cy="9471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解决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什么是社会主义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和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怎样建设社会主义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的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19280" y="1628640"/>
            <a:ext cx="649080" cy="360"/>
            <a:chOff x="1619280" y="1628640"/>
            <a:chExt cx="649080" cy="360"/>
          </a:xfrm>
        </p:grpSpPr>
        <p:sp>
          <p:nvSpPr>
            <p:cNvPr id="311" name="Line 23"/>
            <p:cNvSpPr/>
            <p:nvPr/>
          </p:nvSpPr>
          <p:spPr>
            <a:xfrm>
              <a:off x="1619280" y="1628640"/>
              <a:ext cx="649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619280" y="162864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547640" y="3860640"/>
            <a:ext cx="648000" cy="360"/>
            <a:chOff x="1547640" y="3860640"/>
            <a:chExt cx="648000" cy="360"/>
          </a:xfrm>
        </p:grpSpPr>
        <p:sp>
          <p:nvSpPr>
            <p:cNvPr id="314" name="Line 24"/>
            <p:cNvSpPr/>
            <p:nvPr/>
          </p:nvSpPr>
          <p:spPr>
            <a:xfrm>
              <a:off x="1547640" y="3860640"/>
              <a:ext cx="648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547640" y="3860640"/>
              <a:ext cx="6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284720" y="2276640"/>
            <a:ext cx="17280" cy="1134720"/>
            <a:chOff x="4284720" y="2276640"/>
            <a:chExt cx="17280" cy="1134720"/>
          </a:xfrm>
        </p:grpSpPr>
        <p:sp>
          <p:nvSpPr>
            <p:cNvPr id="317" name="Line 26"/>
            <p:cNvSpPr/>
            <p:nvPr/>
          </p:nvSpPr>
          <p:spPr>
            <a:xfrm>
              <a:off x="4284720" y="2276640"/>
              <a:ext cx="17280" cy="113472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4284720" y="2276640"/>
              <a:ext cx="17280" cy="113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093080" y="3860640"/>
            <a:ext cx="934920" cy="360"/>
            <a:chOff x="7093080" y="3860640"/>
            <a:chExt cx="934920" cy="360"/>
          </a:xfrm>
        </p:grpSpPr>
        <p:sp>
          <p:nvSpPr>
            <p:cNvPr id="320" name="Line 24"/>
            <p:cNvSpPr/>
            <p:nvPr/>
          </p:nvSpPr>
          <p:spPr>
            <a:xfrm>
              <a:off x="7093080" y="3860640"/>
              <a:ext cx="93492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7093080" y="3860640"/>
              <a:ext cx="93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588000" y="1773360"/>
            <a:ext cx="1440000" cy="360"/>
            <a:chOff x="6588000" y="1773360"/>
            <a:chExt cx="1440000" cy="360"/>
          </a:xfrm>
        </p:grpSpPr>
        <p:sp>
          <p:nvSpPr>
            <p:cNvPr id="323" name="Line 23"/>
            <p:cNvSpPr/>
            <p:nvPr/>
          </p:nvSpPr>
          <p:spPr>
            <a:xfrm>
              <a:off x="6588000" y="1773360"/>
              <a:ext cx="1440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588000" y="1773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22"/>
          <p:cNvSpPr/>
          <p:nvPr/>
        </p:nvSpPr>
        <p:spPr>
          <a:xfrm>
            <a:off x="179280" y="5300640"/>
            <a:ext cx="864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邓小平理论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马克思主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中国实际相结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二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历史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飞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理论成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1AD0-57DB-4487-957B-27711B4F71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7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30ecd5ef63280179acafd5d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1990800" cy="2519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0e655ca713a4c28fd1435896"/>
          <p:cNvPicPr/>
          <p:nvPr/>
        </p:nvPicPr>
        <p:blipFill>
          <a:blip r:embed="rId3"/>
          <a:stretch/>
        </p:blipFill>
        <p:spPr>
          <a:xfrm>
            <a:off x="5292720" y="1413000"/>
            <a:ext cx="2897280" cy="2520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dbf554ed5f81019cb21cb118"/>
          <p:cNvPicPr/>
          <p:nvPr/>
        </p:nvPicPr>
        <p:blipFill>
          <a:blip r:embed="rId4"/>
          <a:stretch/>
        </p:blipFill>
        <p:spPr>
          <a:xfrm>
            <a:off x="2843280" y="1413000"/>
            <a:ext cx="1886040" cy="2520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7"/>
          <p:cNvSpPr/>
          <p:nvPr/>
        </p:nvSpPr>
        <p:spPr>
          <a:xfrm>
            <a:off x="0" y="189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孙中山、毛泽东、邓小平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索民族发展之路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想和模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468360" y="4149720"/>
            <a:ext cx="144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孙中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三民主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欧美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2843280" y="4076640"/>
            <a:ext cx="208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毛泽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农村包围城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苏联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5435640" y="4076640"/>
            <a:ext cx="309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邓小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放思想、实事求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中国特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468360" y="5734080"/>
            <a:ext cx="8532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共同道路：是救国、建国、强国之路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是振兴中华、振兴民族的道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6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38088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0560" y="2412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邓小平的三起三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44600" y="1003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一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87600" y="927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1933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年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月，因拥护毛泽东的正确主张，被党内“左倾”领导人斗争、撤职、下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44600" y="1905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一起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663560" y="1828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9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，遵义会议后邓小平平反，邓小平得到了晋升，被正式任命为红军总政治部秘书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44600" y="2895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600200" y="2895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文革”初期，被扣上“中国第二号走资派”的帽子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1969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年被下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460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二起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600200" y="3962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9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周恩来病重，复出代周主持中央日常工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57200" y="4724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57200" y="5791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三起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523880" y="4724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全面整顿文革错误，为毛泽东所不容；“天安门事件”后，被撤销党内外一切职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523880" y="57913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四人帮”倒台后再次复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自主学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改革开放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必须坚持四项基本原则的背景、四项基本原则的内容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建设有中国特色的社会主义的时间、会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阐明社会主义初级阶段的理论的时间、会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党在社会主义初级阶段的基本路线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找出社会主义初级阶段经济发展的三步走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南巡的背景、南巡讲话的重要观点、讲话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理论是如何形成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哪个会议确立了邓小平理论在全党的指导地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哪个会议把邓小平理论确立为党的指导思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11280" y="8031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8360" y="1700280"/>
            <a:ext cx="8064360" cy="360"/>
            <a:chOff x="468360" y="1700280"/>
            <a:chExt cx="8064360" cy="360"/>
          </a:xfrm>
        </p:grpSpPr>
        <p:sp>
          <p:nvSpPr>
            <p:cNvPr id="163" name="Line 3"/>
            <p:cNvSpPr/>
            <p:nvPr/>
          </p:nvSpPr>
          <p:spPr>
            <a:xfrm>
              <a:off x="468360" y="1700280"/>
              <a:ext cx="80643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68360" y="170028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68360" y="1916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）十一届三中全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邓小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实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改革开放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NO_2381"/>
          <p:cNvPicPr/>
          <p:nvPr/>
        </p:nvPicPr>
        <p:blipFill>
          <a:blip r:embed="rId1"/>
          <a:stretch/>
        </p:blipFill>
        <p:spPr>
          <a:xfrm>
            <a:off x="684360" y="3068640"/>
            <a:ext cx="784836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120040" y="40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9640" y="1341360"/>
            <a:ext cx="8064720" cy="360"/>
            <a:chOff x="539640" y="1341360"/>
            <a:chExt cx="8064720" cy="360"/>
          </a:xfrm>
        </p:grpSpPr>
        <p:sp>
          <p:nvSpPr>
            <p:cNvPr id="169" name="Line 3"/>
            <p:cNvSpPr/>
            <p:nvPr/>
          </p:nvSpPr>
          <p:spPr>
            <a:xfrm>
              <a:off x="539640" y="1341360"/>
              <a:ext cx="8064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39640" y="1341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4"/>
          <p:cNvSpPr/>
          <p:nvPr/>
        </p:nvSpPr>
        <p:spPr>
          <a:xfrm>
            <a:off x="611280" y="14842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实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革开放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针对出现的资产阶级自由化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中国实现现代化，必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坚持四项基本原则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900000" y="2970360"/>
            <a:ext cx="74883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539640" y="1341360"/>
            <a:ext cx="8064720" cy="360"/>
            <a:chOff x="539640" y="1341360"/>
            <a:chExt cx="8064720" cy="360"/>
          </a:xfrm>
        </p:grpSpPr>
        <p:sp>
          <p:nvSpPr>
            <p:cNvPr id="174" name="Line 3"/>
            <p:cNvSpPr/>
            <p:nvPr/>
          </p:nvSpPr>
          <p:spPr>
            <a:xfrm>
              <a:off x="539640" y="1341360"/>
              <a:ext cx="8064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39640" y="1341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8"/>
          <p:cNvSpPr/>
          <p:nvPr/>
        </p:nvSpPr>
        <p:spPr>
          <a:xfrm>
            <a:off x="250920" y="1844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共十二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马克思主义的普遍真理同我国的具体实际结合起来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走自己的道路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设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特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社会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3964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1b0d4f0f780f4f6a6159f31c"/>
          <p:cNvPicPr/>
          <p:nvPr/>
        </p:nvPicPr>
        <p:blipFill>
          <a:blip r:embed="rId1"/>
          <a:stretch/>
        </p:blipFill>
        <p:spPr>
          <a:xfrm>
            <a:off x="5292720" y="1628640"/>
            <a:ext cx="29289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539640" y="1341360"/>
            <a:ext cx="8064720" cy="360"/>
            <a:chOff x="539640" y="1341360"/>
            <a:chExt cx="8064720" cy="360"/>
          </a:xfrm>
        </p:grpSpPr>
        <p:sp>
          <p:nvSpPr>
            <p:cNvPr id="180" name="Line 2"/>
            <p:cNvSpPr/>
            <p:nvPr/>
          </p:nvSpPr>
          <p:spPr>
            <a:xfrm>
              <a:off x="539640" y="1341360"/>
              <a:ext cx="8064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539640" y="1341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4"/>
          <p:cNvSpPr/>
          <p:nvPr/>
        </p:nvSpPr>
        <p:spPr>
          <a:xfrm>
            <a:off x="539640" y="1557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又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共十三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阐明了社会主义初级阶段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基本路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作出了经济发展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步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战略部署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95280" y="3213000"/>
            <a:ext cx="806436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基本路线：即（一个中心，两个基本点），以经济建设为中心，坚持四项基本原则，坚持改革开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68360" y="5157720"/>
            <a:ext cx="2449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三步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2193120" y="40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199"/>
          <p:cNvSpPr/>
          <p:nvPr/>
        </p:nvSpPr>
        <p:spPr>
          <a:xfrm>
            <a:off x="1163520" y="600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>
            <a:off x="3924360" y="404640"/>
            <a:ext cx="507528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社会主义初级阶段的基本路线：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5148360" y="2060640"/>
            <a:ext cx="32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2a03c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个中心</a:t>
            </a:r>
            <a:endParaRPr b="1" i="1" lang="en-US" sz="2400" spc="1" strike="noStrike">
              <a:ln w="19080">
                <a:solidFill>
                  <a:srgbClr val="2a03c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WordArt 5"/>
          <p:cNvSpPr txBox="1"/>
          <p:nvPr/>
        </p:nvSpPr>
        <p:spPr>
          <a:xfrm>
            <a:off x="4788000" y="4076640"/>
            <a:ext cx="32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2a03c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两个基本点</a:t>
            </a:r>
            <a:endParaRPr b="1" i="1" lang="en-US" sz="2400" spc="1" strike="noStrike">
              <a:ln w="19080">
                <a:solidFill>
                  <a:srgbClr val="2a03c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64000" y="2924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2a03cf"/>
                </a:solidFill>
                <a:uFillTx/>
                <a:latin typeface="Arial"/>
              </a:rPr>
              <a:t>以经济建设为中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43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2a03cf"/>
                </a:solidFill>
                <a:uFillTx/>
                <a:latin typeface="Arial"/>
              </a:rPr>
              <a:t>坚持改革开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43640" y="5661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2a03cf"/>
                </a:solidFill>
                <a:uFillTx/>
                <a:latin typeface="Arial"/>
              </a:rPr>
              <a:t>坚持四项基本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21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52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