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4.wmf" ContentType="image/x-wmf"/>
  <Override PartName="/ppt/media/image22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2.png" ContentType="image/png"/>
  <Override PartName="/ppt/media/image33.jpeg" ContentType="image/jpeg"/>
  <Override PartName="/ppt/media/image27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42.jpeg" ContentType="image/jpeg"/>
  <Override PartName="/ppt/media/image37.png" ContentType="image/png"/>
  <Override PartName="/ppt/media/image48.jpeg" ContentType="image/jpeg"/>
  <Override PartName="/ppt/media/camera.wav" ContentType="audio/x-wav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1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image5.png" ContentType="image/png"/>
  <Override PartName="/ppt/media/image43.jpeg" ContentType="image/jpeg"/>
  <Override PartName="/ppt/media/image35.png" ContentType="image/pn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101-7D3A-4FEA-B614-3FB5690C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C23-5DCC-42E5-9890-765F95FB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51F-B1C3-4BAF-AA83-9DBFC6CA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127-81E0-4149-876E-CA91B95E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4A02-27FF-4B83-8340-FF54BF38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1C95-6422-4311-9575-65E5B39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82F6-4900-4DCD-9C42-34EA4522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D17-D053-4318-BD97-1B6F4C61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26B2-C343-469B-A650-3BEAE49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5D4D-7A8A-485A-9975-D0BF4012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679-EE55-4AC6-8D21-A1D4BBF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DBE-6188-4AD4-94A9-5AA3D42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697C-3D9C-4348-A8C6-23CC86A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7DD-A6AE-4146-AF0E-C696778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3BA1-642F-45AA-B9D9-B3219EE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DB91-A5F7-4540-AED5-BF0077AB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45F9-E1A2-4888-9C86-2E69DF78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08C-EFC6-4C2F-8B84-84D5B4DB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284-061A-4B9C-9D37-2EDF31B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343-8A68-4413-98A0-1042EAB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3B8-F8E4-4E70-9298-F5FF7BB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AF1-18EC-42CB-91F7-3474EEA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377-B7E6-40B9-AE70-0B1859F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CD5-4136-4758-9A24-8ECB8AF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A43-DCA7-41E3-A1F2-7F68308950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B3E-07F7-4ACD-9340-3328377460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6,20,&#24187;&#28783;&#29255; 20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934920" y="14889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家庭电路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打包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47640" y="76500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九章　生活用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保险盒"/>
          <p:cNvPicPr/>
          <p:nvPr/>
        </p:nvPicPr>
        <p:blipFill>
          <a:blip r:embed="rId1"/>
          <a:stretch/>
        </p:blipFill>
        <p:spPr>
          <a:xfrm>
            <a:off x="457200" y="917640"/>
            <a:ext cx="7924680" cy="594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041116_hd_zgw_dy34hi"/>
          <p:cNvPicPr/>
          <p:nvPr/>
        </p:nvPicPr>
        <p:blipFill>
          <a:blip r:embed="rId2"/>
          <a:stretch/>
        </p:blipFill>
        <p:spPr>
          <a:xfrm>
            <a:off x="4495680" y="2362320"/>
            <a:ext cx="3657600" cy="37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041116_hd_zgw_dy33hi"/>
          <p:cNvPicPr/>
          <p:nvPr/>
        </p:nvPicPr>
        <p:blipFill>
          <a:blip r:embed="rId3"/>
          <a:stretch/>
        </p:blipFill>
        <p:spPr>
          <a:xfrm>
            <a:off x="5334120" y="304920"/>
            <a:ext cx="3429000" cy="33703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1066680" y="685800"/>
            <a:ext cx="2971800" cy="152388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cad5f4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95280" y="91440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保险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灯"/>
          <p:cNvPicPr/>
          <p:nvPr/>
        </p:nvPicPr>
        <p:blipFill>
          <a:blip r:embed="rId4"/>
          <a:stretch/>
        </p:blipFill>
        <p:spPr>
          <a:xfrm>
            <a:off x="304920" y="380880"/>
            <a:ext cx="788760" cy="1554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5491440" y="6230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封闭管式熔断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50920" y="1159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熔断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924920" y="83880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熔断器有＿＿＿＿熔断器和＿＿＿熔断器两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468520" y="765000"/>
            <a:ext cx="26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封闭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684760" y="76500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插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47600" y="1554840"/>
            <a:ext cx="34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熔断器内装有＿＿＿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755640" y="213192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保险丝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21080" y="1484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险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684360" y="2780280"/>
            <a:ext cx="712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路中电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过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，保险丝自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熔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95280" y="4365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保险丝一般由什么材料做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611280" y="342900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95280" y="4941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果选用的保险丝额定电流值太大或太小会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1128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险丝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11280" y="2676240"/>
            <a:ext cx="820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险丝的电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等于或稍大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路中正常工作的电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8436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险丝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07680" y="907200"/>
            <a:ext cx="44888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电阻率较大熔点较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铅锑金属合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做成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69200" y="3522600"/>
            <a:ext cx="463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明家里新装了台空调，使用时保险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总是会熔断，线路负荷角度考虑没什么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他干脆将保险丝换成了一根铜丝，你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明的做法可取么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08000" y="547524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切勿用铜丝或铁丝替代保险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068880" y="5911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空气开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rsabb2"/>
          <p:cNvPicPr/>
          <p:nvPr/>
        </p:nvPicPr>
        <p:blipFill>
          <a:blip r:embed="rId1"/>
          <a:stretch/>
        </p:blipFill>
        <p:spPr>
          <a:xfrm>
            <a:off x="5808600" y="2924280"/>
            <a:ext cx="2328840" cy="2985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"/>
          <p:cNvSpPr/>
          <p:nvPr/>
        </p:nvSpPr>
        <p:spPr>
          <a:xfrm>
            <a:off x="431640" y="74916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保险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31640" y="126828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新建居民楼电路中的保险装置一般采用空气开关，空气开关安装在电能表后，当电路中的电流过大时，空气开关自动断开，切断电路，俗称跳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`98R$2RPNNEENX~4)]}OOYP"/>
          <p:cNvPicPr/>
          <p:nvPr/>
        </p:nvPicPr>
        <p:blipFill>
          <a:blip r:embed="rId2"/>
          <a:stretch/>
        </p:blipFill>
        <p:spPr>
          <a:xfrm>
            <a:off x="1584360" y="2816280"/>
            <a:ext cx="3816360" cy="36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6"/>
          <p:cNvSpPr/>
          <p:nvPr/>
        </p:nvSpPr>
        <p:spPr>
          <a:xfrm>
            <a:off x="6840360" y="139716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火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04000" y="204480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32720" y="31258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8"/>
          <p:cNvSpPr/>
          <p:nvPr/>
        </p:nvSpPr>
        <p:spPr>
          <a:xfrm>
            <a:off x="431640" y="512136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　　用试电笔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5364000" y="4005360"/>
            <a:ext cx="3461040" cy="2630520"/>
            <a:chOff x="5364000" y="4005360"/>
            <a:chExt cx="3461040" cy="2630520"/>
          </a:xfrm>
        </p:grpSpPr>
        <p:pic>
          <p:nvPicPr>
            <p:cNvPr id="221" name="Picture 3" descr="E:\01商乐\05区工作\04课题组\做ppt\19章 生活用电\图\测电笔4.jpg"/>
            <p:cNvPicPr/>
            <p:nvPr/>
          </p:nvPicPr>
          <p:blipFill>
            <a:blip r:embed="rId1"/>
            <a:stretch/>
          </p:blipFill>
          <p:spPr>
            <a:xfrm>
              <a:off x="5364000" y="4005360"/>
              <a:ext cx="346104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矩形 41"/>
            <p:cNvSpPr/>
            <p:nvPr/>
          </p:nvSpPr>
          <p:spPr>
            <a:xfrm>
              <a:off x="5973120" y="5993640"/>
              <a:ext cx="145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试电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1116000" y="1649520"/>
            <a:ext cx="5940000" cy="1908000"/>
            <a:chOff x="1116000" y="1649520"/>
            <a:chExt cx="5940000" cy="1908000"/>
          </a:xfrm>
        </p:grpSpPr>
        <p:sp>
          <p:nvSpPr>
            <p:cNvPr id="224" name="Text Box 17"/>
            <p:cNvSpPr/>
            <p:nvPr/>
          </p:nvSpPr>
          <p:spPr>
            <a:xfrm>
              <a:off x="5435640" y="2657520"/>
              <a:ext cx="82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8"/>
            <p:cNvSpPr/>
            <p:nvPr/>
          </p:nvSpPr>
          <p:spPr>
            <a:xfrm>
              <a:off x="2448000" y="254952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258920" y="1649520"/>
              <a:ext cx="5581440" cy="1440"/>
              <a:chOff x="1258920" y="1649520"/>
              <a:chExt cx="5581440" cy="1440"/>
            </a:xfrm>
          </p:grpSpPr>
          <p:sp>
            <p:nvSpPr>
              <p:cNvPr id="227" name="Line 21"/>
              <p:cNvSpPr/>
              <p:nvPr/>
            </p:nvSpPr>
            <p:spPr>
              <a:xfrm>
                <a:off x="1258920" y="1649520"/>
                <a:ext cx="558144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1258920" y="1649520"/>
                <a:ext cx="558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294920" y="2333880"/>
              <a:ext cx="5545440" cy="1440"/>
              <a:chOff x="1294920" y="2333880"/>
              <a:chExt cx="5545440" cy="1440"/>
            </a:xfrm>
          </p:grpSpPr>
          <p:sp>
            <p:nvSpPr>
              <p:cNvPr id="230" name="Line 22"/>
              <p:cNvSpPr/>
              <p:nvPr/>
            </p:nvSpPr>
            <p:spPr>
              <a:xfrm flipV="1">
                <a:off x="1295280" y="2333880"/>
                <a:ext cx="5545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 rot="10800000">
                <a:off x="1294920" y="2333520"/>
                <a:ext cx="554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92360" y="1649520"/>
              <a:ext cx="360" cy="684360"/>
              <a:chOff x="1692360" y="1649520"/>
              <a:chExt cx="360" cy="684360"/>
            </a:xfrm>
          </p:grpSpPr>
          <p:sp>
            <p:nvSpPr>
              <p:cNvPr id="233" name="Line 39"/>
              <p:cNvSpPr/>
              <p:nvPr/>
            </p:nvSpPr>
            <p:spPr>
              <a:xfrm>
                <a:off x="1692360" y="1649520"/>
                <a:ext cx="0" cy="68436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1692360" y="1649520"/>
                <a:ext cx="360" cy="6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456000" y="1649520"/>
              <a:ext cx="360" cy="1836720"/>
              <a:chOff x="3456000" y="1649520"/>
              <a:chExt cx="360" cy="1836720"/>
            </a:xfrm>
          </p:grpSpPr>
          <p:sp>
            <p:nvSpPr>
              <p:cNvPr id="236" name="Line 40"/>
              <p:cNvSpPr/>
              <p:nvPr/>
            </p:nvSpPr>
            <p:spPr>
              <a:xfrm>
                <a:off x="3456000" y="1649520"/>
                <a:ext cx="0" cy="183672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3456000" y="1649520"/>
                <a:ext cx="360" cy="18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400720" y="2333880"/>
              <a:ext cx="360" cy="1152360"/>
              <a:chOff x="5400720" y="2333880"/>
              <a:chExt cx="360" cy="1152360"/>
            </a:xfrm>
          </p:grpSpPr>
          <p:sp>
            <p:nvSpPr>
              <p:cNvPr id="239" name="Line 41"/>
              <p:cNvSpPr/>
              <p:nvPr/>
            </p:nvSpPr>
            <p:spPr>
              <a:xfrm>
                <a:off x="5400720" y="2333880"/>
                <a:ext cx="0" cy="115236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00720" y="2333880"/>
                <a:ext cx="3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42"/>
            <p:cNvSpPr/>
            <p:nvPr/>
          </p:nvSpPr>
          <p:spPr>
            <a:xfrm>
              <a:off x="1692360" y="175752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0"/>
            <p:cNvGrpSpPr/>
            <p:nvPr/>
          </p:nvGrpSpPr>
          <p:grpSpPr>
            <a:xfrm>
              <a:off x="1116000" y="3449880"/>
              <a:ext cx="5940000" cy="107640"/>
              <a:chOff x="1116000" y="3449880"/>
              <a:chExt cx="5940000" cy="107640"/>
            </a:xfrm>
          </p:grpSpPr>
          <p:sp>
            <p:nvSpPr>
              <p:cNvPr id="243" name="Rectangle 21"/>
              <p:cNvSpPr/>
              <p:nvPr/>
            </p:nvSpPr>
            <p:spPr>
              <a:xfrm>
                <a:off x="1116000" y="3449880"/>
                <a:ext cx="5940000" cy="107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160640" y="3449880"/>
                <a:ext cx="5895360" cy="360"/>
                <a:chOff x="1160640" y="3449880"/>
                <a:chExt cx="5895360" cy="360"/>
              </a:xfrm>
            </p:grpSpPr>
            <p:sp>
              <p:nvSpPr>
                <p:cNvPr id="245" name="Line 22"/>
                <p:cNvSpPr/>
                <p:nvPr/>
              </p:nvSpPr>
              <p:spPr>
                <a:xfrm>
                  <a:off x="1160640" y="3449880"/>
                  <a:ext cx="5895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160640" y="3449880"/>
                  <a:ext cx="589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7" name="Rectangle 23"/>
          <p:cNvSpPr/>
          <p:nvPr/>
        </p:nvSpPr>
        <p:spPr>
          <a:xfrm>
            <a:off x="1154520" y="40622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如何辨别火线和零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火线和零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31640" y="1268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试电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31640" y="180828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辨别火线和零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31640" y="23130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1800360" y="2708280"/>
            <a:ext cx="6217200" cy="2068200"/>
            <a:chOff x="1800360" y="2708280"/>
            <a:chExt cx="6217200" cy="2068200"/>
          </a:xfrm>
        </p:grpSpPr>
        <p:pic>
          <p:nvPicPr>
            <p:cNvPr id="254" name="Picture 7" descr=""/>
            <p:cNvPicPr/>
            <p:nvPr/>
          </p:nvPicPr>
          <p:blipFill>
            <a:blip r:embed="rId1"/>
            <a:stretch/>
          </p:blipFill>
          <p:spPr>
            <a:xfrm>
              <a:off x="1800360" y="3032280"/>
              <a:ext cx="61214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1"/>
            <p:cNvSpPr/>
            <p:nvPr/>
          </p:nvSpPr>
          <p:spPr>
            <a:xfrm>
              <a:off x="3276720" y="274464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氖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4861080" y="2708280"/>
              <a:ext cx="94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电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"/>
            <p:cNvSpPr/>
            <p:nvPr/>
          </p:nvSpPr>
          <p:spPr>
            <a:xfrm>
              <a:off x="6770160" y="42559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笔尖金属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1871640" y="4221000"/>
              <a:ext cx="22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笔尾金属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2124360" y="2852640"/>
              <a:ext cx="98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弹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024360" y="3284640"/>
              <a:ext cx="431640" cy="287280"/>
              <a:chOff x="3024360" y="3284640"/>
              <a:chExt cx="431640" cy="287280"/>
            </a:xfrm>
          </p:grpSpPr>
          <p:sp>
            <p:nvSpPr>
              <p:cNvPr id="261" name="Line 13"/>
              <p:cNvSpPr/>
              <p:nvPr/>
            </p:nvSpPr>
            <p:spPr>
              <a:xfrm>
                <a:off x="3024360" y="3284640"/>
                <a:ext cx="4316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3024360" y="3284640"/>
                <a:ext cx="4316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663640" y="3932280"/>
              <a:ext cx="181440" cy="396720"/>
              <a:chOff x="2663640" y="3932280"/>
              <a:chExt cx="181440" cy="396720"/>
            </a:xfrm>
          </p:grpSpPr>
          <p:sp>
            <p:nvSpPr>
              <p:cNvPr id="264" name="Line 14"/>
              <p:cNvSpPr/>
              <p:nvPr/>
            </p:nvSpPr>
            <p:spPr>
              <a:xfrm flipH="1">
                <a:off x="2663640" y="3932280"/>
                <a:ext cx="181080" cy="3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2664000" y="3932280"/>
                <a:ext cx="1810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345440" y="3787920"/>
              <a:ext cx="216000" cy="468000"/>
              <a:chOff x="7345440" y="3787920"/>
              <a:chExt cx="216000" cy="468000"/>
            </a:xfrm>
          </p:grpSpPr>
          <p:sp>
            <p:nvSpPr>
              <p:cNvPr id="267" name="Line 15"/>
              <p:cNvSpPr/>
              <p:nvPr/>
            </p:nvSpPr>
            <p:spPr>
              <a:xfrm>
                <a:off x="7345440" y="3787920"/>
                <a:ext cx="216000" cy="46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7345440" y="3787920"/>
                <a:ext cx="216000" cy="4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9" name="Picture 16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6696000" cy="2005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"/>
          <p:cNvPicPr/>
          <p:nvPr/>
        </p:nvPicPr>
        <p:blipFill>
          <a:blip r:embed="rId3"/>
          <a:stretch/>
        </p:blipFill>
        <p:spPr>
          <a:xfrm>
            <a:off x="1224000" y="4724280"/>
            <a:ext cx="6659640" cy="1965600"/>
          </a:xfrm>
          <a:prstGeom prst="rect">
            <a:avLst/>
          </a:prstGeom>
          <a:ln w="0">
            <a:noFill/>
          </a:ln>
        </p:spPr>
      </p:pic>
      <p:sp>
        <p:nvSpPr>
          <p:cNvPr id="271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火线和零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8199"/>
          <p:cNvSpPr/>
          <p:nvPr/>
        </p:nvSpPr>
        <p:spPr>
          <a:xfrm>
            <a:off x="241128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431640" y="7952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使用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手接触笔尾的金属体、笔尖金属体接触被测电路。若氖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接触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火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否则为零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01商乐\05区工作\04课题组\做ppt\19章 生活用电\图\19-1-3.jpg"/>
          <p:cNvPicPr/>
          <p:nvPr/>
        </p:nvPicPr>
        <p:blipFill>
          <a:blip r:embed="rId1"/>
          <a:stretch/>
        </p:blipFill>
        <p:spPr>
          <a:xfrm>
            <a:off x="5256360" y="2673360"/>
            <a:ext cx="2741400" cy="3492360"/>
          </a:xfrm>
          <a:prstGeom prst="rect">
            <a:avLst/>
          </a:prstGeom>
          <a:ln w="0">
            <a:noFill/>
          </a:ln>
        </p:spPr>
      </p:pic>
      <p:sp>
        <p:nvSpPr>
          <p:cNvPr id="276" name="矩形 2"/>
          <p:cNvSpPr/>
          <p:nvPr/>
        </p:nvSpPr>
        <p:spPr>
          <a:xfrm>
            <a:off x="431640" y="569736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试电笔的正确使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13-18B"/>
          <p:cNvPicPr/>
          <p:nvPr/>
        </p:nvPicPr>
        <p:blipFill>
          <a:blip r:embed="rId2"/>
          <a:stretch/>
        </p:blipFill>
        <p:spPr>
          <a:xfrm>
            <a:off x="863640" y="2708280"/>
            <a:ext cx="32418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3-18C"/>
          <p:cNvPicPr/>
          <p:nvPr/>
        </p:nvPicPr>
        <p:blipFill>
          <a:blip r:embed="rId1"/>
          <a:stretch/>
        </p:blipFill>
        <p:spPr>
          <a:xfrm>
            <a:off x="1368360" y="2133720"/>
            <a:ext cx="3210120" cy="3348000"/>
          </a:xfrm>
          <a:prstGeom prst="rect">
            <a:avLst/>
          </a:prstGeom>
          <a:ln w="19080">
            <a:solidFill>
              <a:srgbClr val="0066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294000" cy="3348000"/>
          </a:xfrm>
          <a:prstGeom prst="rect">
            <a:avLst/>
          </a:prstGeom>
          <a:ln w="19080">
            <a:solidFill>
              <a:srgbClr val="0066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1" name="矩形 2"/>
          <p:cNvSpPr/>
          <p:nvPr/>
        </p:nvSpPr>
        <p:spPr>
          <a:xfrm>
            <a:off x="431640" y="749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错误的使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431640" y="7491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用电器与零线、火线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31640" y="1268280"/>
            <a:ext cx="78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各用电器（插座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电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31640" y="1844640"/>
            <a:ext cx="82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用电器的开关要连接在火线和用电器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3024360" y="2389320"/>
            <a:ext cx="3600360" cy="4316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431640" y="126828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三线插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E:\01商乐\05区工作\04课题组\做ppt\19章 生活用电\图\19-1-4.jpg"/>
          <p:cNvPicPr/>
          <p:nvPr/>
        </p:nvPicPr>
        <p:blipFill>
          <a:blip r:embed="rId1"/>
          <a:stretch/>
        </p:blipFill>
        <p:spPr>
          <a:xfrm>
            <a:off x="431640" y="2224080"/>
            <a:ext cx="4692960" cy="4125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:\01商乐\05区工作\04课题组\做ppt\19章 生活用电\图\三孔插座1.JPG"/>
          <p:cNvPicPr/>
          <p:nvPr/>
        </p:nvPicPr>
        <p:blipFill>
          <a:blip r:embed="rId2"/>
          <a:stretch/>
        </p:blipFill>
        <p:spPr>
          <a:xfrm>
            <a:off x="5364000" y="3105000"/>
            <a:ext cx="2921040" cy="3249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E:\01商乐\05区工作\04课题组\做ppt\19章 生活用电\图\三孔插销座.jpg"/>
          <p:cNvPicPr/>
          <p:nvPr/>
        </p:nvPicPr>
        <p:blipFill>
          <a:blip r:embed="rId3"/>
          <a:stretch/>
        </p:blipFill>
        <p:spPr>
          <a:xfrm>
            <a:off x="5796000" y="1160640"/>
            <a:ext cx="2700360" cy="1861920"/>
          </a:xfrm>
          <a:prstGeom prst="rect">
            <a:avLst/>
          </a:prstGeom>
          <a:ln w="0">
            <a:noFill/>
          </a:ln>
        </p:spPr>
      </p:pic>
      <p:sp>
        <p:nvSpPr>
          <p:cNvPr id="292" name="矩形 6"/>
          <p:cNvSpPr/>
          <p:nvPr/>
        </p:nvSpPr>
        <p:spPr>
          <a:xfrm>
            <a:off x="6489720" y="576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黑体"/>
              </a:rPr>
              <a:t>三孔插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7"/>
          <p:cNvSpPr/>
          <p:nvPr/>
        </p:nvSpPr>
        <p:spPr>
          <a:xfrm>
            <a:off x="5875560" y="222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黑体"/>
              </a:rPr>
              <a:t>三脚插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279324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三线插头和漏电保护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电能表1"/>
          <p:cNvPicPr/>
          <p:nvPr/>
        </p:nvPicPr>
        <p:blipFill>
          <a:blip r:embed="rId1"/>
          <a:stretch/>
        </p:blipFill>
        <p:spPr>
          <a:xfrm>
            <a:off x="179280" y="907920"/>
            <a:ext cx="2362320" cy="259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19120" y="34354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能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75160" y="299736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插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689880" y="607860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熔断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627280" y="774720"/>
            <a:ext cx="3024360" cy="21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rcRect l="0" t="0" r="0" b="15329"/>
          <a:stretch/>
        </p:blipFill>
        <p:spPr>
          <a:xfrm>
            <a:off x="6084720" y="620640"/>
            <a:ext cx="266724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7721640" y="264312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720" y="602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闸刀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571720" y="1222200"/>
            <a:ext cx="729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灯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05000" y="5084640"/>
            <a:ext cx="1033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断路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插座2"/>
          <p:cNvPicPr/>
          <p:nvPr/>
        </p:nvPicPr>
        <p:blipFill>
          <a:blip r:embed="rId4"/>
          <a:stretch/>
        </p:blipFill>
        <p:spPr>
          <a:xfrm>
            <a:off x="2700360" y="3065400"/>
            <a:ext cx="2663640" cy="173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5"/>
          <a:stretch/>
        </p:blipFill>
        <p:spPr>
          <a:xfrm>
            <a:off x="324000" y="4119480"/>
            <a:ext cx="2089080" cy="197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6"/>
          <a:stretch/>
        </p:blipFill>
        <p:spPr>
          <a:xfrm>
            <a:off x="5796000" y="3716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12"/>
          <p:cNvPicPr/>
          <p:nvPr/>
        </p:nvPicPr>
        <p:blipFill>
          <a:blip r:embed="rId7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断路器"/>
          <p:cNvPicPr/>
          <p:nvPr/>
        </p:nvPicPr>
        <p:blipFill>
          <a:blip r:embed="rId8"/>
          <a:stretch/>
        </p:blipFill>
        <p:spPr>
          <a:xfrm>
            <a:off x="3119400" y="4778280"/>
            <a:ext cx="1452600" cy="2035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7"/>
          <p:cNvSpPr/>
          <p:nvPr/>
        </p:nvSpPr>
        <p:spPr>
          <a:xfrm>
            <a:off x="826920" y="24624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认识它们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22"/>
          <p:cNvPicPr/>
          <p:nvPr/>
        </p:nvPicPr>
        <p:blipFill>
          <a:blip r:embed="rId1"/>
          <a:stretch/>
        </p:blipFill>
        <p:spPr>
          <a:xfrm>
            <a:off x="1600200" y="1521000"/>
            <a:ext cx="5638680" cy="3276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1187280" y="522936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左零右火上接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590920" y="3505320"/>
            <a:ext cx="457200" cy="1752480"/>
          </a:xfrm>
          <a:prstGeom prst="downArrow">
            <a:avLst>
              <a:gd name="adj1" fmla="val 50000"/>
              <a:gd name="adj2" fmla="val 957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952880" y="2276640"/>
            <a:ext cx="2819520" cy="30456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696080" y="990720"/>
            <a:ext cx="45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电器金属外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68360" y="855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插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984920" y="855720"/>
            <a:ext cx="23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插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1871640" y="3860640"/>
            <a:ext cx="4613400" cy="1951560"/>
            <a:chOff x="1871640" y="3860640"/>
            <a:chExt cx="4613400" cy="1951560"/>
          </a:xfrm>
        </p:grpSpPr>
        <p:pic>
          <p:nvPicPr>
            <p:cNvPr id="304" name="Picture 26" descr="2003524151358单相连体二、三极插座"/>
            <p:cNvPicPr/>
            <p:nvPr/>
          </p:nvPicPr>
          <p:blipFill>
            <a:blip r:embed="rId1"/>
            <a:stretch/>
          </p:blipFill>
          <p:spPr>
            <a:xfrm>
              <a:off x="4481640" y="3860640"/>
              <a:ext cx="1827000" cy="15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28" descr="2003524151358单相连体二、三极插座"/>
            <p:cNvPicPr/>
            <p:nvPr/>
          </p:nvPicPr>
          <p:blipFill>
            <a:blip r:embed="rId2"/>
            <a:stretch/>
          </p:blipFill>
          <p:spPr>
            <a:xfrm>
              <a:off x="1871640" y="3933720"/>
              <a:ext cx="1873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35"/>
            <p:cNvSpPr/>
            <p:nvPr/>
          </p:nvSpPr>
          <p:spPr>
            <a:xfrm>
              <a:off x="2009880" y="541332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两孔插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6"/>
            <p:cNvSpPr/>
            <p:nvPr/>
          </p:nvSpPr>
          <p:spPr>
            <a:xfrm>
              <a:off x="4613400" y="541008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三孔插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830240" y="2089080"/>
            <a:ext cx="4932360" cy="360"/>
            <a:chOff x="1830240" y="2089080"/>
            <a:chExt cx="4932360" cy="360"/>
          </a:xfrm>
        </p:grpSpPr>
        <p:sp>
          <p:nvSpPr>
            <p:cNvPr id="309" name="Line 6"/>
            <p:cNvSpPr/>
            <p:nvPr/>
          </p:nvSpPr>
          <p:spPr>
            <a:xfrm>
              <a:off x="1830240" y="2089080"/>
              <a:ext cx="4932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830240" y="2089080"/>
              <a:ext cx="49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6740640" y="178272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火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6721560" y="25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零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830240" y="2793960"/>
            <a:ext cx="4938840" cy="360"/>
            <a:chOff x="1830240" y="2793960"/>
            <a:chExt cx="4938840" cy="360"/>
          </a:xfrm>
        </p:grpSpPr>
        <p:sp>
          <p:nvSpPr>
            <p:cNvPr id="314" name="Line 9"/>
            <p:cNvSpPr/>
            <p:nvPr/>
          </p:nvSpPr>
          <p:spPr>
            <a:xfrm>
              <a:off x="1830240" y="2793960"/>
              <a:ext cx="4938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830240" y="2793960"/>
              <a:ext cx="4938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0"/>
          <p:cNvSpPr/>
          <p:nvPr/>
        </p:nvSpPr>
        <p:spPr>
          <a:xfrm>
            <a:off x="6721560" y="315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接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30240" y="3462480"/>
            <a:ext cx="4932360" cy="360"/>
            <a:chOff x="1830240" y="3462480"/>
            <a:chExt cx="4932360" cy="360"/>
          </a:xfrm>
        </p:grpSpPr>
        <p:sp>
          <p:nvSpPr>
            <p:cNvPr id="318" name="Line 11"/>
            <p:cNvSpPr/>
            <p:nvPr/>
          </p:nvSpPr>
          <p:spPr>
            <a:xfrm>
              <a:off x="1830240" y="3462480"/>
              <a:ext cx="4932360" cy="0"/>
            </a:xfrm>
            <a:prstGeom prst="line">
              <a:avLst/>
            </a:prstGeom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830240" y="3462480"/>
              <a:ext cx="49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70480" y="3459240"/>
            <a:ext cx="360" cy="647640"/>
            <a:chOff x="5370480" y="3459240"/>
            <a:chExt cx="360" cy="647640"/>
          </a:xfrm>
        </p:grpSpPr>
        <p:sp>
          <p:nvSpPr>
            <p:cNvPr id="321" name="Line 13"/>
            <p:cNvSpPr/>
            <p:nvPr/>
          </p:nvSpPr>
          <p:spPr>
            <a:xfrm>
              <a:off x="5370480" y="3459240"/>
              <a:ext cx="0" cy="6476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370480" y="345924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5614920" y="2090520"/>
            <a:ext cx="360360" cy="2500920"/>
            <a:chOff x="5614920" y="2090520"/>
            <a:chExt cx="360360" cy="2500920"/>
          </a:xfrm>
        </p:grpSpPr>
        <p:grpSp>
          <p:nvGrpSpPr>
            <p:cNvPr id="324" name=""/>
            <p:cNvGrpSpPr/>
            <p:nvPr/>
          </p:nvGrpSpPr>
          <p:grpSpPr>
            <a:xfrm>
              <a:off x="5614920" y="4591080"/>
              <a:ext cx="360360" cy="360"/>
              <a:chOff x="5614920" y="4591080"/>
              <a:chExt cx="360360" cy="360"/>
            </a:xfrm>
          </p:grpSpPr>
          <p:sp>
            <p:nvSpPr>
              <p:cNvPr id="325" name="Line 15"/>
              <p:cNvSpPr/>
              <p:nvPr/>
            </p:nvSpPr>
            <p:spPr>
              <a:xfrm>
                <a:off x="5614920" y="459108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5614920" y="459108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974920" y="2090520"/>
              <a:ext cx="360" cy="2500200"/>
              <a:chOff x="5974920" y="2090520"/>
              <a:chExt cx="360" cy="2500200"/>
            </a:xfrm>
          </p:grpSpPr>
          <p:sp>
            <p:nvSpPr>
              <p:cNvPr id="328" name="Line 16"/>
              <p:cNvSpPr/>
              <p:nvPr/>
            </p:nvSpPr>
            <p:spPr>
              <a:xfrm flipV="1">
                <a:off x="5975280" y="2090520"/>
                <a:ext cx="0" cy="2500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 rot="10800000">
                <a:off x="5974920" y="2090520"/>
                <a:ext cx="360" cy="25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7"/>
          <p:cNvGrpSpPr/>
          <p:nvPr/>
        </p:nvGrpSpPr>
        <p:grpSpPr>
          <a:xfrm>
            <a:off x="4751280" y="2809800"/>
            <a:ext cx="397080" cy="1781640"/>
            <a:chOff x="4751280" y="2809800"/>
            <a:chExt cx="397080" cy="1781640"/>
          </a:xfrm>
        </p:grpSpPr>
        <p:grpSp>
          <p:nvGrpSpPr>
            <p:cNvPr id="331" name=""/>
            <p:cNvGrpSpPr/>
            <p:nvPr/>
          </p:nvGrpSpPr>
          <p:grpSpPr>
            <a:xfrm>
              <a:off x="4751280" y="4591080"/>
              <a:ext cx="397080" cy="360"/>
              <a:chOff x="4751280" y="4591080"/>
              <a:chExt cx="397080" cy="360"/>
            </a:xfrm>
          </p:grpSpPr>
          <p:sp>
            <p:nvSpPr>
              <p:cNvPr id="332" name="Line 18"/>
              <p:cNvSpPr/>
              <p:nvPr/>
            </p:nvSpPr>
            <p:spPr>
              <a:xfrm>
                <a:off x="4751280" y="4591080"/>
                <a:ext cx="3970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4751280" y="4591080"/>
                <a:ext cx="3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753800" y="2809800"/>
              <a:ext cx="360" cy="1781280"/>
              <a:chOff x="4753800" y="2809800"/>
              <a:chExt cx="360" cy="1781280"/>
            </a:xfrm>
          </p:grpSpPr>
          <p:sp>
            <p:nvSpPr>
              <p:cNvPr id="335" name="Line 19"/>
              <p:cNvSpPr/>
              <p:nvPr/>
            </p:nvSpPr>
            <p:spPr>
              <a:xfrm flipV="1">
                <a:off x="4754160" y="2809800"/>
                <a:ext cx="0" cy="1781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 rot="10800000">
                <a:off x="4753800" y="2809800"/>
                <a:ext cx="360" cy="17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20"/>
          <p:cNvGrpSpPr/>
          <p:nvPr/>
        </p:nvGrpSpPr>
        <p:grpSpPr>
          <a:xfrm>
            <a:off x="2104920" y="2781360"/>
            <a:ext cx="358920" cy="1945080"/>
            <a:chOff x="2104920" y="2781360"/>
            <a:chExt cx="358920" cy="1945080"/>
          </a:xfrm>
        </p:grpSpPr>
        <p:grpSp>
          <p:nvGrpSpPr>
            <p:cNvPr id="338" name=""/>
            <p:cNvGrpSpPr/>
            <p:nvPr/>
          </p:nvGrpSpPr>
          <p:grpSpPr>
            <a:xfrm>
              <a:off x="2104920" y="4726080"/>
              <a:ext cx="358920" cy="360"/>
              <a:chOff x="2104920" y="4726080"/>
              <a:chExt cx="358920" cy="360"/>
            </a:xfrm>
          </p:grpSpPr>
          <p:sp>
            <p:nvSpPr>
              <p:cNvPr id="339" name="Line 30"/>
              <p:cNvSpPr/>
              <p:nvPr/>
            </p:nvSpPr>
            <p:spPr>
              <a:xfrm>
                <a:off x="2104920" y="4726080"/>
                <a:ext cx="3589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2104920" y="472608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107440" y="2781360"/>
              <a:ext cx="360" cy="1944720"/>
              <a:chOff x="2107440" y="2781360"/>
              <a:chExt cx="360" cy="1944720"/>
            </a:xfrm>
          </p:grpSpPr>
          <p:sp>
            <p:nvSpPr>
              <p:cNvPr id="342" name="Line 31"/>
              <p:cNvSpPr/>
              <p:nvPr/>
            </p:nvSpPr>
            <p:spPr>
              <a:xfrm flipV="1">
                <a:off x="2107800" y="2781360"/>
                <a:ext cx="0" cy="1944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 rot="10800000">
                <a:off x="2107440" y="278136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3"/>
          <p:cNvGrpSpPr/>
          <p:nvPr/>
        </p:nvGrpSpPr>
        <p:grpSpPr>
          <a:xfrm>
            <a:off x="3179880" y="2077920"/>
            <a:ext cx="245880" cy="2664360"/>
            <a:chOff x="3179880" y="2077920"/>
            <a:chExt cx="245880" cy="2664360"/>
          </a:xfrm>
        </p:grpSpPr>
        <p:grpSp>
          <p:nvGrpSpPr>
            <p:cNvPr id="345" name=""/>
            <p:cNvGrpSpPr/>
            <p:nvPr/>
          </p:nvGrpSpPr>
          <p:grpSpPr>
            <a:xfrm>
              <a:off x="3179880" y="4741920"/>
              <a:ext cx="245880" cy="360"/>
              <a:chOff x="3179880" y="4741920"/>
              <a:chExt cx="245880" cy="360"/>
            </a:xfrm>
          </p:grpSpPr>
          <p:sp>
            <p:nvSpPr>
              <p:cNvPr id="346" name="Line 33"/>
              <p:cNvSpPr/>
              <p:nvPr/>
            </p:nvSpPr>
            <p:spPr>
              <a:xfrm>
                <a:off x="3179880" y="4741920"/>
                <a:ext cx="2458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3179880" y="4741920"/>
                <a:ext cx="24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25400" y="2077920"/>
              <a:ext cx="360" cy="2664000"/>
              <a:chOff x="3425400" y="2077920"/>
              <a:chExt cx="360" cy="2664000"/>
            </a:xfrm>
          </p:grpSpPr>
          <p:sp>
            <p:nvSpPr>
              <p:cNvPr id="349" name="Line 34"/>
              <p:cNvSpPr/>
              <p:nvPr/>
            </p:nvSpPr>
            <p:spPr>
              <a:xfrm flipV="1">
                <a:off x="3425760" y="2077920"/>
                <a:ext cx="0" cy="2664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 rot="10800000">
                <a:off x="3425400" y="2077920"/>
                <a:ext cx="360" cy="26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Rectangle 27"/>
          <p:cNvSpPr/>
          <p:nvPr/>
        </p:nvSpPr>
        <p:spPr>
          <a:xfrm>
            <a:off x="721080" y="749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线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E:\01商乐\05区工作\04课题组\做ppt\19章 生活用电\图\19-1-6.jpg"/>
          <p:cNvPicPr/>
          <p:nvPr/>
        </p:nvPicPr>
        <p:blipFill>
          <a:blip r:embed="rId1"/>
          <a:stretch/>
        </p:blipFill>
        <p:spPr>
          <a:xfrm>
            <a:off x="1008000" y="1268280"/>
            <a:ext cx="6791400" cy="53308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6"/>
          <p:cNvSpPr/>
          <p:nvPr/>
        </p:nvSpPr>
        <p:spPr>
          <a:xfrm>
            <a:off x="431640" y="749160"/>
            <a:ext cx="27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漏电保护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小型断路器"/>
          <p:cNvPicPr/>
          <p:nvPr/>
        </p:nvPicPr>
        <p:blipFill>
          <a:blip r:embed="rId1"/>
          <a:stretch/>
        </p:blipFill>
        <p:spPr>
          <a:xfrm>
            <a:off x="34920" y="1628640"/>
            <a:ext cx="5334120" cy="4449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电闸"/>
          <p:cNvPicPr/>
          <p:nvPr/>
        </p:nvPicPr>
        <p:blipFill>
          <a:blip r:embed="rId2"/>
          <a:stretch/>
        </p:blipFill>
        <p:spPr>
          <a:xfrm>
            <a:off x="5219640" y="198900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457200" y="121932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用：替代闸刀开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熔断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95280" y="36360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断路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676520" y="56610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电保护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也是断路器的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E:\01商乐\05区工作\04课题组\做ppt\19章 生活用电\图\19-1-7.jpg"/>
          <p:cNvPicPr/>
          <p:nvPr/>
        </p:nvPicPr>
        <p:blipFill>
          <a:blip r:embed="rId1"/>
          <a:stretch/>
        </p:blipFill>
        <p:spPr>
          <a:xfrm>
            <a:off x="934920" y="2205000"/>
            <a:ext cx="6624720" cy="4392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4"/>
          <p:cNvSpPr/>
          <p:nvPr/>
        </p:nvSpPr>
        <p:spPr>
          <a:xfrm>
            <a:off x="431640" y="1268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空气开关和漏电保护器在电路中分别起什么作用？这样安装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6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8199"/>
          <p:cNvSpPr/>
          <p:nvPr/>
        </p:nvSpPr>
        <p:spPr>
          <a:xfrm>
            <a:off x="3220920" y="668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2"/>
          <p:cNvSpPr/>
          <p:nvPr/>
        </p:nvSpPr>
        <p:spPr>
          <a:xfrm>
            <a:off x="431640" y="1952640"/>
            <a:ext cx="788544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庭电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进户线、电能表、总开关、保险装置、用电器、导线等组成，了解各部分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431640" y="429264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试电笔可以辨别火线和零线，了解三线插头的使用与漏电保护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7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187280" y="1474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插座和用电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187280" y="2276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各用电器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87280" y="30988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用电器和控制它的开关之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串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，且为了安全起见，火线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接开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接用电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258920" y="47941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插座有双孔和三孔之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269360" y="639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发现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0C3-5597-41DE-9F91-D8D6E4C58D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50920" y="2637000"/>
            <a:ext cx="360" cy="2361960"/>
            <a:chOff x="250920" y="2637000"/>
            <a:chExt cx="360" cy="2361960"/>
          </a:xfrm>
        </p:grpSpPr>
        <p:sp>
          <p:nvSpPr>
            <p:cNvPr id="384" name="Line 2"/>
            <p:cNvSpPr/>
            <p:nvPr/>
          </p:nvSpPr>
          <p:spPr>
            <a:xfrm>
              <a:off x="250920" y="2637000"/>
              <a:ext cx="0" cy="23619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250920" y="2637000"/>
              <a:ext cx="360" cy="23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84080" y="2637000"/>
            <a:ext cx="360" cy="1981080"/>
            <a:chOff x="784080" y="2637000"/>
            <a:chExt cx="360" cy="1981080"/>
          </a:xfrm>
        </p:grpSpPr>
        <p:sp>
          <p:nvSpPr>
            <p:cNvPr id="387" name="Line 3"/>
            <p:cNvSpPr/>
            <p:nvPr/>
          </p:nvSpPr>
          <p:spPr>
            <a:xfrm>
              <a:off x="784080" y="2637000"/>
              <a:ext cx="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784080" y="2637000"/>
              <a:ext cx="3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4"/>
          <p:cNvSpPr/>
          <p:nvPr/>
        </p:nvSpPr>
        <p:spPr>
          <a:xfrm>
            <a:off x="1469880" y="2712960"/>
            <a:ext cx="914400" cy="137160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84080" y="4618080"/>
            <a:ext cx="990720" cy="360"/>
            <a:chOff x="784080" y="4618080"/>
            <a:chExt cx="990720" cy="360"/>
          </a:xfrm>
        </p:grpSpPr>
        <p:sp>
          <p:nvSpPr>
            <p:cNvPr id="391" name="Line 5"/>
            <p:cNvSpPr/>
            <p:nvPr/>
          </p:nvSpPr>
          <p:spPr>
            <a:xfrm>
              <a:off x="784080" y="46180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784080" y="46180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0920" y="4998960"/>
            <a:ext cx="1981080" cy="360"/>
            <a:chOff x="250920" y="4998960"/>
            <a:chExt cx="1981080" cy="360"/>
          </a:xfrm>
        </p:grpSpPr>
        <p:sp>
          <p:nvSpPr>
            <p:cNvPr id="394" name="Line 6"/>
            <p:cNvSpPr/>
            <p:nvPr/>
          </p:nvSpPr>
          <p:spPr>
            <a:xfrm>
              <a:off x="250920" y="4998960"/>
              <a:ext cx="19810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250920" y="499896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206800" y="4084560"/>
            <a:ext cx="360" cy="914400"/>
            <a:chOff x="2206800" y="4084560"/>
            <a:chExt cx="360" cy="914400"/>
          </a:xfrm>
        </p:grpSpPr>
        <p:sp>
          <p:nvSpPr>
            <p:cNvPr id="397" name="Line 7"/>
            <p:cNvSpPr/>
            <p:nvPr/>
          </p:nvSpPr>
          <p:spPr>
            <a:xfrm>
              <a:off x="2206800" y="4084560"/>
              <a:ext cx="0" cy="91440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2206800" y="40845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774800" y="4084560"/>
            <a:ext cx="360" cy="533520"/>
            <a:chOff x="1774800" y="4084560"/>
            <a:chExt cx="360" cy="533520"/>
          </a:xfrm>
        </p:grpSpPr>
        <p:sp>
          <p:nvSpPr>
            <p:cNvPr id="400" name="Line 8"/>
            <p:cNvSpPr/>
            <p:nvPr/>
          </p:nvSpPr>
          <p:spPr>
            <a:xfrm>
              <a:off x="1774800" y="408456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1774800" y="408456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927080" y="4084560"/>
            <a:ext cx="360" cy="533520"/>
            <a:chOff x="1927080" y="4084560"/>
            <a:chExt cx="360" cy="533520"/>
          </a:xfrm>
        </p:grpSpPr>
        <p:sp>
          <p:nvSpPr>
            <p:cNvPr id="403" name="Line 9"/>
            <p:cNvSpPr/>
            <p:nvPr/>
          </p:nvSpPr>
          <p:spPr>
            <a:xfrm>
              <a:off x="1927080" y="408456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927080" y="408456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927080" y="4618080"/>
            <a:ext cx="990720" cy="360"/>
            <a:chOff x="1927080" y="4618080"/>
            <a:chExt cx="990720" cy="360"/>
          </a:xfrm>
        </p:grpSpPr>
        <p:sp>
          <p:nvSpPr>
            <p:cNvPr id="406" name="Line 10"/>
            <p:cNvSpPr/>
            <p:nvPr/>
          </p:nvSpPr>
          <p:spPr>
            <a:xfrm>
              <a:off x="1927080" y="46180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927080" y="46180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17800" y="2712960"/>
            <a:ext cx="360" cy="1905120"/>
            <a:chOff x="2917800" y="2712960"/>
            <a:chExt cx="360" cy="1905120"/>
          </a:xfrm>
        </p:grpSpPr>
        <p:sp>
          <p:nvSpPr>
            <p:cNvPr id="409" name="Line 11"/>
            <p:cNvSpPr/>
            <p:nvPr/>
          </p:nvSpPr>
          <p:spPr>
            <a:xfrm>
              <a:off x="2917800" y="271296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2917800" y="271296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917800" y="2712960"/>
            <a:ext cx="1295280" cy="360"/>
            <a:chOff x="2917800" y="2712960"/>
            <a:chExt cx="1295280" cy="360"/>
          </a:xfrm>
        </p:grpSpPr>
        <p:sp>
          <p:nvSpPr>
            <p:cNvPr id="412" name="Line 12"/>
            <p:cNvSpPr/>
            <p:nvPr/>
          </p:nvSpPr>
          <p:spPr>
            <a:xfrm>
              <a:off x="2917800" y="271296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917800" y="271296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308320" y="4084560"/>
            <a:ext cx="360" cy="914400"/>
            <a:chOff x="2308320" y="4084560"/>
            <a:chExt cx="360" cy="914400"/>
          </a:xfrm>
        </p:grpSpPr>
        <p:sp>
          <p:nvSpPr>
            <p:cNvPr id="415" name="Line 13"/>
            <p:cNvSpPr/>
            <p:nvPr/>
          </p:nvSpPr>
          <p:spPr>
            <a:xfrm>
              <a:off x="2308320" y="4084560"/>
              <a:ext cx="0" cy="91440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08320" y="40845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308320" y="4998960"/>
            <a:ext cx="990360" cy="360"/>
            <a:chOff x="2308320" y="4998960"/>
            <a:chExt cx="990360" cy="360"/>
          </a:xfrm>
        </p:grpSpPr>
        <p:sp>
          <p:nvSpPr>
            <p:cNvPr id="418" name="Line 14"/>
            <p:cNvSpPr/>
            <p:nvPr/>
          </p:nvSpPr>
          <p:spPr>
            <a:xfrm>
              <a:off x="2308320" y="4998960"/>
              <a:ext cx="99036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308320" y="499896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73480" y="3094200"/>
            <a:ext cx="360" cy="1904760"/>
            <a:chOff x="3273480" y="3094200"/>
            <a:chExt cx="360" cy="1904760"/>
          </a:xfrm>
        </p:grpSpPr>
        <p:sp>
          <p:nvSpPr>
            <p:cNvPr id="421" name="Line 15"/>
            <p:cNvSpPr/>
            <p:nvPr/>
          </p:nvSpPr>
          <p:spPr>
            <a:xfrm>
              <a:off x="3273480" y="3094200"/>
              <a:ext cx="0" cy="19047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327348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73480" y="3094200"/>
            <a:ext cx="609480" cy="360"/>
            <a:chOff x="3273480" y="3094200"/>
            <a:chExt cx="609480" cy="360"/>
          </a:xfrm>
        </p:grpSpPr>
        <p:sp>
          <p:nvSpPr>
            <p:cNvPr id="424" name="Line 16"/>
            <p:cNvSpPr/>
            <p:nvPr/>
          </p:nvSpPr>
          <p:spPr>
            <a:xfrm>
              <a:off x="3273480" y="3094200"/>
              <a:ext cx="6094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273480" y="30942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57760" y="3094200"/>
            <a:ext cx="360" cy="380880"/>
            <a:chOff x="3857760" y="3094200"/>
            <a:chExt cx="360" cy="380880"/>
          </a:xfrm>
        </p:grpSpPr>
        <p:sp>
          <p:nvSpPr>
            <p:cNvPr id="427" name="Line 17"/>
            <p:cNvSpPr/>
            <p:nvPr/>
          </p:nvSpPr>
          <p:spPr>
            <a:xfrm>
              <a:off x="3857760" y="3094200"/>
              <a:ext cx="0" cy="38088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857760" y="3094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187880" y="2712960"/>
            <a:ext cx="360" cy="762120"/>
            <a:chOff x="4187880" y="2712960"/>
            <a:chExt cx="360" cy="762120"/>
          </a:xfrm>
        </p:grpSpPr>
        <p:sp>
          <p:nvSpPr>
            <p:cNvPr id="430" name="Line 18"/>
            <p:cNvSpPr/>
            <p:nvPr/>
          </p:nvSpPr>
          <p:spPr>
            <a:xfrm>
              <a:off x="4187880" y="2712960"/>
              <a:ext cx="0" cy="762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4187880" y="271296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Rectangle 19"/>
          <p:cNvSpPr/>
          <p:nvPr/>
        </p:nvSpPr>
        <p:spPr>
          <a:xfrm>
            <a:off x="3781440" y="4005360"/>
            <a:ext cx="152280" cy="3808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857760" y="3780000"/>
            <a:ext cx="360" cy="1218960"/>
            <a:chOff x="3857760" y="3780000"/>
            <a:chExt cx="360" cy="1218960"/>
          </a:xfrm>
        </p:grpSpPr>
        <p:sp>
          <p:nvSpPr>
            <p:cNvPr id="434" name="Line 20"/>
            <p:cNvSpPr/>
            <p:nvPr/>
          </p:nvSpPr>
          <p:spPr>
            <a:xfrm>
              <a:off x="3857760" y="3780000"/>
              <a:ext cx="0" cy="12189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857760" y="378000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213080" y="3780000"/>
            <a:ext cx="360" cy="838080"/>
            <a:chOff x="4213080" y="3780000"/>
            <a:chExt cx="360" cy="838080"/>
          </a:xfrm>
        </p:grpSpPr>
        <p:sp>
          <p:nvSpPr>
            <p:cNvPr id="437" name="Line 21"/>
            <p:cNvSpPr/>
            <p:nvPr/>
          </p:nvSpPr>
          <p:spPr>
            <a:xfrm>
              <a:off x="4213080" y="37800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213080" y="378000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857760" y="4998960"/>
            <a:ext cx="1447560" cy="360"/>
            <a:chOff x="3857760" y="4998960"/>
            <a:chExt cx="1447560" cy="360"/>
          </a:xfrm>
        </p:grpSpPr>
        <p:sp>
          <p:nvSpPr>
            <p:cNvPr id="440" name="Line 22"/>
            <p:cNvSpPr/>
            <p:nvPr/>
          </p:nvSpPr>
          <p:spPr>
            <a:xfrm>
              <a:off x="3857760" y="4998960"/>
              <a:ext cx="144756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857760" y="499896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213080" y="4618080"/>
            <a:ext cx="762120" cy="360"/>
            <a:chOff x="4213080" y="4618080"/>
            <a:chExt cx="762120" cy="360"/>
          </a:xfrm>
        </p:grpSpPr>
        <p:sp>
          <p:nvSpPr>
            <p:cNvPr id="443" name="Line 23"/>
            <p:cNvSpPr/>
            <p:nvPr/>
          </p:nvSpPr>
          <p:spPr>
            <a:xfrm>
              <a:off x="4213080" y="461808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4213080" y="4618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75200" y="2712960"/>
            <a:ext cx="360" cy="1905120"/>
            <a:chOff x="4975200" y="2712960"/>
            <a:chExt cx="360" cy="1905120"/>
          </a:xfrm>
        </p:grpSpPr>
        <p:sp>
          <p:nvSpPr>
            <p:cNvPr id="446" name="Line 24"/>
            <p:cNvSpPr/>
            <p:nvPr/>
          </p:nvSpPr>
          <p:spPr>
            <a:xfrm>
              <a:off x="4975200" y="271296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75200" y="271296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80120" y="3094200"/>
            <a:ext cx="360" cy="1904760"/>
            <a:chOff x="5280120" y="3094200"/>
            <a:chExt cx="360" cy="1904760"/>
          </a:xfrm>
        </p:grpSpPr>
        <p:sp>
          <p:nvSpPr>
            <p:cNvPr id="449" name="Line 25"/>
            <p:cNvSpPr/>
            <p:nvPr/>
          </p:nvSpPr>
          <p:spPr>
            <a:xfrm>
              <a:off x="5280120" y="3094200"/>
              <a:ext cx="0" cy="19047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528012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975200" y="2712960"/>
            <a:ext cx="3276720" cy="360"/>
            <a:chOff x="4975200" y="2712960"/>
            <a:chExt cx="3276720" cy="360"/>
          </a:xfrm>
        </p:grpSpPr>
        <p:sp>
          <p:nvSpPr>
            <p:cNvPr id="452" name="Line 26"/>
            <p:cNvSpPr/>
            <p:nvPr/>
          </p:nvSpPr>
          <p:spPr>
            <a:xfrm>
              <a:off x="4975200" y="2712960"/>
              <a:ext cx="3276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975200" y="271296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280120" y="3094200"/>
            <a:ext cx="2895480" cy="360"/>
            <a:chOff x="5280120" y="3094200"/>
            <a:chExt cx="2895480" cy="360"/>
          </a:xfrm>
        </p:grpSpPr>
        <p:sp>
          <p:nvSpPr>
            <p:cNvPr id="455" name="Line 27"/>
            <p:cNvSpPr/>
            <p:nvPr/>
          </p:nvSpPr>
          <p:spPr>
            <a:xfrm>
              <a:off x="5280120" y="3094200"/>
              <a:ext cx="28954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280120" y="309420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813280" y="3094200"/>
            <a:ext cx="360" cy="1904760"/>
            <a:chOff x="5813280" y="3094200"/>
            <a:chExt cx="360" cy="1904760"/>
          </a:xfrm>
        </p:grpSpPr>
        <p:sp>
          <p:nvSpPr>
            <p:cNvPr id="458" name="Line 28"/>
            <p:cNvSpPr/>
            <p:nvPr/>
          </p:nvSpPr>
          <p:spPr>
            <a:xfrm>
              <a:off x="581328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581328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0480" y="2712960"/>
            <a:ext cx="360" cy="2286000"/>
            <a:chOff x="6270480" y="2712960"/>
            <a:chExt cx="360" cy="2286000"/>
          </a:xfrm>
        </p:grpSpPr>
        <p:sp>
          <p:nvSpPr>
            <p:cNvPr id="461" name="Line 29"/>
            <p:cNvSpPr/>
            <p:nvPr/>
          </p:nvSpPr>
          <p:spPr>
            <a:xfrm>
              <a:off x="6270480" y="271296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6270480" y="271296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19720" y="4998960"/>
            <a:ext cx="76320" cy="360"/>
            <a:chOff x="6219720" y="4998960"/>
            <a:chExt cx="76320" cy="360"/>
          </a:xfrm>
        </p:grpSpPr>
        <p:sp>
          <p:nvSpPr>
            <p:cNvPr id="464" name="Line 30"/>
            <p:cNvSpPr/>
            <p:nvPr/>
          </p:nvSpPr>
          <p:spPr>
            <a:xfrm>
              <a:off x="621972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621972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813280" y="4998960"/>
            <a:ext cx="76320" cy="360"/>
            <a:chOff x="5813280" y="4998960"/>
            <a:chExt cx="76320" cy="360"/>
          </a:xfrm>
        </p:grpSpPr>
        <p:sp>
          <p:nvSpPr>
            <p:cNvPr id="467" name="Line 31"/>
            <p:cNvSpPr/>
            <p:nvPr/>
          </p:nvSpPr>
          <p:spPr>
            <a:xfrm>
              <a:off x="581328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581328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75400" y="3094200"/>
            <a:ext cx="360" cy="1904760"/>
            <a:chOff x="6575400" y="3094200"/>
            <a:chExt cx="360" cy="1904760"/>
          </a:xfrm>
        </p:grpSpPr>
        <p:sp>
          <p:nvSpPr>
            <p:cNvPr id="470" name="Line 32"/>
            <p:cNvSpPr/>
            <p:nvPr/>
          </p:nvSpPr>
          <p:spPr>
            <a:xfrm>
              <a:off x="657540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57540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032600" y="2712960"/>
            <a:ext cx="360" cy="990720"/>
            <a:chOff x="7032600" y="2712960"/>
            <a:chExt cx="360" cy="990720"/>
          </a:xfrm>
        </p:grpSpPr>
        <p:sp>
          <p:nvSpPr>
            <p:cNvPr id="473" name="Line 33"/>
            <p:cNvSpPr/>
            <p:nvPr/>
          </p:nvSpPr>
          <p:spPr>
            <a:xfrm>
              <a:off x="7032600" y="27129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7032600" y="271296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032600" y="3946680"/>
            <a:ext cx="360" cy="1066680"/>
            <a:chOff x="7032600" y="3946680"/>
            <a:chExt cx="360" cy="1066680"/>
          </a:xfrm>
        </p:grpSpPr>
        <p:sp>
          <p:nvSpPr>
            <p:cNvPr id="476" name="Line 34"/>
            <p:cNvSpPr/>
            <p:nvPr/>
          </p:nvSpPr>
          <p:spPr>
            <a:xfrm>
              <a:off x="7032600" y="3946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7032600" y="39466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575400" y="4998960"/>
            <a:ext cx="76320" cy="360"/>
            <a:chOff x="6575400" y="4998960"/>
            <a:chExt cx="76320" cy="360"/>
          </a:xfrm>
        </p:grpSpPr>
        <p:sp>
          <p:nvSpPr>
            <p:cNvPr id="479" name="Line 35"/>
            <p:cNvSpPr/>
            <p:nvPr/>
          </p:nvSpPr>
          <p:spPr>
            <a:xfrm>
              <a:off x="657540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657540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48360" y="4998960"/>
            <a:ext cx="76320" cy="360"/>
            <a:chOff x="6948360" y="4998960"/>
            <a:chExt cx="76320" cy="360"/>
          </a:xfrm>
        </p:grpSpPr>
        <p:sp>
          <p:nvSpPr>
            <p:cNvPr id="482" name="Line 36"/>
            <p:cNvSpPr/>
            <p:nvPr/>
          </p:nvSpPr>
          <p:spPr>
            <a:xfrm>
              <a:off x="694836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694836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AutoShape 37"/>
          <p:cNvSpPr/>
          <p:nvPr/>
        </p:nvSpPr>
        <p:spPr>
          <a:xfrm>
            <a:off x="6859440" y="3629160"/>
            <a:ext cx="304920" cy="304560"/>
          </a:xfrm>
          <a:prstGeom prst="flowChartSummingJunction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337520" y="3094200"/>
            <a:ext cx="360" cy="1904760"/>
            <a:chOff x="7337520" y="3094200"/>
            <a:chExt cx="360" cy="1904760"/>
          </a:xfrm>
        </p:grpSpPr>
        <p:sp>
          <p:nvSpPr>
            <p:cNvPr id="486" name="Line 38"/>
            <p:cNvSpPr/>
            <p:nvPr/>
          </p:nvSpPr>
          <p:spPr>
            <a:xfrm>
              <a:off x="733752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733752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870680" y="2712960"/>
            <a:ext cx="360" cy="990720"/>
            <a:chOff x="7870680" y="2712960"/>
            <a:chExt cx="360" cy="990720"/>
          </a:xfrm>
        </p:grpSpPr>
        <p:sp>
          <p:nvSpPr>
            <p:cNvPr id="489" name="Line 39"/>
            <p:cNvSpPr/>
            <p:nvPr/>
          </p:nvSpPr>
          <p:spPr>
            <a:xfrm>
              <a:off x="7870680" y="27129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7870680" y="271296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870680" y="3932280"/>
            <a:ext cx="360" cy="1066680"/>
            <a:chOff x="7870680" y="3932280"/>
            <a:chExt cx="360" cy="1066680"/>
          </a:xfrm>
        </p:grpSpPr>
        <p:sp>
          <p:nvSpPr>
            <p:cNvPr id="492" name="Line 40"/>
            <p:cNvSpPr/>
            <p:nvPr/>
          </p:nvSpPr>
          <p:spPr>
            <a:xfrm>
              <a:off x="7870680" y="39322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7870680" y="39322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337520" y="4998960"/>
            <a:ext cx="152280" cy="360"/>
            <a:chOff x="7337520" y="4998960"/>
            <a:chExt cx="152280" cy="360"/>
          </a:xfrm>
        </p:grpSpPr>
        <p:sp>
          <p:nvSpPr>
            <p:cNvPr id="495" name="Line 41"/>
            <p:cNvSpPr/>
            <p:nvPr/>
          </p:nvSpPr>
          <p:spPr>
            <a:xfrm>
              <a:off x="7337520" y="4998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337520" y="499896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utoShape 42"/>
          <p:cNvSpPr/>
          <p:nvPr/>
        </p:nvSpPr>
        <p:spPr>
          <a:xfrm>
            <a:off x="7439040" y="4846680"/>
            <a:ext cx="304920" cy="304920"/>
          </a:xfrm>
          <a:prstGeom prst="flowChartSummingJunction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743960" y="4998960"/>
            <a:ext cx="152280" cy="360"/>
            <a:chOff x="7743960" y="4998960"/>
            <a:chExt cx="152280" cy="360"/>
          </a:xfrm>
        </p:grpSpPr>
        <p:sp>
          <p:nvSpPr>
            <p:cNvPr id="499" name="Line 43"/>
            <p:cNvSpPr/>
            <p:nvPr/>
          </p:nvSpPr>
          <p:spPr>
            <a:xfrm>
              <a:off x="7743960" y="4998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7743960" y="499896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43000" y="3428640"/>
            <a:ext cx="152280" cy="304920"/>
            <a:chOff x="3843000" y="3428640"/>
            <a:chExt cx="152280" cy="304920"/>
          </a:xfrm>
        </p:grpSpPr>
        <p:sp>
          <p:nvSpPr>
            <p:cNvPr id="502" name="Line 44"/>
            <p:cNvSpPr/>
            <p:nvPr/>
          </p:nvSpPr>
          <p:spPr>
            <a:xfrm flipH="1" flipV="1">
              <a:off x="3843000" y="3428640"/>
              <a:ext cx="152280" cy="30492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 rot="10800000">
              <a:off x="3843000" y="342864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203360" y="3428640"/>
            <a:ext cx="152280" cy="304920"/>
            <a:chOff x="4203360" y="3428640"/>
            <a:chExt cx="152280" cy="304920"/>
          </a:xfrm>
        </p:grpSpPr>
        <p:sp>
          <p:nvSpPr>
            <p:cNvPr id="505" name="Line 45"/>
            <p:cNvSpPr/>
            <p:nvPr/>
          </p:nvSpPr>
          <p:spPr>
            <a:xfrm flipH="1" flipV="1">
              <a:off x="4203360" y="3428640"/>
              <a:ext cx="152280" cy="304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4203360" y="342864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795720" y="4708080"/>
            <a:ext cx="152280" cy="304920"/>
            <a:chOff x="6795720" y="4708080"/>
            <a:chExt cx="152280" cy="304920"/>
          </a:xfrm>
        </p:grpSpPr>
        <p:sp>
          <p:nvSpPr>
            <p:cNvPr id="508" name="Line 46"/>
            <p:cNvSpPr/>
            <p:nvPr/>
          </p:nvSpPr>
          <p:spPr>
            <a:xfrm flipH="1" flipV="1">
              <a:off x="6795720" y="4708080"/>
              <a:ext cx="1522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6795720" y="470808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7"/>
          <p:cNvSpPr/>
          <p:nvPr/>
        </p:nvSpPr>
        <p:spPr>
          <a:xfrm>
            <a:off x="195120" y="2133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8"/>
          <p:cNvSpPr/>
          <p:nvPr/>
        </p:nvSpPr>
        <p:spPr>
          <a:xfrm>
            <a:off x="709560" y="2138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9"/>
          <p:cNvSpPr/>
          <p:nvPr/>
        </p:nvSpPr>
        <p:spPr>
          <a:xfrm>
            <a:off x="160920" y="2138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8381520" y="2443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火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1"/>
          <p:cNvSpPr/>
          <p:nvPr/>
        </p:nvSpPr>
        <p:spPr>
          <a:xfrm>
            <a:off x="8381520" y="2900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1602360" y="25909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电能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404640" y="836640"/>
            <a:ext cx="7767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找别扭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下图中找出你认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合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电路连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4"/>
          <p:cNvSpPr/>
          <p:nvPr/>
        </p:nvSpPr>
        <p:spPr>
          <a:xfrm>
            <a:off x="5791320" y="307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5"/>
          <p:cNvSpPr/>
          <p:nvPr/>
        </p:nvSpPr>
        <p:spPr>
          <a:xfrm>
            <a:off x="7010280" y="2689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6"/>
          <p:cNvSpPr/>
          <p:nvPr/>
        </p:nvSpPr>
        <p:spPr>
          <a:xfrm>
            <a:off x="6553080" y="307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7"/>
          <p:cNvSpPr/>
          <p:nvPr/>
        </p:nvSpPr>
        <p:spPr>
          <a:xfrm>
            <a:off x="6248520" y="2689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8"/>
          <p:cNvSpPr/>
          <p:nvPr/>
        </p:nvSpPr>
        <p:spPr>
          <a:xfrm>
            <a:off x="5923080" y="4853160"/>
            <a:ext cx="304560" cy="3045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9"/>
          <p:cNvSpPr/>
          <p:nvPr/>
        </p:nvSpPr>
        <p:spPr>
          <a:xfrm>
            <a:off x="5864760" y="450864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884720" y="3645000"/>
            <a:ext cx="152280" cy="304560"/>
            <a:chOff x="7884720" y="3645000"/>
            <a:chExt cx="152280" cy="304560"/>
          </a:xfrm>
        </p:grpSpPr>
        <p:sp>
          <p:nvSpPr>
            <p:cNvPr id="524" name="Line 60"/>
            <p:cNvSpPr/>
            <p:nvPr/>
          </p:nvSpPr>
          <p:spPr>
            <a:xfrm flipH="1" flipV="1">
              <a:off x="7884720" y="364500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 rot="10800000">
              <a:off x="7884720" y="364500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455760" y="1976400"/>
            <a:ext cx="783900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庭电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哪些部分组成，能说清楚各部分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431640" y="429264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怎样辨别火线和零线？了解三线插头的使用与漏电保护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4360" y="2116080"/>
            <a:ext cx="7853040" cy="444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31640" y="126828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进户线、电能表、总开关、保险装置、用电器、导线等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176840" y="411120"/>
            <a:ext cx="23752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家庭电路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16000" y="6166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家庭电路的组成和连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3184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652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火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5028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零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056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5867280" y="5444640"/>
            <a:ext cx="2916000" cy="289800"/>
            <a:chOff x="5867280" y="5444640"/>
            <a:chExt cx="2916000" cy="289800"/>
          </a:xfrm>
        </p:grpSpPr>
        <p:grpSp>
          <p:nvGrpSpPr>
            <p:cNvPr id="118" name=""/>
            <p:cNvGrpSpPr/>
            <p:nvPr/>
          </p:nvGrpSpPr>
          <p:grpSpPr>
            <a:xfrm>
              <a:off x="5867280" y="5734080"/>
              <a:ext cx="2916000" cy="360"/>
              <a:chOff x="5867280" y="5734080"/>
              <a:chExt cx="2916000" cy="360"/>
            </a:xfrm>
          </p:grpSpPr>
          <p:sp>
            <p:nvSpPr>
              <p:cNvPr id="119" name="Line 3"/>
              <p:cNvSpPr/>
              <p:nvPr/>
            </p:nvSpPr>
            <p:spPr>
              <a:xfrm>
                <a:off x="5867280" y="5734080"/>
                <a:ext cx="2916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5867280" y="5734080"/>
                <a:ext cx="29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03280" y="5444640"/>
              <a:ext cx="360" cy="287640"/>
              <a:chOff x="5903280" y="5444640"/>
              <a:chExt cx="360" cy="287640"/>
            </a:xfrm>
          </p:grpSpPr>
          <p:sp>
            <p:nvSpPr>
              <p:cNvPr id="122" name="Line 4"/>
              <p:cNvSpPr/>
              <p:nvPr/>
            </p:nvSpPr>
            <p:spPr>
              <a:xfrm flipV="1">
                <a:off x="5903640" y="5444640"/>
                <a:ext cx="0" cy="28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 rot="10800000">
                <a:off x="5903280" y="5444640"/>
                <a:ext cx="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AutoShape 5"/>
          <p:cNvSpPr/>
          <p:nvPr/>
        </p:nvSpPr>
        <p:spPr>
          <a:xfrm>
            <a:off x="6515280" y="5661000"/>
            <a:ext cx="1944360" cy="144360"/>
          </a:xfrm>
          <a:prstGeom prst="rightArrow">
            <a:avLst>
              <a:gd name="adj1" fmla="val 50000"/>
              <a:gd name="adj2" fmla="val 3365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50920" y="1628640"/>
            <a:ext cx="432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电能表上有</a:t>
            </a:r>
            <a:r>
              <a:rPr b="1" lang="en-US" sz="4000" spc="-1" strike="noStrike">
                <a:solidFill>
                  <a:srgbClr val="d60093"/>
                </a:solidFill>
                <a:latin typeface="宋体"/>
              </a:rPr>
              <a:t>_____</a:t>
            </a: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根导线与其连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如何连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14980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72616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805440" y="4933440"/>
            <a:ext cx="50040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738180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电能表1"/>
          <p:cNvPicPr/>
          <p:nvPr/>
        </p:nvPicPr>
        <p:blipFill>
          <a:blip r:embed="rId1"/>
          <a:stretch/>
        </p:blipFill>
        <p:spPr>
          <a:xfrm>
            <a:off x="4356000" y="476280"/>
            <a:ext cx="4329360" cy="47512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2"/>
          <p:cNvGrpSpPr/>
          <p:nvPr/>
        </p:nvGrpSpPr>
        <p:grpSpPr>
          <a:xfrm>
            <a:off x="2124000" y="5446800"/>
            <a:ext cx="3240000" cy="287640"/>
            <a:chOff x="2124000" y="5446800"/>
            <a:chExt cx="3240000" cy="287640"/>
          </a:xfrm>
        </p:grpSpPr>
        <p:grpSp>
          <p:nvGrpSpPr>
            <p:cNvPr id="132" name=""/>
            <p:cNvGrpSpPr/>
            <p:nvPr/>
          </p:nvGrpSpPr>
          <p:grpSpPr>
            <a:xfrm>
              <a:off x="2124000" y="5734080"/>
              <a:ext cx="3240000" cy="360"/>
              <a:chOff x="2124000" y="5734080"/>
              <a:chExt cx="3240000" cy="360"/>
            </a:xfrm>
          </p:grpSpPr>
          <p:sp>
            <p:nvSpPr>
              <p:cNvPr id="133" name="Line 13"/>
              <p:cNvSpPr/>
              <p:nvPr/>
            </p:nvSpPr>
            <p:spPr>
              <a:xfrm>
                <a:off x="2124000" y="5734080"/>
                <a:ext cx="3240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2124000" y="57340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363640" y="5446800"/>
              <a:ext cx="360" cy="287280"/>
              <a:chOff x="5363640" y="5446800"/>
              <a:chExt cx="360" cy="287280"/>
            </a:xfrm>
          </p:grpSpPr>
          <p:sp>
            <p:nvSpPr>
              <p:cNvPr id="136" name="Line 14"/>
              <p:cNvSpPr/>
              <p:nvPr/>
            </p:nvSpPr>
            <p:spPr>
              <a:xfrm flipV="1">
                <a:off x="5364000" y="5446800"/>
                <a:ext cx="0" cy="28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 rot="10800000">
                <a:off x="5363640" y="54468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5"/>
          <p:cNvGrpSpPr/>
          <p:nvPr/>
        </p:nvGrpSpPr>
        <p:grpSpPr>
          <a:xfrm>
            <a:off x="7667280" y="5445000"/>
            <a:ext cx="937080" cy="937080"/>
            <a:chOff x="7667280" y="5445000"/>
            <a:chExt cx="937080" cy="937080"/>
          </a:xfrm>
        </p:grpSpPr>
        <p:grpSp>
          <p:nvGrpSpPr>
            <p:cNvPr id="139" name=""/>
            <p:cNvGrpSpPr/>
            <p:nvPr/>
          </p:nvGrpSpPr>
          <p:grpSpPr>
            <a:xfrm>
              <a:off x="7667640" y="6381720"/>
              <a:ext cx="936720" cy="360"/>
              <a:chOff x="7667640" y="6381720"/>
              <a:chExt cx="936720" cy="360"/>
            </a:xfrm>
          </p:grpSpPr>
          <p:sp>
            <p:nvSpPr>
              <p:cNvPr id="140" name="Line 16"/>
              <p:cNvSpPr/>
              <p:nvPr/>
            </p:nvSpPr>
            <p:spPr>
              <a:xfrm>
                <a:off x="7667640" y="6381720"/>
                <a:ext cx="93672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7667640" y="638172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667280" y="5445000"/>
              <a:ext cx="360" cy="936720"/>
              <a:chOff x="7667280" y="5445000"/>
              <a:chExt cx="360" cy="936720"/>
            </a:xfrm>
          </p:grpSpPr>
          <p:sp>
            <p:nvSpPr>
              <p:cNvPr id="143" name="Line 17"/>
              <p:cNvSpPr/>
              <p:nvPr/>
            </p:nvSpPr>
            <p:spPr>
              <a:xfrm flipV="1">
                <a:off x="7667640" y="5445000"/>
                <a:ext cx="0" cy="93672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10800000">
                <a:off x="7667280" y="5445000"/>
                <a:ext cx="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18"/>
          <p:cNvGrpSpPr/>
          <p:nvPr/>
        </p:nvGrpSpPr>
        <p:grpSpPr>
          <a:xfrm>
            <a:off x="2050920" y="5445000"/>
            <a:ext cx="5042160" cy="937080"/>
            <a:chOff x="2050920" y="5445000"/>
            <a:chExt cx="5042160" cy="937080"/>
          </a:xfrm>
        </p:grpSpPr>
        <p:grpSp>
          <p:nvGrpSpPr>
            <p:cNvPr id="146" name=""/>
            <p:cNvGrpSpPr/>
            <p:nvPr/>
          </p:nvGrpSpPr>
          <p:grpSpPr>
            <a:xfrm>
              <a:off x="2050920" y="6381720"/>
              <a:ext cx="5040360" cy="360"/>
              <a:chOff x="2050920" y="6381720"/>
              <a:chExt cx="5040360" cy="360"/>
            </a:xfrm>
          </p:grpSpPr>
          <p:sp>
            <p:nvSpPr>
              <p:cNvPr id="147" name="Line 19"/>
              <p:cNvSpPr/>
              <p:nvPr/>
            </p:nvSpPr>
            <p:spPr>
              <a:xfrm>
                <a:off x="2050920" y="6381720"/>
                <a:ext cx="504036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050920" y="6381720"/>
                <a:ext cx="50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92720" y="5445000"/>
              <a:ext cx="360" cy="936720"/>
              <a:chOff x="7092720" y="5445000"/>
              <a:chExt cx="360" cy="936720"/>
            </a:xfrm>
          </p:grpSpPr>
          <p:sp>
            <p:nvSpPr>
              <p:cNvPr id="150" name="Line 20"/>
              <p:cNvSpPr/>
              <p:nvPr/>
            </p:nvSpPr>
            <p:spPr>
              <a:xfrm flipV="1">
                <a:off x="7093080" y="5445000"/>
                <a:ext cx="0" cy="93672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 rot="10800000">
                <a:off x="7092720" y="5445000"/>
                <a:ext cx="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21"/>
          <p:cNvSpPr/>
          <p:nvPr/>
        </p:nvSpPr>
        <p:spPr>
          <a:xfrm>
            <a:off x="2771640" y="5661000"/>
            <a:ext cx="1944720" cy="144360"/>
          </a:xfrm>
          <a:prstGeom prst="rightArrow">
            <a:avLst>
              <a:gd name="adj1" fmla="val 50000"/>
              <a:gd name="adj2" fmla="val 3366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987640" y="6308640"/>
            <a:ext cx="1944720" cy="142920"/>
          </a:xfrm>
          <a:prstGeom prst="rightArrow">
            <a:avLst>
              <a:gd name="adj1" fmla="val 50000"/>
              <a:gd name="adj2" fmla="val 34005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7667640" y="6308640"/>
            <a:ext cx="720720" cy="144720"/>
          </a:xfrm>
          <a:prstGeom prst="rightArrow">
            <a:avLst>
              <a:gd name="adj1" fmla="val 50000"/>
              <a:gd name="adj2" fmla="val 124456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58200" y="4076640"/>
            <a:ext cx="29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,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</a:t>
            </a:r>
            <a:r>
              <a:rPr b="1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;2,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5"/>
          <p:cNvSpPr txBox="1"/>
          <p:nvPr/>
        </p:nvSpPr>
        <p:spPr>
          <a:xfrm>
            <a:off x="250920" y="40464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：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3253680" y="1574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908000" y="40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能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7"/>
          <p:cNvSpPr/>
          <p:nvPr/>
        </p:nvSpPr>
        <p:spPr>
          <a:xfrm>
            <a:off x="431640" y="7491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电能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01760" y="1366920"/>
            <a:ext cx="37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3164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431640" y="1989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测量用电器消耗电能的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431640" y="3645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安装在干路上，在总开关之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31640" y="5337000"/>
            <a:ext cx="33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.4 kw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17600" y="4743360"/>
            <a:ext cx="32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}KEZ(UDOQZM[I4Y7NKP5KUF"/>
          <p:cNvPicPr/>
          <p:nvPr/>
        </p:nvPicPr>
        <p:blipFill>
          <a:blip r:embed="rId1"/>
          <a:stretch/>
        </p:blipFill>
        <p:spPr>
          <a:xfrm>
            <a:off x="4788000" y="765000"/>
            <a:ext cx="3686040" cy="568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:\01商乐\05区工作\04课题组\做ppt\19章 生活用电\图\保险总开关.JPG"/>
          <p:cNvPicPr/>
          <p:nvPr/>
        </p:nvPicPr>
        <p:blipFill>
          <a:blip r:embed="rId1"/>
          <a:stretch/>
        </p:blipFill>
        <p:spPr>
          <a:xfrm>
            <a:off x="934920" y="2492280"/>
            <a:ext cx="2006640" cy="336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7"/>
          <p:cNvSpPr/>
          <p:nvPr/>
        </p:nvSpPr>
        <p:spPr>
          <a:xfrm>
            <a:off x="431640" y="7491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总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431640" y="1268280"/>
            <a:ext cx="828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串联在干路中，控制室内全部电路的通与断。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家庭配电箱"/>
          <p:cNvPicPr/>
          <p:nvPr/>
        </p:nvPicPr>
        <p:blipFill>
          <a:blip r:embed="rId2"/>
          <a:stretch/>
        </p:blipFill>
        <p:spPr>
          <a:xfrm>
            <a:off x="3492360" y="2457360"/>
            <a:ext cx="5004000" cy="375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456000" y="2276640"/>
            <a:ext cx="5184720" cy="4054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431640" y="74916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保险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31640" y="1268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31640" y="2139840"/>
            <a:ext cx="26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31640" y="298764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注意：选用合适规格的保险丝，不能用铜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者铁丝代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698920" y="1268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电路中电流过大时，保险丝熔断，自动切断电路，起到保护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700360" y="21225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电阻率较大、熔点较低的铅锑合金制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847800" y="3862440"/>
            <a:ext cx="3187800" cy="2845080"/>
            <a:chOff x="847800" y="3862440"/>
            <a:chExt cx="3187800" cy="2845080"/>
          </a:xfrm>
        </p:grpSpPr>
        <p:pic>
          <p:nvPicPr>
            <p:cNvPr id="181" name="Picture 8" descr="保险盒"/>
            <p:cNvPicPr/>
            <p:nvPr/>
          </p:nvPicPr>
          <p:blipFill>
            <a:blip r:embed="rId1"/>
            <a:stretch/>
          </p:blipFill>
          <p:spPr>
            <a:xfrm>
              <a:off x="847800" y="3862440"/>
              <a:ext cx="31878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9"/>
            <p:cNvSpPr/>
            <p:nvPr/>
          </p:nvSpPr>
          <p:spPr>
            <a:xfrm>
              <a:off x="851040" y="63086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插入式保险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2"/>
          <p:cNvSpPr/>
          <p:nvPr/>
        </p:nvSpPr>
        <p:spPr>
          <a:xfrm>
            <a:off x="5508720" y="63453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保险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E:\01商乐\05区工作\04课题组\做ppt\19章 生活用电\图\保险盒.JPG"/>
          <p:cNvPicPr/>
          <p:nvPr/>
        </p:nvPicPr>
        <p:blipFill>
          <a:blip r:embed="rId2"/>
          <a:stretch/>
        </p:blipFill>
        <p:spPr>
          <a:xfrm>
            <a:off x="4859280" y="3968640"/>
            <a:ext cx="3213000" cy="2432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2Z</dcterms:modified>
  <cp:revision>4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