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5.jpeg" ContentType="image/jpeg"/>
  <Override PartName="/ppt/media/type.wav" ContentType="audio/x-wav"/>
  <Override PartName="/ppt/media/cashreg.wav" ContentType="audio/x-wav"/>
  <Override PartName="/ppt/media/camera.wav" ContentType="audio/x-wav"/>
  <Override PartName="/ppt/media/chimes.wav" ContentType="audio/x-wav"/>
  <Override PartName="/ppt/media/image14.png" ContentType="image/png"/>
  <Override PartName="/ppt/media/image13.jpeg" ContentType="image/jpeg"/>
  <Override PartName="/ppt/media/projctor.wav" ContentType="audio/x-wav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CFA-35D7-484A-B7C7-C5213FAE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8C7-D076-4060-8A61-CFFE8170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C08FC-5637-4761-B5AC-9AC986C2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65939-25CF-4EA8-8AA3-4C8AE7E1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F7227-DB53-41BE-A9FC-B3F6444A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24FF5-E5E4-4FAE-A59D-3805B3C2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0B3B1-2F1B-4B02-84F9-22F41647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881F0-5080-48B6-9F60-6216E21F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BCEDB-F8D3-4DA7-8F5A-89EDCA48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1134F-691E-44B5-AE70-310AFF6C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7D57A-96D8-4186-A853-AB2A468C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6CD17-D451-46FD-B474-B45041A5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2FE-E853-49F7-9779-6B1E1950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5D18D-F35C-40AF-932B-29C9D34E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ED474-2457-4730-AA6E-97CE6320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BCFE7-9DF5-45C1-9D50-F48078DE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28D53-7A54-49E8-8743-094CFD04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2F5F4-4C0B-4DB9-80D6-7CA05E1E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561C5-E352-4593-9A6D-62A453B8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932A6-B965-49D8-BE9A-02CD0374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FE92E-BC7F-46DD-B143-706069C0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C6651-15B5-4B39-97DB-BF0FB479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88151-151F-445D-A327-9E8058BC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76A-890C-42F7-9C29-0804A8D0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EE01F-85FA-4A36-B691-72C23269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93D90-A061-496F-A1E0-CB1E5B17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CFC10-C354-4E2C-BE81-49777E33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2063E-99E1-4F47-B2CB-41C7ADA0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7056A-676E-4BD6-A05F-2B1CFFB7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DB059-1FF9-478D-BD78-4092F5A9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B71FF-8A11-435E-B308-FFE878AC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9893A-78C5-4C6E-B9BD-970BD0CF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39C8E-14C4-4CA4-9398-A0770EA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4D805-DC01-43AE-A1FA-CF29DDD5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0258-A724-47F9-82A2-F0A7B77A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B51C5-73CF-44A7-A0EB-802F1800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31214-64D0-4322-B412-63B43076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70E30-47E7-4508-9002-887C9670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3D0CF-75CC-4B89-87DF-CD94F989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33093-CA91-4F4B-A0BC-3BE883C2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D49EF-569F-4202-86BD-D65D5A3D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C9AE4-09DB-4F56-8F05-7AA19193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F23F9-EC58-42E8-A792-959FC27D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BB59D-812F-4D38-8CCE-521B28C8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44F05-A7F6-4187-B2C7-006C9701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B439-9470-419F-8D40-C9B8B379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47C88-3049-4800-8F9E-35FC220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D4293-984E-4CFE-8EFE-2EC57072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83782-A5B6-4B71-9D5C-47180CC7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43377-2F56-43B5-88B5-AFA15D5A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43FC6-F889-4C19-B2EE-563A3882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84592-C818-4436-B6F5-E4AE3743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29F5A-71AE-4AFF-B961-D37AA156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FF8DD-7541-416E-977E-2297CAAC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3FBA2-AC9E-4089-AABE-2B9CC00D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BC0BF-454F-4276-81F9-ECFDE0C3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C18E-3AF6-43A5-ABAE-B9E673A6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639A8-ADF4-4221-8117-5387AA0D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568FC-5DC9-46C7-9038-69DB13D7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4E53E-019C-44FB-93CC-96BF988D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83AA3-29DF-4487-9087-5DBC0144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C6DFB-37A7-4F90-9F4B-F8F615FB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E6B9F-187A-41AF-8D0B-8B78D1D1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E274D-2BF3-4BF8-8225-6317274B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AB5C-FEFC-435D-8302-5A3BEB74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1C77-9703-4184-856B-FF902168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4E3F-07A8-4E30-AEF9-648A7B31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235D-8879-4695-B51D-8E185B43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FC8-E236-4C78-A83C-9BFD04B4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8F46-263D-4FF3-AA46-713A14A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3339-D102-45AD-A28C-35B5694E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ED2B-E4A8-40E6-9243-2EDE1B9E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1532-9499-482C-B9B0-E69CB2D5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B549-1186-4C87-8A6D-16C891E3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3E17-1E3C-4D4F-B133-A128C479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2DCC-98E3-4814-9C76-8C7A50E6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38CE-E17C-4A81-8676-D4C893EC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D532-F6DF-4D26-8CA6-FC8618FD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EA44-CDA6-40F7-8DAD-2FB9227E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3D3-3A5F-4C5C-B888-FC294FE4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297B-9375-4662-A0A6-AF394FDE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CC77-A108-480B-952D-43CCC2FB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AADE-39D7-4B84-B02B-D14AF7D2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18AA-49CE-4A93-ABD9-8DB0259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5921-48F0-45B5-986A-22A34529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449EB-279D-42A8-9F50-6A033ECE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C5178-559F-49FC-9BA4-D066970C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2B72B-8555-49D8-A6F7-D4F307B76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15987-849D-4705-9010-B20D152D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99640-2CBF-4A15-AAB9-C1C6D6C3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2D4-DD02-47AE-B87A-DE7D6C99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967A8-E305-48D8-998B-DD725C7B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E2FFE-F53E-4C5A-B4C3-F9C55C09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BC064-9F70-4D32-8E93-F5D5CB4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DD76-9ADD-483F-A473-31F03C26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6D14-86AB-4C48-9FFF-69AB70F5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46F77-E30E-43D6-A779-1DCFD339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C42D-CC71-432E-B4D2-6E09343F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40A5-A51E-4F4E-8FB8-9E7B4F23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EAF6D-E324-4EB6-AC88-E6E92552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BFEA5-A488-4916-8163-7EA4405A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B6A-CF26-4617-8534-202F40CA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8797A-D40C-42DD-A115-349622AC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B80E1-768C-4252-9E1D-4C580953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BBE9-370E-4867-9CDA-44CB6392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7F422-3EC3-4B52-B741-EA9F17D9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6A9F6-BD82-429E-88BE-19B1FB47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341A7-9C27-419F-8CD9-F617837E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6F5E3-9A45-4268-80AC-031DC2A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9E83E-6378-4248-B179-E049D019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92662-AA9C-4F57-9EF8-FE3A7996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C6A32-4537-4912-B956-6F38CB18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72C-EDEC-4A9B-A17B-0AA5B3B1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07928-3107-45A9-A891-5A36A506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57E2F-93FC-44A6-A857-5D94E561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3C595-6580-42D9-80F2-8326990F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1CC26-01AE-458E-A88E-B7CF6A5F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90FF4-9626-4156-A412-9581DCC1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AC35E-00F7-4210-A57C-9743556D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769F8-B29F-47E4-BE6E-1D344995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E3469-2F3A-4DD1-A484-81DAC8AE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A4BDC-9E2F-4CED-97A6-D208CB92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9C1F5-0E04-4886-B012-F60ABA18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6CD-B4AA-4B03-9165-9F4FDF7A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3E643-50B8-45FA-B39F-B7109660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7016E-AE5A-41E6-B719-7E68B916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5F559-2B06-47EF-B632-362D5648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2841A-6115-4F9D-93E2-7D468751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4D9C5-88E8-4C8A-A150-44B5996C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60512-E274-4C46-A68B-D5A14651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C72EE-301F-4351-80F9-6077938C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F9566-1599-46EE-AF26-59BC4925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2E0A8-4F4F-419E-BDC5-E4FDA352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A4E42-38E2-49F5-9FF8-0E99B77E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928-79D6-415D-8563-1B6F7E63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25B78-D938-4D8C-AFDE-37624034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4C64D-EBDA-454D-B9D5-0C0D3C8C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02326-3F40-44D9-9729-2A15C3FF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194DA-6A03-4175-9DC8-4419CEDA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2D9DF-390D-422D-8152-13F58B24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4FE84-4362-444B-95F8-EA26FFE0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7727B-2A9C-48FA-9019-C3D45618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49254-114B-4E79-A9F8-C2BF4EB4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C9AB1-EF4E-4A8C-878D-84E3C89A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1D012-20D9-403C-8B13-AD811B3B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CAB-9CF1-4963-AB7D-639B6B46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75F80-D921-4230-A089-522527E5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A9BCD-C440-468C-B776-42896B56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65D25-96FC-43A1-B5D5-5E80B97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21CA6-D7C7-41FF-B6C5-13EB0F7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A3065-0C9C-4727-BEDC-935C75CE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46218-46B6-4621-BDB2-D8E45C9E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39730-ED1C-4067-98F1-4628565C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6E06A-13E9-49B8-B55B-57C3B21D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AC074-0473-4FEA-923A-373047A7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7AA24-84D7-4A48-B8CB-F8DA5771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5D03-DF04-458D-8E58-01C9E7727B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171A-4DD4-425A-866F-5F6E147B5D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BEB9-6ECD-4D4B-8830-AC56262E6C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dt" idx="3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ftr" idx="3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sldNum" idx="3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11F5-305C-4188-938D-78DBE86232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3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3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91BA-FAAE-451F-8AD3-7BDB1D90D7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2288-5B8C-4B04-983A-3EBDF36E94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228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9F4A-D96C-4FDA-B5EB-4DF69998EE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8F10-0B55-497A-9D64-D3DE114B35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0B71-5B16-4CA9-B163-4F32CC8230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75CE-A9C5-4946-8DB0-F39F7D7423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498C-DEC0-4C13-BBCF-F59A2E0D8D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C29F-006C-4126-A6F7-1724D56375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18f96"/>
            </a:gs>
            <a:gs pos="100000">
              <a:srgbClr val="df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2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2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2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57DF-9012-4A5A-BB03-C32D0762A7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矩形 1"/>
          <p:cNvSpPr/>
          <p:nvPr/>
        </p:nvSpPr>
        <p:spPr>
          <a:xfrm>
            <a:off x="900000" y="2565360"/>
            <a:ext cx="758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节 家庭电路中电流过大的原因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2"/>
          <p:cNvSpPr/>
          <p:nvPr/>
        </p:nvSpPr>
        <p:spPr>
          <a:xfrm>
            <a:off x="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十九章 生活用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矩形 3"/>
          <p:cNvSpPr/>
          <p:nvPr/>
        </p:nvSpPr>
        <p:spPr>
          <a:xfrm>
            <a:off x="531720" y="382680"/>
            <a:ext cx="63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义 务 教 育 教 科 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物理 九年级 全一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2"/>
          <p:cNvGrpSpPr/>
          <p:nvPr/>
        </p:nvGrpSpPr>
        <p:grpSpPr>
          <a:xfrm>
            <a:off x="1476360" y="2997360"/>
            <a:ext cx="2743200" cy="2057400"/>
            <a:chOff x="1476360" y="2997360"/>
            <a:chExt cx="2743200" cy="2057400"/>
          </a:xfrm>
        </p:grpSpPr>
        <p:sp>
          <p:nvSpPr>
            <p:cNvPr id="886" name="Text Box 3"/>
            <p:cNvSpPr/>
            <p:nvPr/>
          </p:nvSpPr>
          <p:spPr>
            <a:xfrm>
              <a:off x="3762360" y="38354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Group 4"/>
            <p:cNvGrpSpPr/>
            <p:nvPr/>
          </p:nvGrpSpPr>
          <p:grpSpPr>
            <a:xfrm>
              <a:off x="1476360" y="2997360"/>
              <a:ext cx="2667240" cy="2057400"/>
              <a:chOff x="1476360" y="2997360"/>
              <a:chExt cx="2667240" cy="2057400"/>
            </a:xfrm>
          </p:grpSpPr>
          <p:grpSp>
            <p:nvGrpSpPr>
              <p:cNvPr id="888" name="Group 5"/>
              <p:cNvGrpSpPr/>
              <p:nvPr/>
            </p:nvGrpSpPr>
            <p:grpSpPr>
              <a:xfrm>
                <a:off x="3686400" y="3835440"/>
                <a:ext cx="457200" cy="457200"/>
                <a:chOff x="3686400" y="3835440"/>
                <a:chExt cx="457200" cy="457200"/>
              </a:xfrm>
            </p:grpSpPr>
            <p:sp>
              <p:nvSpPr>
                <p:cNvPr id="889" name="Oval 6"/>
                <p:cNvSpPr/>
                <p:nvPr/>
              </p:nvSpPr>
              <p:spPr>
                <a:xfrm>
                  <a:off x="3686400" y="3835440"/>
                  <a:ext cx="45720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0" name="Group 7"/>
                <p:cNvGrpSpPr/>
                <p:nvPr/>
              </p:nvGrpSpPr>
              <p:grpSpPr>
                <a:xfrm>
                  <a:off x="3762000" y="3911760"/>
                  <a:ext cx="305280" cy="304920"/>
                  <a:chOff x="3762000" y="3911760"/>
                  <a:chExt cx="305280" cy="304920"/>
                </a:xfrm>
              </p:grpSpPr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3762000" y="3911760"/>
                    <a:ext cx="305280" cy="304920"/>
                    <a:chOff x="3762000" y="3911760"/>
                    <a:chExt cx="305280" cy="304920"/>
                  </a:xfrm>
                </p:grpSpPr>
                <p:sp>
                  <p:nvSpPr>
                    <p:cNvPr id="892" name="Line 8"/>
                    <p:cNvSpPr/>
                    <p:nvPr/>
                  </p:nvSpPr>
                  <p:spPr>
                    <a:xfrm flipH="1">
                      <a:off x="3762000" y="3911760"/>
                      <a:ext cx="304920" cy="304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"/>
                    <p:cNvSpPr txBox="1"/>
                    <p:nvPr/>
                  </p:nvSpPr>
                  <p:spPr>
                    <a:xfrm>
                      <a:off x="3762360" y="3911760"/>
                      <a:ext cx="30492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4" name=""/>
                  <p:cNvGrpSpPr/>
                  <p:nvPr/>
                </p:nvGrpSpPr>
                <p:grpSpPr>
                  <a:xfrm>
                    <a:off x="3762360" y="3911760"/>
                    <a:ext cx="304920" cy="304920"/>
                    <a:chOff x="3762360" y="3911760"/>
                    <a:chExt cx="304920" cy="304920"/>
                  </a:xfrm>
                </p:grpSpPr>
                <p:sp>
                  <p:nvSpPr>
                    <p:cNvPr id="895" name="Line 9"/>
                    <p:cNvSpPr/>
                    <p:nvPr/>
                  </p:nvSpPr>
                  <p:spPr>
                    <a:xfrm>
                      <a:off x="3762360" y="3911760"/>
                      <a:ext cx="304920" cy="304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"/>
                    <p:cNvSpPr txBox="1"/>
                    <p:nvPr/>
                  </p:nvSpPr>
                  <p:spPr>
                    <a:xfrm>
                      <a:off x="3762360" y="3911760"/>
                      <a:ext cx="30492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7" name="Group 10"/>
              <p:cNvGrpSpPr/>
              <p:nvPr/>
            </p:nvGrpSpPr>
            <p:grpSpPr>
              <a:xfrm>
                <a:off x="1476360" y="2997360"/>
                <a:ext cx="2514600" cy="2057400"/>
                <a:chOff x="1476360" y="2997360"/>
                <a:chExt cx="2514600" cy="2057400"/>
              </a:xfrm>
            </p:grpSpPr>
            <p:sp>
              <p:nvSpPr>
                <p:cNvPr id="898" name="Oval 11"/>
                <p:cNvSpPr/>
                <p:nvPr/>
              </p:nvSpPr>
              <p:spPr>
                <a:xfrm>
                  <a:off x="1476360" y="3225960"/>
                  <a:ext cx="152640" cy="152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9" name=""/>
                <p:cNvGrpSpPr/>
                <p:nvPr/>
              </p:nvGrpSpPr>
              <p:grpSpPr>
                <a:xfrm>
                  <a:off x="1629000" y="3302280"/>
                  <a:ext cx="914400" cy="360"/>
                  <a:chOff x="1629000" y="3302280"/>
                  <a:chExt cx="914400" cy="360"/>
                </a:xfrm>
              </p:grpSpPr>
              <p:sp>
                <p:nvSpPr>
                  <p:cNvPr id="900" name="Line 12"/>
                  <p:cNvSpPr/>
                  <p:nvPr/>
                </p:nvSpPr>
                <p:spPr>
                  <a:xfrm>
                    <a:off x="1629000" y="330228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 txBox="1"/>
                  <p:nvPr/>
                </p:nvSpPr>
                <p:spPr>
                  <a:xfrm>
                    <a:off x="1629000" y="330228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2" name="Oval 13"/>
                <p:cNvSpPr/>
                <p:nvPr/>
              </p:nvSpPr>
              <p:spPr>
                <a:xfrm>
                  <a:off x="2543400" y="3073680"/>
                  <a:ext cx="457200" cy="45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4"/>
                <p:cNvSpPr/>
                <p:nvPr/>
              </p:nvSpPr>
              <p:spPr>
                <a:xfrm>
                  <a:off x="2543400" y="2997360"/>
                  <a:ext cx="838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3000600" y="3302280"/>
                  <a:ext cx="838080" cy="360"/>
                  <a:chOff x="3000600" y="3302280"/>
                  <a:chExt cx="838080" cy="360"/>
                </a:xfrm>
              </p:grpSpPr>
              <p:sp>
                <p:nvSpPr>
                  <p:cNvPr id="905" name="Line 15"/>
                  <p:cNvSpPr/>
                  <p:nvPr/>
                </p:nvSpPr>
                <p:spPr>
                  <a:xfrm>
                    <a:off x="3000600" y="33022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 txBox="1"/>
                  <p:nvPr/>
                </p:nvSpPr>
                <p:spPr>
                  <a:xfrm>
                    <a:off x="3000600" y="3302280"/>
                    <a:ext cx="838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7" name="Oval 16"/>
                <p:cNvSpPr/>
                <p:nvPr/>
              </p:nvSpPr>
              <p:spPr>
                <a:xfrm>
                  <a:off x="3838680" y="322596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8" name=""/>
                <p:cNvGrpSpPr/>
                <p:nvPr/>
              </p:nvGrpSpPr>
              <p:grpSpPr>
                <a:xfrm>
                  <a:off x="3915000" y="3378240"/>
                  <a:ext cx="360" cy="457200"/>
                  <a:chOff x="3915000" y="3378240"/>
                  <a:chExt cx="360" cy="457200"/>
                </a:xfrm>
              </p:grpSpPr>
              <p:sp>
                <p:nvSpPr>
                  <p:cNvPr id="909" name="Line 17"/>
                  <p:cNvSpPr/>
                  <p:nvPr/>
                </p:nvSpPr>
                <p:spPr>
                  <a:xfrm>
                    <a:off x="3915000" y="3378240"/>
                    <a:ext cx="0" cy="457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 txBox="1"/>
                  <p:nvPr/>
                </p:nvSpPr>
                <p:spPr>
                  <a:xfrm>
                    <a:off x="3915000" y="337824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"/>
                <p:cNvGrpSpPr/>
                <p:nvPr/>
              </p:nvGrpSpPr>
              <p:grpSpPr>
                <a:xfrm>
                  <a:off x="3915000" y="4292640"/>
                  <a:ext cx="360" cy="533520"/>
                  <a:chOff x="3915000" y="4292640"/>
                  <a:chExt cx="360" cy="533520"/>
                </a:xfrm>
              </p:grpSpPr>
              <p:sp>
                <p:nvSpPr>
                  <p:cNvPr id="912" name="Line 18"/>
                  <p:cNvSpPr/>
                  <p:nvPr/>
                </p:nvSpPr>
                <p:spPr>
                  <a:xfrm>
                    <a:off x="3915000" y="4292640"/>
                    <a:ext cx="0" cy="5335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 txBox="1"/>
                  <p:nvPr/>
                </p:nvSpPr>
                <p:spPr>
                  <a:xfrm>
                    <a:off x="3915000" y="4292640"/>
                    <a:ext cx="360" cy="53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4" name="Oval 19"/>
                <p:cNvSpPr/>
                <p:nvPr/>
              </p:nvSpPr>
              <p:spPr>
                <a:xfrm>
                  <a:off x="3838680" y="482616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5" name=""/>
                <p:cNvGrpSpPr/>
                <p:nvPr/>
              </p:nvGrpSpPr>
              <p:grpSpPr>
                <a:xfrm>
                  <a:off x="3076200" y="4902480"/>
                  <a:ext cx="762480" cy="360"/>
                  <a:chOff x="3076200" y="4902480"/>
                  <a:chExt cx="762480" cy="360"/>
                </a:xfrm>
              </p:grpSpPr>
              <p:sp>
                <p:nvSpPr>
                  <p:cNvPr id="916" name="Line 20"/>
                  <p:cNvSpPr/>
                  <p:nvPr/>
                </p:nvSpPr>
                <p:spPr>
                  <a:xfrm flipH="1">
                    <a:off x="3076200" y="4902480"/>
                    <a:ext cx="762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 txBox="1"/>
                  <p:nvPr/>
                </p:nvSpPr>
                <p:spPr>
                  <a:xfrm>
                    <a:off x="3076560" y="4902480"/>
                    <a:ext cx="762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8" name="Rectangle 21"/>
                <p:cNvSpPr/>
                <p:nvPr/>
              </p:nvSpPr>
              <p:spPr>
                <a:xfrm>
                  <a:off x="2390760" y="4749840"/>
                  <a:ext cx="685800" cy="3049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9" name=""/>
                <p:cNvGrpSpPr/>
                <p:nvPr/>
              </p:nvGrpSpPr>
              <p:grpSpPr>
                <a:xfrm>
                  <a:off x="1704600" y="4902480"/>
                  <a:ext cx="686160" cy="360"/>
                  <a:chOff x="1704600" y="4902480"/>
                  <a:chExt cx="686160" cy="360"/>
                </a:xfrm>
              </p:grpSpPr>
              <p:sp>
                <p:nvSpPr>
                  <p:cNvPr id="920" name="Line 22"/>
                  <p:cNvSpPr/>
                  <p:nvPr/>
                </p:nvSpPr>
                <p:spPr>
                  <a:xfrm flipH="1">
                    <a:off x="1704600" y="490248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 txBox="1"/>
                  <p:nvPr/>
                </p:nvSpPr>
                <p:spPr>
                  <a:xfrm>
                    <a:off x="1704960" y="4902480"/>
                    <a:ext cx="685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2" name="Oval 23"/>
                <p:cNvSpPr/>
                <p:nvPr/>
              </p:nvSpPr>
              <p:spPr>
                <a:xfrm>
                  <a:off x="1552680" y="482616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23" name="Text Box 24"/>
          <p:cNvSpPr/>
          <p:nvPr/>
        </p:nvSpPr>
        <p:spPr>
          <a:xfrm>
            <a:off x="4724280" y="2819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25"/>
          <p:cNvGrpSpPr/>
          <p:nvPr/>
        </p:nvGrpSpPr>
        <p:grpSpPr>
          <a:xfrm>
            <a:off x="3995640" y="3284640"/>
            <a:ext cx="1143000" cy="1600560"/>
            <a:chOff x="3995640" y="3284640"/>
            <a:chExt cx="1143000" cy="1600560"/>
          </a:xfrm>
        </p:grpSpPr>
        <p:grpSp>
          <p:nvGrpSpPr>
            <p:cNvPr id="925" name="Group 26"/>
            <p:cNvGrpSpPr/>
            <p:nvPr/>
          </p:nvGrpSpPr>
          <p:grpSpPr>
            <a:xfrm>
              <a:off x="3995640" y="3284640"/>
              <a:ext cx="1143000" cy="1600560"/>
              <a:chOff x="3995640" y="3284640"/>
              <a:chExt cx="1143000" cy="160056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995640" y="3284640"/>
                <a:ext cx="914400" cy="360"/>
                <a:chOff x="3995640" y="3284640"/>
                <a:chExt cx="914400" cy="360"/>
              </a:xfrm>
            </p:grpSpPr>
            <p:sp>
              <p:nvSpPr>
                <p:cNvPr id="927" name="Line 27"/>
                <p:cNvSpPr/>
                <p:nvPr/>
              </p:nvSpPr>
              <p:spPr>
                <a:xfrm>
                  <a:off x="3995640" y="32846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 txBox="1"/>
                <p:nvPr/>
              </p:nvSpPr>
              <p:spPr>
                <a:xfrm>
                  <a:off x="3995640" y="3284640"/>
                  <a:ext cx="914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3995640" y="4884840"/>
                <a:ext cx="914400" cy="360"/>
                <a:chOff x="3995640" y="4884840"/>
                <a:chExt cx="914400" cy="360"/>
              </a:xfrm>
            </p:grpSpPr>
            <p:sp>
              <p:nvSpPr>
                <p:cNvPr id="930" name="Line 28"/>
                <p:cNvSpPr/>
                <p:nvPr/>
              </p:nvSpPr>
              <p:spPr>
                <a:xfrm>
                  <a:off x="3995640" y="488484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 txBox="1"/>
                <p:nvPr/>
              </p:nvSpPr>
              <p:spPr>
                <a:xfrm>
                  <a:off x="3995640" y="4884840"/>
                  <a:ext cx="914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4910040" y="3284640"/>
                <a:ext cx="360" cy="533160"/>
                <a:chOff x="4910040" y="3284640"/>
                <a:chExt cx="360" cy="533160"/>
              </a:xfrm>
            </p:grpSpPr>
            <p:sp>
              <p:nvSpPr>
                <p:cNvPr id="933" name="Line 29"/>
                <p:cNvSpPr/>
                <p:nvPr/>
              </p:nvSpPr>
              <p:spPr>
                <a:xfrm>
                  <a:off x="4910040" y="3284640"/>
                  <a:ext cx="0" cy="533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 txBox="1"/>
                <p:nvPr/>
              </p:nvSpPr>
              <p:spPr>
                <a:xfrm>
                  <a:off x="4910040" y="3284640"/>
                  <a:ext cx="36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4910040" y="4275000"/>
                <a:ext cx="360" cy="609840"/>
                <a:chOff x="4910040" y="4275000"/>
                <a:chExt cx="360" cy="609840"/>
              </a:xfrm>
            </p:grpSpPr>
            <p:sp>
              <p:nvSpPr>
                <p:cNvPr id="936" name="Line 30"/>
                <p:cNvSpPr/>
                <p:nvPr/>
              </p:nvSpPr>
              <p:spPr>
                <a:xfrm>
                  <a:off x="4910040" y="4275000"/>
                  <a:ext cx="0" cy="609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 txBox="1"/>
                <p:nvPr/>
              </p:nvSpPr>
              <p:spPr>
                <a:xfrm>
                  <a:off x="4910040" y="4275000"/>
                  <a:ext cx="36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8" name="Oval 31"/>
              <p:cNvSpPr/>
              <p:nvPr/>
            </p:nvSpPr>
            <p:spPr>
              <a:xfrm>
                <a:off x="4681440" y="381780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32"/>
            <p:cNvGrpSpPr/>
            <p:nvPr/>
          </p:nvGrpSpPr>
          <p:grpSpPr>
            <a:xfrm>
              <a:off x="4757400" y="3894120"/>
              <a:ext cx="305280" cy="304920"/>
              <a:chOff x="4757400" y="3894120"/>
              <a:chExt cx="305280" cy="30492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4757400" y="3894120"/>
                <a:ext cx="305280" cy="304920"/>
                <a:chOff x="4757400" y="3894120"/>
                <a:chExt cx="305280" cy="304920"/>
              </a:xfrm>
            </p:grpSpPr>
            <p:sp>
              <p:nvSpPr>
                <p:cNvPr id="941" name="Line 33"/>
                <p:cNvSpPr/>
                <p:nvPr/>
              </p:nvSpPr>
              <p:spPr>
                <a:xfrm flipH="1">
                  <a:off x="4757400" y="38941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 txBox="1"/>
                <p:nvPr/>
              </p:nvSpPr>
              <p:spPr>
                <a:xfrm>
                  <a:off x="4757760" y="3894120"/>
                  <a:ext cx="304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4757760" y="3894120"/>
                <a:ext cx="304920" cy="304920"/>
                <a:chOff x="4757760" y="3894120"/>
                <a:chExt cx="304920" cy="304920"/>
              </a:xfrm>
            </p:grpSpPr>
            <p:sp>
              <p:nvSpPr>
                <p:cNvPr id="944" name="Line 34"/>
                <p:cNvSpPr/>
                <p:nvPr/>
              </p:nvSpPr>
              <p:spPr>
                <a:xfrm>
                  <a:off x="4757760" y="38941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 txBox="1"/>
                <p:nvPr/>
              </p:nvSpPr>
              <p:spPr>
                <a:xfrm>
                  <a:off x="4757760" y="3894120"/>
                  <a:ext cx="304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6" name="Group 35"/>
          <p:cNvGrpSpPr/>
          <p:nvPr/>
        </p:nvGrpSpPr>
        <p:grpSpPr>
          <a:xfrm>
            <a:off x="4859280" y="3212640"/>
            <a:ext cx="152280" cy="1752480"/>
            <a:chOff x="4859280" y="3212640"/>
            <a:chExt cx="152280" cy="1752480"/>
          </a:xfrm>
        </p:grpSpPr>
        <p:sp>
          <p:nvSpPr>
            <p:cNvPr id="947" name="Oval 36"/>
            <p:cNvSpPr/>
            <p:nvPr/>
          </p:nvSpPr>
          <p:spPr>
            <a:xfrm flipV="1">
              <a:off x="4859280" y="32122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37"/>
            <p:cNvSpPr/>
            <p:nvPr/>
          </p:nvSpPr>
          <p:spPr>
            <a:xfrm flipV="1">
              <a:off x="4859280" y="4812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Group 43"/>
          <p:cNvGrpSpPr/>
          <p:nvPr/>
        </p:nvGrpSpPr>
        <p:grpSpPr>
          <a:xfrm>
            <a:off x="5003640" y="3284640"/>
            <a:ext cx="2209680" cy="1600560"/>
            <a:chOff x="5003640" y="3284640"/>
            <a:chExt cx="2209680" cy="1600560"/>
          </a:xfrm>
        </p:grpSpPr>
        <p:grpSp>
          <p:nvGrpSpPr>
            <p:cNvPr id="950" name="Group 44"/>
            <p:cNvGrpSpPr/>
            <p:nvPr/>
          </p:nvGrpSpPr>
          <p:grpSpPr>
            <a:xfrm>
              <a:off x="5003640" y="3284640"/>
              <a:ext cx="990720" cy="1600560"/>
              <a:chOff x="5003640" y="3284640"/>
              <a:chExt cx="990720" cy="1600560"/>
            </a:xfrm>
          </p:grpSpPr>
          <p:grpSp>
            <p:nvGrpSpPr>
              <p:cNvPr id="951" name=""/>
              <p:cNvGrpSpPr/>
              <p:nvPr/>
            </p:nvGrpSpPr>
            <p:grpSpPr>
              <a:xfrm>
                <a:off x="5003640" y="3284640"/>
                <a:ext cx="990720" cy="360"/>
                <a:chOff x="5003640" y="3284640"/>
                <a:chExt cx="990720" cy="360"/>
              </a:xfrm>
            </p:grpSpPr>
            <p:sp>
              <p:nvSpPr>
                <p:cNvPr id="952" name="Line 45"/>
                <p:cNvSpPr/>
                <p:nvPr/>
              </p:nvSpPr>
              <p:spPr>
                <a:xfrm>
                  <a:off x="5003640" y="3284640"/>
                  <a:ext cx="99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 txBox="1"/>
                <p:nvPr/>
              </p:nvSpPr>
              <p:spPr>
                <a:xfrm>
                  <a:off x="5003640" y="3284640"/>
                  <a:ext cx="9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5003640" y="4884840"/>
                <a:ext cx="990720" cy="360"/>
                <a:chOff x="5003640" y="4884840"/>
                <a:chExt cx="990720" cy="360"/>
              </a:xfrm>
            </p:grpSpPr>
            <p:sp>
              <p:nvSpPr>
                <p:cNvPr id="955" name="Line 46"/>
                <p:cNvSpPr/>
                <p:nvPr/>
              </p:nvSpPr>
              <p:spPr>
                <a:xfrm>
                  <a:off x="5003640" y="4884840"/>
                  <a:ext cx="99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 txBox="1"/>
                <p:nvPr/>
              </p:nvSpPr>
              <p:spPr>
                <a:xfrm>
                  <a:off x="5003640" y="4884840"/>
                  <a:ext cx="99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7" name="Group 47"/>
            <p:cNvGrpSpPr/>
            <p:nvPr/>
          </p:nvGrpSpPr>
          <p:grpSpPr>
            <a:xfrm>
              <a:off x="6070320" y="3284640"/>
              <a:ext cx="1143000" cy="1600560"/>
              <a:chOff x="6070320" y="3284640"/>
              <a:chExt cx="1143000" cy="1600560"/>
            </a:xfrm>
          </p:grpSpPr>
          <p:grpSp>
            <p:nvGrpSpPr>
              <p:cNvPr id="958" name="Group 48"/>
              <p:cNvGrpSpPr/>
              <p:nvPr/>
            </p:nvGrpSpPr>
            <p:grpSpPr>
              <a:xfrm>
                <a:off x="6070320" y="3284640"/>
                <a:ext cx="1143000" cy="1600560"/>
                <a:chOff x="6070320" y="3284640"/>
                <a:chExt cx="1143000" cy="1600560"/>
              </a:xfrm>
            </p:grpSpPr>
            <p:grpSp>
              <p:nvGrpSpPr>
                <p:cNvPr id="959" name=""/>
                <p:cNvGrpSpPr/>
                <p:nvPr/>
              </p:nvGrpSpPr>
              <p:grpSpPr>
                <a:xfrm>
                  <a:off x="6070320" y="3284640"/>
                  <a:ext cx="914400" cy="360"/>
                  <a:chOff x="6070320" y="3284640"/>
                  <a:chExt cx="914400" cy="360"/>
                </a:xfrm>
              </p:grpSpPr>
              <p:sp>
                <p:nvSpPr>
                  <p:cNvPr id="960" name="Line 49"/>
                  <p:cNvSpPr/>
                  <p:nvPr/>
                </p:nvSpPr>
                <p:spPr>
                  <a:xfrm>
                    <a:off x="6070320" y="328464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 txBox="1"/>
                  <p:nvPr/>
                </p:nvSpPr>
                <p:spPr>
                  <a:xfrm>
                    <a:off x="6070320" y="328464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6070320" y="4884840"/>
                  <a:ext cx="914400" cy="360"/>
                  <a:chOff x="6070320" y="4884840"/>
                  <a:chExt cx="914400" cy="360"/>
                </a:xfrm>
              </p:grpSpPr>
              <p:sp>
                <p:nvSpPr>
                  <p:cNvPr id="963" name="Line 50"/>
                  <p:cNvSpPr/>
                  <p:nvPr/>
                </p:nvSpPr>
                <p:spPr>
                  <a:xfrm>
                    <a:off x="6070320" y="488484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 txBox="1"/>
                  <p:nvPr/>
                </p:nvSpPr>
                <p:spPr>
                  <a:xfrm>
                    <a:off x="6070320" y="4884840"/>
                    <a:ext cx="914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6984720" y="3284640"/>
                  <a:ext cx="360" cy="533160"/>
                  <a:chOff x="6984720" y="3284640"/>
                  <a:chExt cx="360" cy="533160"/>
                </a:xfrm>
              </p:grpSpPr>
              <p:sp>
                <p:nvSpPr>
                  <p:cNvPr id="966" name="Line 51"/>
                  <p:cNvSpPr/>
                  <p:nvPr/>
                </p:nvSpPr>
                <p:spPr>
                  <a:xfrm>
                    <a:off x="6984720" y="328464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 txBox="1"/>
                  <p:nvPr/>
                </p:nvSpPr>
                <p:spPr>
                  <a:xfrm>
                    <a:off x="6984720" y="3284640"/>
                    <a:ext cx="360" cy="5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6984720" y="4275000"/>
                  <a:ext cx="360" cy="609840"/>
                  <a:chOff x="6984720" y="4275000"/>
                  <a:chExt cx="360" cy="609840"/>
                </a:xfrm>
              </p:grpSpPr>
              <p:sp>
                <p:nvSpPr>
                  <p:cNvPr id="969" name="Line 52"/>
                  <p:cNvSpPr/>
                  <p:nvPr/>
                </p:nvSpPr>
                <p:spPr>
                  <a:xfrm>
                    <a:off x="6984720" y="4275000"/>
                    <a:ext cx="0" cy="609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 txBox="1"/>
                  <p:nvPr/>
                </p:nvSpPr>
                <p:spPr>
                  <a:xfrm>
                    <a:off x="6984720" y="4275000"/>
                    <a:ext cx="360" cy="609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1" name="Oval 53"/>
                <p:cNvSpPr/>
                <p:nvPr/>
              </p:nvSpPr>
              <p:spPr>
                <a:xfrm>
                  <a:off x="6756120" y="3817800"/>
                  <a:ext cx="457200" cy="4572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Group 54"/>
              <p:cNvGrpSpPr/>
              <p:nvPr/>
            </p:nvGrpSpPr>
            <p:grpSpPr>
              <a:xfrm>
                <a:off x="6832080" y="3894120"/>
                <a:ext cx="305280" cy="304920"/>
                <a:chOff x="6832080" y="3894120"/>
                <a:chExt cx="305280" cy="304920"/>
              </a:xfrm>
            </p:grpSpPr>
            <p:grpSp>
              <p:nvGrpSpPr>
                <p:cNvPr id="973" name=""/>
                <p:cNvGrpSpPr/>
                <p:nvPr/>
              </p:nvGrpSpPr>
              <p:grpSpPr>
                <a:xfrm>
                  <a:off x="6832080" y="3894120"/>
                  <a:ext cx="305280" cy="304920"/>
                  <a:chOff x="6832080" y="3894120"/>
                  <a:chExt cx="305280" cy="304920"/>
                </a:xfrm>
              </p:grpSpPr>
              <p:sp>
                <p:nvSpPr>
                  <p:cNvPr id="974" name="Line 55"/>
                  <p:cNvSpPr/>
                  <p:nvPr/>
                </p:nvSpPr>
                <p:spPr>
                  <a:xfrm flipH="1">
                    <a:off x="6832080" y="3894120"/>
                    <a:ext cx="304920" cy="30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 txBox="1"/>
                  <p:nvPr/>
                </p:nvSpPr>
                <p:spPr>
                  <a:xfrm>
                    <a:off x="6832440" y="3894120"/>
                    <a:ext cx="30492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6832440" y="3894120"/>
                  <a:ext cx="304920" cy="304920"/>
                  <a:chOff x="6832440" y="3894120"/>
                  <a:chExt cx="304920" cy="304920"/>
                </a:xfrm>
              </p:grpSpPr>
              <p:sp>
                <p:nvSpPr>
                  <p:cNvPr id="977" name="Line 56"/>
                  <p:cNvSpPr/>
                  <p:nvPr/>
                </p:nvSpPr>
                <p:spPr>
                  <a:xfrm>
                    <a:off x="6832440" y="3894120"/>
                    <a:ext cx="304920" cy="30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 txBox="1"/>
                  <p:nvPr/>
                </p:nvSpPr>
                <p:spPr>
                  <a:xfrm>
                    <a:off x="6832440" y="3894120"/>
                    <a:ext cx="30492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979" name="Rectangle 57"/>
          <p:cNvSpPr/>
          <p:nvPr/>
        </p:nvSpPr>
        <p:spPr>
          <a:xfrm>
            <a:off x="2286000" y="2286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总功率过大是电       流过大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438280" y="3733920"/>
            <a:ext cx="685800" cy="360"/>
            <a:chOff x="2438280" y="3733920"/>
            <a:chExt cx="685800" cy="360"/>
          </a:xfrm>
        </p:grpSpPr>
        <p:sp>
          <p:nvSpPr>
            <p:cNvPr id="981" name="Line 59"/>
            <p:cNvSpPr/>
            <p:nvPr/>
          </p:nvSpPr>
          <p:spPr>
            <a:xfrm>
              <a:off x="243828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2438280" y="373392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 Box 61"/>
          <p:cNvSpPr/>
          <p:nvPr/>
        </p:nvSpPr>
        <p:spPr>
          <a:xfrm>
            <a:off x="324000" y="333360"/>
            <a:ext cx="844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62"/>
          <p:cNvSpPr/>
          <p:nvPr/>
        </p:nvSpPr>
        <p:spPr>
          <a:xfrm>
            <a:off x="395280" y="5300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用电器总功率过大时会引起电流过大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3"/>
          <p:cNvSpPr/>
          <p:nvPr/>
        </p:nvSpPr>
        <p:spPr>
          <a:xfrm>
            <a:off x="609480" y="119700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如图所示，逐渐增加并联电灯的个数，请猜想会发生什么现象？产生这些现象的原因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 Box 3"/>
          <p:cNvSpPr/>
          <p:nvPr/>
        </p:nvSpPr>
        <p:spPr>
          <a:xfrm>
            <a:off x="611280" y="3716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分析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灯泡是并联的，并联的灯泡越多，电路中总功率越大，根据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可知，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定，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大，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也大，所以并联的电灯越多干路电流越大。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4"/>
          <p:cNvSpPr/>
          <p:nvPr/>
        </p:nvSpPr>
        <p:spPr>
          <a:xfrm>
            <a:off x="611280" y="170028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现象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并联的灯泡越多，电流表的示数越大，并联的灯泡足够多时，保险丝就会熔断。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324000" y="333360"/>
            <a:ext cx="844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6"/>
          <p:cNvSpPr/>
          <p:nvPr/>
        </p:nvSpPr>
        <p:spPr>
          <a:xfrm>
            <a:off x="324000" y="333360"/>
            <a:ext cx="844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7"/>
          <p:cNvSpPr/>
          <p:nvPr/>
        </p:nvSpPr>
        <p:spPr>
          <a:xfrm>
            <a:off x="755640" y="242100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细心地同学会发现，并联接入电路的灯泡越多，开始亮着的灯泡，会稍微变暗，针对这个现象，谁能说说自己的看法？生活中你发现过类似的现象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8"/>
          <p:cNvSpPr/>
          <p:nvPr/>
        </p:nvSpPr>
        <p:spPr>
          <a:xfrm>
            <a:off x="2751480" y="141300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用电器的总功率过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3"/>
          <p:cNvSpPr/>
          <p:nvPr/>
        </p:nvSpPr>
        <p:spPr>
          <a:xfrm>
            <a:off x="1042920" y="126828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6"/>
          <p:cNvSpPr/>
          <p:nvPr/>
        </p:nvSpPr>
        <p:spPr>
          <a:xfrm>
            <a:off x="324000" y="333360"/>
            <a:ext cx="844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7"/>
          <p:cNvSpPr/>
          <p:nvPr/>
        </p:nvSpPr>
        <p:spPr>
          <a:xfrm>
            <a:off x="2680200" y="141300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用电器的总功率过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8"/>
          <p:cNvSpPr/>
          <p:nvPr/>
        </p:nvSpPr>
        <p:spPr>
          <a:xfrm>
            <a:off x="755640" y="2205000"/>
            <a:ext cx="765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导线的电阻不能忽略，干路电流越大，导线上分电压越多，灯泡两端的电压减小，实际功率变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9"/>
          <p:cNvSpPr/>
          <p:nvPr/>
        </p:nvSpPr>
        <p:spPr>
          <a:xfrm>
            <a:off x="539640" y="466740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家庭电路中的总功率过大，会有什么危害呢？应该如何防止呢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 Box 4"/>
          <p:cNvSpPr/>
          <p:nvPr/>
        </p:nvSpPr>
        <p:spPr>
          <a:xfrm>
            <a:off x="2416320" y="11253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保险丝为什么能起到保险的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7" descr="page-0115"/>
          <p:cNvPicPr/>
          <p:nvPr/>
        </p:nvPicPr>
        <p:blipFill>
          <a:blip r:embed="rId1"/>
          <a:stretch/>
        </p:blipFill>
        <p:spPr>
          <a:xfrm>
            <a:off x="2124000" y="1989000"/>
            <a:ext cx="4753080" cy="300384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8"/>
          <p:cNvSpPr/>
          <p:nvPr/>
        </p:nvSpPr>
        <p:spPr>
          <a:xfrm>
            <a:off x="755640" y="5013360"/>
            <a:ext cx="78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电流过大时，保险丝熔断，切断电路，起到了保护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 Box 4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5"/>
          <p:cNvSpPr/>
          <p:nvPr/>
        </p:nvSpPr>
        <p:spPr>
          <a:xfrm>
            <a:off x="468360" y="1268280"/>
            <a:ext cx="835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教材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，思考并小组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流过大时，保险丝为什么会自动熔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了达到保险的目的，保险丝的材料应该具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否可以任意换用不同规格的保险丝，或用铁丝、铜丝代替保险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4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5"/>
          <p:cNvSpPr/>
          <p:nvPr/>
        </p:nvSpPr>
        <p:spPr>
          <a:xfrm>
            <a:off x="611280" y="234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原理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流的热效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6"/>
          <p:cNvSpPr/>
          <p:nvPr/>
        </p:nvSpPr>
        <p:spPr>
          <a:xfrm>
            <a:off x="468360" y="1052640"/>
            <a:ext cx="80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作用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电流过大时，保险丝熔断，切断电路，起到了保护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7"/>
          <p:cNvSpPr/>
          <p:nvPr/>
        </p:nvSpPr>
        <p:spPr>
          <a:xfrm>
            <a:off x="684360" y="3068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材料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阻率大，熔点低的铅锑合金合金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8"/>
          <p:cNvSpPr/>
          <p:nvPr/>
        </p:nvSpPr>
        <p:spPr>
          <a:xfrm>
            <a:off x="1965960" y="4653000"/>
            <a:ext cx="51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注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决不能用铜丝或铁丝代替保险丝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Text Box 10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1"/>
          <p:cNvSpPr/>
          <p:nvPr/>
        </p:nvSpPr>
        <p:spPr>
          <a:xfrm>
            <a:off x="684360" y="118260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样是保险丝，为什么有粗有细，它们有什么不同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12" descr="snap"/>
          <p:cNvPicPr/>
          <p:nvPr/>
        </p:nvPicPr>
        <p:blipFill>
          <a:blip r:embed="rId1"/>
          <a:stretch/>
        </p:blipFill>
        <p:spPr>
          <a:xfrm>
            <a:off x="2700360" y="3573360"/>
            <a:ext cx="3384360" cy="17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4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324000" y="119700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险丝材料和长度一定时，越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阻越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保险丝的熔点相同，根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电流流过保险丝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阻小的保险丝要通过较大的电流才能熔断。所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保险丝越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电阻越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额定电流越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611280" y="3535200"/>
            <a:ext cx="8532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友情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更换保险丝时，不要换成更粗的保险丝，铜丝、铁丝的熔点较高，所以千万不能用铜丝或铁丝代替保险丝，否则当电路中电流过大时，保险丝不能及时熔断，起不到保护电路的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2" descr="19003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15" name="Rectangle 3"/>
          <p:cNvSpPr/>
          <p:nvPr/>
        </p:nvSpPr>
        <p:spPr>
          <a:xfrm>
            <a:off x="2124000" y="1125360"/>
            <a:ext cx="475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几种常见的保险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5" descr="保险丝-5"/>
          <p:cNvPicPr/>
          <p:nvPr/>
        </p:nvPicPr>
        <p:blipFill>
          <a:blip r:embed="rId2"/>
          <a:stretch/>
        </p:blipFill>
        <p:spPr>
          <a:xfrm>
            <a:off x="611280" y="234936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6" descr="保险丝-8"/>
          <p:cNvPicPr/>
          <p:nvPr/>
        </p:nvPicPr>
        <p:blipFill>
          <a:blip r:embed="rId3"/>
          <a:stretch/>
        </p:blipFill>
        <p:spPr>
          <a:xfrm>
            <a:off x="3059280" y="2565360"/>
            <a:ext cx="2590560" cy="142560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7" descr="保险丝-10"/>
          <p:cNvPicPr/>
          <p:nvPr/>
        </p:nvPicPr>
        <p:blipFill>
          <a:blip r:embed="rId4"/>
          <a:stretch/>
        </p:blipFill>
        <p:spPr>
          <a:xfrm>
            <a:off x="6227640" y="2492280"/>
            <a:ext cx="2592360" cy="1424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8" descr="保险丝-6"/>
          <p:cNvPicPr/>
          <p:nvPr/>
        </p:nvPicPr>
        <p:blipFill>
          <a:blip r:embed="rId5"/>
          <a:stretch/>
        </p:blipFill>
        <p:spPr>
          <a:xfrm>
            <a:off x="539640" y="4653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9" descr="保险丝-1"/>
          <p:cNvPicPr/>
          <p:nvPr/>
        </p:nvPicPr>
        <p:blipFill>
          <a:blip r:embed="rId6"/>
          <a:stretch/>
        </p:blipFill>
        <p:spPr>
          <a:xfrm>
            <a:off x="3348000" y="4797360"/>
            <a:ext cx="2232000" cy="15778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0" descr="保险丝-11"/>
          <p:cNvPicPr/>
          <p:nvPr/>
        </p:nvPicPr>
        <p:blipFill>
          <a:blip r:embed="rId7"/>
          <a:stretch/>
        </p:blipFill>
        <p:spPr>
          <a:xfrm>
            <a:off x="6588000" y="4653000"/>
            <a:ext cx="2159280" cy="1665360"/>
          </a:xfrm>
          <a:prstGeom prst="rect">
            <a:avLst/>
          </a:prstGeom>
          <a:ln w="0">
            <a:noFill/>
          </a:ln>
        </p:spPr>
      </p:pic>
      <p:sp>
        <p:nvSpPr>
          <p:cNvPr id="1022" name="Text Box 11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"/>
          <p:cNvSpPr/>
          <p:nvPr/>
        </p:nvSpPr>
        <p:spPr>
          <a:xfrm>
            <a:off x="539640" y="1052640"/>
            <a:ext cx="8301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讨论教材的“想想议议”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为什么要把输电线换成更粗的？将电能表的标定电流换成更大的？这样做有什么意义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能推测出电功率和电路中电流的关系吗？大胆发表自己的看法和意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3"/>
          <p:cNvSpPr/>
          <p:nvPr/>
        </p:nvSpPr>
        <p:spPr>
          <a:xfrm>
            <a:off x="539640" y="1168560"/>
            <a:ext cx="820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家庭中常用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空气开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保险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1763640" y="26028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二、保险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Group 7"/>
          <p:cNvGrpSpPr/>
          <p:nvPr/>
        </p:nvGrpSpPr>
        <p:grpSpPr>
          <a:xfrm>
            <a:off x="684360" y="1989000"/>
            <a:ext cx="7909560" cy="2232000"/>
            <a:chOff x="684360" y="1989000"/>
            <a:chExt cx="7909560" cy="2232000"/>
          </a:xfrm>
        </p:grpSpPr>
        <p:grpSp>
          <p:nvGrpSpPr>
            <p:cNvPr id="1026" name="Group 8"/>
            <p:cNvGrpSpPr/>
            <p:nvPr/>
          </p:nvGrpSpPr>
          <p:grpSpPr>
            <a:xfrm>
              <a:off x="3193920" y="1989000"/>
              <a:ext cx="2518920" cy="2223720"/>
              <a:chOff x="3193920" y="1989000"/>
              <a:chExt cx="2518920" cy="2223720"/>
            </a:xfrm>
          </p:grpSpPr>
          <p:sp>
            <p:nvSpPr>
              <p:cNvPr id="1027" name="Rectangle 9"/>
              <p:cNvSpPr/>
              <p:nvPr/>
            </p:nvSpPr>
            <p:spPr>
              <a:xfrm>
                <a:off x="3193920" y="1989000"/>
                <a:ext cx="2518920" cy="2223720"/>
              </a:xfrm>
              <a:prstGeom prst="rect">
                <a:avLst/>
              </a:prstGeom>
              <a:solidFill>
                <a:srgbClr val="ff9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8" name="Picture 10" descr="空气开关"/>
              <p:cNvPicPr/>
              <p:nvPr/>
            </p:nvPicPr>
            <p:blipFill>
              <a:blip r:embed="rId1"/>
              <a:stretch/>
            </p:blipFill>
            <p:spPr>
              <a:xfrm>
                <a:off x="3625200" y="2079360"/>
                <a:ext cx="1557000" cy="2106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9" name="Picture 11" descr="0,0,285,3537,256,209,5ac22209"/>
            <p:cNvPicPr/>
            <p:nvPr/>
          </p:nvPicPr>
          <p:blipFill>
            <a:blip r:embed="rId2"/>
            <a:stretch/>
          </p:blipFill>
          <p:spPr>
            <a:xfrm>
              <a:off x="684360" y="1989000"/>
              <a:ext cx="2438280" cy="223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0" name="Group 12"/>
            <p:cNvGrpSpPr/>
            <p:nvPr/>
          </p:nvGrpSpPr>
          <p:grpSpPr>
            <a:xfrm>
              <a:off x="5786280" y="1989000"/>
              <a:ext cx="2807640" cy="2231640"/>
              <a:chOff x="5786280" y="1989000"/>
              <a:chExt cx="2807640" cy="2231640"/>
            </a:xfrm>
          </p:grpSpPr>
          <p:sp>
            <p:nvSpPr>
              <p:cNvPr id="1031" name="Rectangle 13"/>
              <p:cNvSpPr/>
              <p:nvPr/>
            </p:nvSpPr>
            <p:spPr>
              <a:xfrm>
                <a:off x="5786280" y="1989000"/>
                <a:ext cx="2806200" cy="2231640"/>
              </a:xfrm>
              <a:prstGeom prst="rect">
                <a:avLst/>
              </a:prstGeom>
              <a:solidFill>
                <a:srgbClr val="ff98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2" name="Picture 14" descr="2007123011726327"/>
              <p:cNvPicPr/>
              <p:nvPr/>
            </p:nvPicPr>
            <p:blipFill>
              <a:blip r:embed="rId3"/>
              <a:stretch/>
            </p:blipFill>
            <p:spPr>
              <a:xfrm>
                <a:off x="5786280" y="1989000"/>
                <a:ext cx="2807640" cy="210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3" name="Rectangle 15"/>
          <p:cNvSpPr/>
          <p:nvPr/>
        </p:nvSpPr>
        <p:spPr>
          <a:xfrm>
            <a:off x="755640" y="5118480"/>
            <a:ext cx="777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线路发生短路或严重电流过载时，短路电流超过瞬时脱扣整定电流值，电磁脱扣器产生足够大的吸力，将衔铁吸合并撞击杠杆，使搭钩绕转轴座向上转动与锁扣脱开，锁扣在反力弹簧的作用下将主触头分断，切断电源。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2"/>
          <p:cNvSpPr/>
          <p:nvPr/>
        </p:nvSpPr>
        <p:spPr>
          <a:xfrm>
            <a:off x="179280" y="260280"/>
            <a:ext cx="896472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献计献策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了防止电路中电流过大引发事故，你有哪些好的建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3"/>
          <p:cNvSpPr/>
          <p:nvPr/>
        </p:nvSpPr>
        <p:spPr>
          <a:xfrm>
            <a:off x="611280" y="2857680"/>
            <a:ext cx="7675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避免同时使用功率过大的用电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改造线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加装保险装置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4"/>
          <p:cNvSpPr/>
          <p:nvPr/>
        </p:nvSpPr>
        <p:spPr>
          <a:xfrm>
            <a:off x="4356000" y="4581360"/>
            <a:ext cx="1008000" cy="574920"/>
          </a:xfrm>
          <a:prstGeom prst="rightArrow">
            <a:avLst>
              <a:gd name="adj1" fmla="val 50000"/>
              <a:gd name="adj2" fmla="val 43816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5"/>
          <p:cNvSpPr/>
          <p:nvPr/>
        </p:nvSpPr>
        <p:spPr>
          <a:xfrm>
            <a:off x="5435640" y="436572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保险丝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空气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" dur="500"/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" dur="500"/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0" y="0"/>
            <a:ext cx="9144000" cy="6858000"/>
          </a:xfrm>
          <a:prstGeom prst="verticalScrol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3"/>
          <p:cNvSpPr/>
          <p:nvPr/>
        </p:nvSpPr>
        <p:spPr>
          <a:xfrm>
            <a:off x="2971800" y="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4"/>
          <p:cNvSpPr/>
          <p:nvPr/>
        </p:nvSpPr>
        <p:spPr>
          <a:xfrm>
            <a:off x="1600200" y="1371600"/>
            <a:ext cx="5791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家庭电路中电流过大的原因是：短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电器的总功率过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5"/>
          <p:cNvSpPr/>
          <p:nvPr/>
        </p:nvSpPr>
        <p:spPr>
          <a:xfrm>
            <a:off x="1752480" y="35053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家庭电路中的保险装置：保险丝或空气开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 Box 7"/>
          <p:cNvSpPr/>
          <p:nvPr/>
        </p:nvSpPr>
        <p:spPr>
          <a:xfrm>
            <a:off x="428760" y="1125360"/>
            <a:ext cx="799308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电路中电流过大的原因是（          ）或（                                    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3"/>
          <p:cNvSpPr/>
          <p:nvPr/>
        </p:nvSpPr>
        <p:spPr>
          <a:xfrm>
            <a:off x="5952960" y="1000080"/>
            <a:ext cx="140508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短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2179800" y="1571760"/>
            <a:ext cx="44640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用电器的总功率过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6"/>
          <p:cNvSpPr/>
          <p:nvPr/>
        </p:nvSpPr>
        <p:spPr>
          <a:xfrm>
            <a:off x="399960" y="0"/>
            <a:ext cx="4343400" cy="91692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课堂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4360" y="2421000"/>
            <a:ext cx="8153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家庭电路中引起保险丝熔断的原因是   （         ）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保险丝太粗不合格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所有用电器同时工作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定是短路造成的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可能接入了大功率电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1187280" y="285264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2"/>
          <p:cNvSpPr/>
          <p:nvPr/>
        </p:nvSpPr>
        <p:spPr>
          <a:xfrm>
            <a:off x="533520" y="167652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家庭电路中保险丝断了，以下原因不可能的是： （    ）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家庭中用电器的功率过大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拉线开关中的两根导线头相碰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保险丝的规格不合适，熔断电流太小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插头中的两根导线头相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3"/>
          <p:cNvSpPr/>
          <p:nvPr/>
        </p:nvSpPr>
        <p:spPr>
          <a:xfrm>
            <a:off x="3203640" y="20606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5"/>
          <p:cNvSpPr/>
          <p:nvPr/>
        </p:nvSpPr>
        <p:spPr>
          <a:xfrm>
            <a:off x="990720" y="0"/>
            <a:ext cx="6553080" cy="1295280"/>
          </a:xfrm>
          <a:custGeom>
            <a:avLst/>
            <a:gdLst>
              <a:gd name="textAreaLeft" fmla="*/ 1638360 w 6553080"/>
              <a:gd name="textAreaRight" fmla="*/ 4915080 w 6553080"/>
              <a:gd name="textAreaTop" fmla="*/ 0 h 1295280"/>
              <a:gd name="textAreaBottom" fmla="*/ 1133640 h 129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6"/>
          <p:cNvSpPr/>
          <p:nvPr/>
        </p:nvSpPr>
        <p:spPr>
          <a:xfrm>
            <a:off x="3124080" y="2286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 Box 2"/>
          <p:cNvSpPr/>
          <p:nvPr/>
        </p:nvSpPr>
        <p:spPr>
          <a:xfrm>
            <a:off x="609480" y="380880"/>
            <a:ext cx="3276720" cy="1008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幼圆"/>
              </a:rPr>
              <a:t>课堂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838080" y="1676520"/>
            <a:ext cx="78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某家庭电路，已有两盏电灯正常发光，如果再使用一个电熨斗，则该电路的       （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总电流变大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总电压变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总电阻变大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总功率变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5029200" y="2895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AutoShape 2"/>
          <p:cNvSpPr/>
          <p:nvPr/>
        </p:nvSpPr>
        <p:spPr>
          <a:xfrm>
            <a:off x="1828800" y="0"/>
            <a:ext cx="4952880" cy="1371600"/>
          </a:xfrm>
          <a:prstGeom prst="horizontalScroll">
            <a:avLst>
              <a:gd name="adj" fmla="val 12500"/>
            </a:avLst>
          </a:pr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WordArt 3"/>
          <p:cNvSpPr txBox="1"/>
          <p:nvPr/>
        </p:nvSpPr>
        <p:spPr>
          <a:xfrm>
            <a:off x="2286000" y="0"/>
            <a:ext cx="4114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课堂练习</a:t>
            </a:r>
            <a:endParaRPr b="0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057" name="Text Box 4"/>
          <p:cNvSpPr/>
          <p:nvPr/>
        </p:nvSpPr>
        <p:spPr>
          <a:xfrm>
            <a:off x="1066680" y="213372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5"/>
          <p:cNvSpPr/>
          <p:nvPr/>
        </p:nvSpPr>
        <p:spPr>
          <a:xfrm>
            <a:off x="457200" y="112536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华家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光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盏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电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盏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彩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电冰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洗衣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0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音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台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k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电饭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，问：他家的总保险丝应如何选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6"/>
          <p:cNvSpPr/>
          <p:nvPr/>
        </p:nvSpPr>
        <p:spPr>
          <a:xfrm>
            <a:off x="324000" y="4508640"/>
            <a:ext cx="90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答案：</a:t>
            </a:r>
            <a:r>
              <a:rPr b="1" i="1" lang="en-US" sz="3200" spc="-1" strike="noStrike">
                <a:solidFill>
                  <a:srgbClr val="ff0000"/>
                </a:solidFill>
                <a:latin typeface="宋体"/>
              </a:rPr>
              <a:t>I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i="1" lang="en-US" sz="3200" spc="-1" strike="noStrike">
                <a:solidFill>
                  <a:srgbClr val="ff0000"/>
                </a:solidFill>
                <a:latin typeface="宋体"/>
              </a:rPr>
              <a:t>P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总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i="1" lang="en-US" sz="3200" spc="-1" strike="noStrike">
                <a:solidFill>
                  <a:srgbClr val="ff0000"/>
                </a:solidFill>
                <a:latin typeface="宋体"/>
              </a:rPr>
              <a:t>U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总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165W/220V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A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97B2-6F29-459D-81C9-00BEE4E2A3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Text Box 4"/>
          <p:cNvSpPr/>
          <p:nvPr/>
        </p:nvSpPr>
        <p:spPr>
          <a:xfrm>
            <a:off x="611280" y="843120"/>
            <a:ext cx="81374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节练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家里的所有家用电器的功率，计算用电器同时工作时通过保险丝的总电流，并与电能表上的标定电流比较，为保证安全用电，你将采取哪些措施？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4"/>
          <p:cNvSpPr/>
          <p:nvPr/>
        </p:nvSpPr>
        <p:spPr>
          <a:xfrm>
            <a:off x="684360" y="1341360"/>
            <a:ext cx="806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知道用电器总功率过大和短路现象会导致家庭电路电流过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知道保险丝和空气开关在电路中的作用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树立生活用电过程中的安全意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2627280" y="4046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873840" cy="3335400"/>
          </a:xfrm>
          <a:prstGeom prst="rect">
            <a:avLst/>
          </a:prstGeom>
          <a:ln w="0">
            <a:noFill/>
          </a:ln>
        </p:spPr>
      </p:pic>
      <p:sp>
        <p:nvSpPr>
          <p:cNvPr id="822" name="AutoShape 3"/>
          <p:cNvSpPr/>
          <p:nvPr/>
        </p:nvSpPr>
        <p:spPr>
          <a:xfrm>
            <a:off x="2771640" y="2924280"/>
            <a:ext cx="1440000" cy="503280"/>
          </a:xfrm>
          <a:prstGeom prst="wedgeRoundRectCallout">
            <a:avLst>
              <a:gd name="adj1" fmla="val 24310"/>
              <a:gd name="adj2" fmla="val -263879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保险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826920" y="3567240"/>
            <a:ext cx="806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合生活经验，家庭中那些情况会导致电路中的电流过大，会使保险丝烧断呢（或空气开关“跳闸”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539640" y="576360"/>
            <a:ext cx="844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1187280" y="1773360"/>
            <a:ext cx="5781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短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187280" y="321300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电器的总功率过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4"/>
          <p:cNvSpPr/>
          <p:nvPr/>
        </p:nvSpPr>
        <p:spPr>
          <a:xfrm>
            <a:off x="971640" y="1197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短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395280" y="333360"/>
            <a:ext cx="84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11280" y="18446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短路为什么会引起电流过大呢？说出你的判断依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8"/>
          <p:cNvSpPr/>
          <p:nvPr/>
        </p:nvSpPr>
        <p:spPr>
          <a:xfrm>
            <a:off x="395280" y="3716280"/>
            <a:ext cx="813744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短路情况下，根据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宋体"/>
              </a:rPr>
              <a:t>欧姆定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知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因为电压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U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定，发生短路时电阻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R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很小；所以导致电路中的电流</a:t>
            </a:r>
            <a:r>
              <a:rPr b="1" i="1" lang="en-US" sz="3600" spc="-1" strike="noStrike">
                <a:solidFill>
                  <a:srgbClr val="000000"/>
                </a:solidFill>
                <a:latin typeface="宋体"/>
              </a:rPr>
              <a:t>I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就很大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1797120" y="3170160"/>
            <a:ext cx="1208160" cy="360"/>
            <a:chOff x="1797120" y="3170160"/>
            <a:chExt cx="1208160" cy="360"/>
          </a:xfrm>
        </p:grpSpPr>
        <p:sp>
          <p:nvSpPr>
            <p:cNvPr id="832" name="Line 4"/>
            <p:cNvSpPr/>
            <p:nvPr/>
          </p:nvSpPr>
          <p:spPr>
            <a:xfrm>
              <a:off x="1797120" y="3170160"/>
              <a:ext cx="1208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1797120" y="3170160"/>
              <a:ext cx="1208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938320" y="5516280"/>
            <a:ext cx="2857680" cy="28440"/>
            <a:chOff x="2938320" y="5516280"/>
            <a:chExt cx="2857680" cy="28440"/>
          </a:xfrm>
        </p:grpSpPr>
        <p:sp>
          <p:nvSpPr>
            <p:cNvPr id="835" name="Line 5"/>
            <p:cNvSpPr/>
            <p:nvPr/>
          </p:nvSpPr>
          <p:spPr>
            <a:xfrm flipV="1">
              <a:off x="2938320" y="5516280"/>
              <a:ext cx="2857680" cy="28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 rot="10800000">
              <a:off x="2938320" y="5516280"/>
              <a:ext cx="2857680" cy="2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6"/>
          <p:cNvSpPr/>
          <p:nvPr/>
        </p:nvSpPr>
        <p:spPr>
          <a:xfrm>
            <a:off x="2468520" y="5423040"/>
            <a:ext cx="469800" cy="21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7"/>
          <p:cNvGrpSpPr/>
          <p:nvPr/>
        </p:nvGrpSpPr>
        <p:grpSpPr>
          <a:xfrm>
            <a:off x="4249800" y="3170160"/>
            <a:ext cx="538200" cy="2374920"/>
            <a:chOff x="4249800" y="3170160"/>
            <a:chExt cx="538200" cy="2374920"/>
          </a:xfrm>
        </p:grpSpPr>
        <p:grpSp>
          <p:nvGrpSpPr>
            <p:cNvPr id="839" name="Group 8"/>
            <p:cNvGrpSpPr/>
            <p:nvPr/>
          </p:nvGrpSpPr>
          <p:grpSpPr>
            <a:xfrm>
              <a:off x="4249800" y="3998880"/>
              <a:ext cx="538200" cy="581400"/>
              <a:chOff x="4249800" y="3998880"/>
              <a:chExt cx="538200" cy="581400"/>
            </a:xfrm>
          </p:grpSpPr>
          <p:sp>
            <p:nvSpPr>
              <p:cNvPr id="840" name="Oval 9"/>
              <p:cNvSpPr/>
              <p:nvPr/>
            </p:nvSpPr>
            <p:spPr>
              <a:xfrm>
                <a:off x="4326480" y="4102200"/>
                <a:ext cx="403200" cy="432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10"/>
              <p:cNvSpPr/>
              <p:nvPr/>
            </p:nvSpPr>
            <p:spPr>
              <a:xfrm>
                <a:off x="4249800" y="3998880"/>
                <a:ext cx="538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4518000" y="3170160"/>
              <a:ext cx="360" cy="935280"/>
              <a:chOff x="4518000" y="3170160"/>
              <a:chExt cx="360" cy="935280"/>
            </a:xfrm>
          </p:grpSpPr>
          <p:sp>
            <p:nvSpPr>
              <p:cNvPr id="843" name="Line 11"/>
              <p:cNvSpPr/>
              <p:nvPr/>
            </p:nvSpPr>
            <p:spPr>
              <a:xfrm>
                <a:off x="4518000" y="3170160"/>
                <a:ext cx="0" cy="93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 txBox="1"/>
              <p:nvPr/>
            </p:nvSpPr>
            <p:spPr>
              <a:xfrm>
                <a:off x="4518000" y="3170160"/>
                <a:ext cx="360" cy="93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4517640" y="4537080"/>
              <a:ext cx="360" cy="1008000"/>
              <a:chOff x="4517640" y="4537080"/>
              <a:chExt cx="360" cy="1008000"/>
            </a:xfrm>
          </p:grpSpPr>
          <p:sp>
            <p:nvSpPr>
              <p:cNvPr id="846" name="Line 12"/>
              <p:cNvSpPr/>
              <p:nvPr/>
            </p:nvSpPr>
            <p:spPr>
              <a:xfrm flipV="1">
                <a:off x="4518000" y="4537080"/>
                <a:ext cx="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 txBox="1"/>
              <p:nvPr/>
            </p:nvSpPr>
            <p:spPr>
              <a:xfrm rot="10800000">
                <a:off x="4517640" y="4537080"/>
                <a:ext cx="36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"/>
          <p:cNvGrpSpPr/>
          <p:nvPr/>
        </p:nvGrpSpPr>
        <p:grpSpPr>
          <a:xfrm>
            <a:off x="3411000" y="3169800"/>
            <a:ext cx="2419920" cy="360"/>
            <a:chOff x="3411000" y="3169800"/>
            <a:chExt cx="2419920" cy="360"/>
          </a:xfrm>
        </p:grpSpPr>
        <p:sp>
          <p:nvSpPr>
            <p:cNvPr id="849" name="Line 13"/>
            <p:cNvSpPr/>
            <p:nvPr/>
          </p:nvSpPr>
          <p:spPr>
            <a:xfrm>
              <a:off x="3411360" y="3170160"/>
              <a:ext cx="24195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 rot="10800000">
              <a:off x="3411000" y="3169800"/>
              <a:ext cx="2419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Oval 14"/>
          <p:cNvSpPr/>
          <p:nvPr/>
        </p:nvSpPr>
        <p:spPr>
          <a:xfrm>
            <a:off x="3008160" y="2954160"/>
            <a:ext cx="403200" cy="4320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15"/>
          <p:cNvGrpSpPr/>
          <p:nvPr/>
        </p:nvGrpSpPr>
        <p:grpSpPr>
          <a:xfrm>
            <a:off x="1258920" y="2639880"/>
            <a:ext cx="1143000" cy="3123720"/>
            <a:chOff x="1258920" y="2639880"/>
            <a:chExt cx="1143000" cy="3123720"/>
          </a:xfrm>
        </p:grpSpPr>
        <p:sp>
          <p:nvSpPr>
            <p:cNvPr id="853" name="Text Box 16"/>
            <p:cNvSpPr/>
            <p:nvPr/>
          </p:nvSpPr>
          <p:spPr>
            <a:xfrm>
              <a:off x="1528200" y="2639880"/>
              <a:ext cx="87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17"/>
            <p:cNvSpPr/>
            <p:nvPr/>
          </p:nvSpPr>
          <p:spPr>
            <a:xfrm>
              <a:off x="1489680" y="5016600"/>
              <a:ext cx="87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8"/>
            <p:cNvSpPr/>
            <p:nvPr/>
          </p:nvSpPr>
          <p:spPr>
            <a:xfrm>
              <a:off x="1258920" y="290196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Text Box 19"/>
            <p:cNvSpPr/>
            <p:nvPr/>
          </p:nvSpPr>
          <p:spPr>
            <a:xfrm>
              <a:off x="1258920" y="5303880"/>
              <a:ext cx="2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1749240" y="5516640"/>
            <a:ext cx="735120" cy="28440"/>
            <a:chOff x="1749240" y="5516640"/>
            <a:chExt cx="735120" cy="28440"/>
          </a:xfrm>
        </p:grpSpPr>
        <p:sp>
          <p:nvSpPr>
            <p:cNvPr id="858" name="Line 20"/>
            <p:cNvSpPr/>
            <p:nvPr/>
          </p:nvSpPr>
          <p:spPr>
            <a:xfrm flipH="1">
              <a:off x="1749240" y="5516640"/>
              <a:ext cx="734760" cy="284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1749600" y="5516640"/>
              <a:ext cx="734760" cy="2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Text Box 21"/>
          <p:cNvSpPr/>
          <p:nvPr/>
        </p:nvSpPr>
        <p:spPr>
          <a:xfrm>
            <a:off x="3016080" y="2897280"/>
            <a:ext cx="2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795640" y="3170160"/>
            <a:ext cx="19440" cy="979560"/>
            <a:chOff x="5795640" y="3170160"/>
            <a:chExt cx="19440" cy="979560"/>
          </a:xfrm>
        </p:grpSpPr>
        <p:sp>
          <p:nvSpPr>
            <p:cNvPr id="862" name="Line 22"/>
            <p:cNvSpPr/>
            <p:nvPr/>
          </p:nvSpPr>
          <p:spPr>
            <a:xfrm flipH="1">
              <a:off x="5795640" y="3170160"/>
              <a:ext cx="19080" cy="979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 txBox="1"/>
            <p:nvPr/>
          </p:nvSpPr>
          <p:spPr>
            <a:xfrm>
              <a:off x="5796000" y="3170160"/>
              <a:ext cx="19080" cy="9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Text Box 23"/>
          <p:cNvSpPr/>
          <p:nvPr/>
        </p:nvSpPr>
        <p:spPr>
          <a:xfrm>
            <a:off x="2336760" y="4897440"/>
            <a:ext cx="107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保险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5795640" y="4537080"/>
            <a:ext cx="19440" cy="979560"/>
            <a:chOff x="5795640" y="4537080"/>
            <a:chExt cx="19440" cy="979560"/>
          </a:xfrm>
        </p:grpSpPr>
        <p:sp>
          <p:nvSpPr>
            <p:cNvPr id="866" name="Line 24"/>
            <p:cNvSpPr/>
            <p:nvPr/>
          </p:nvSpPr>
          <p:spPr>
            <a:xfrm flipH="1">
              <a:off x="5795640" y="4537080"/>
              <a:ext cx="19080" cy="979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 txBox="1"/>
            <p:nvPr/>
          </p:nvSpPr>
          <p:spPr>
            <a:xfrm>
              <a:off x="5796000" y="4537080"/>
              <a:ext cx="19080" cy="9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Text Box 25"/>
          <p:cNvSpPr/>
          <p:nvPr/>
        </p:nvSpPr>
        <p:spPr>
          <a:xfrm>
            <a:off x="5580000" y="3664080"/>
            <a:ext cx="87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5867280" y="4149720"/>
            <a:ext cx="144720" cy="431640"/>
            <a:chOff x="5867280" y="4149720"/>
            <a:chExt cx="144720" cy="431640"/>
          </a:xfrm>
        </p:grpSpPr>
        <p:sp>
          <p:nvSpPr>
            <p:cNvPr id="870" name="Line 26"/>
            <p:cNvSpPr/>
            <p:nvPr/>
          </p:nvSpPr>
          <p:spPr>
            <a:xfrm>
              <a:off x="5867280" y="4149720"/>
              <a:ext cx="144720" cy="431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 txBox="1"/>
            <p:nvPr/>
          </p:nvSpPr>
          <p:spPr>
            <a:xfrm>
              <a:off x="5867280" y="4149720"/>
              <a:ext cx="14472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Text Box 27"/>
          <p:cNvSpPr/>
          <p:nvPr/>
        </p:nvSpPr>
        <p:spPr>
          <a:xfrm>
            <a:off x="6516720" y="315612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关闭合后会看到什么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8"/>
          <p:cNvSpPr/>
          <p:nvPr/>
        </p:nvSpPr>
        <p:spPr>
          <a:xfrm>
            <a:off x="395280" y="333360"/>
            <a:ext cx="844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9"/>
          <p:cNvSpPr/>
          <p:nvPr/>
        </p:nvSpPr>
        <p:spPr>
          <a:xfrm>
            <a:off x="1116000" y="1268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短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0" y="0"/>
            <a:ext cx="9144000" cy="2133720"/>
            <a:chOff x="0" y="0"/>
            <a:chExt cx="9144000" cy="2133720"/>
          </a:xfrm>
        </p:grpSpPr>
        <p:sp>
          <p:nvSpPr>
            <p:cNvPr id="876" name="AutoShape 3"/>
            <p:cNvSpPr/>
            <p:nvPr/>
          </p:nvSpPr>
          <p:spPr>
            <a:xfrm>
              <a:off x="0" y="0"/>
              <a:ext cx="9144000" cy="2133720"/>
            </a:xfrm>
            <a:prstGeom prst="irregularSeal2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Text Box 4"/>
            <p:cNvSpPr/>
            <p:nvPr/>
          </p:nvSpPr>
          <p:spPr>
            <a:xfrm>
              <a:off x="1066680" y="304920"/>
              <a:ext cx="7162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600" spc="-1" strike="noStrike">
                  <a:solidFill>
                    <a:srgbClr val="0000ff"/>
                  </a:solidFill>
                  <a:latin typeface="Times New Roman"/>
                </a:rPr>
                <a:t>？</a:t>
              </a:r>
              <a:r>
                <a:rPr b="1" i="1" lang="zh-CN" sz="96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想</a:t>
              </a:r>
              <a:r>
                <a:rPr b="1" i="1" lang="zh-CN" sz="80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想</a:t>
              </a:r>
              <a:r>
                <a:rPr b="1" i="1" lang="zh-CN" sz="96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  议</a:t>
              </a:r>
              <a:r>
                <a:rPr b="1" i="1" lang="zh-CN" sz="80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议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5"/>
          <p:cNvSpPr/>
          <p:nvPr/>
        </p:nvSpPr>
        <p:spPr>
          <a:xfrm>
            <a:off x="539640" y="2209680"/>
            <a:ext cx="81471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看到什么现象？短路时灯泡损坏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短路为什么会引起火灾？日常生活中要如何防止短路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3"/>
          <p:cNvSpPr/>
          <p:nvPr/>
        </p:nvSpPr>
        <p:spPr>
          <a:xfrm>
            <a:off x="1042920" y="126828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"/>
          <p:cNvSpPr/>
          <p:nvPr/>
        </p:nvSpPr>
        <p:spPr>
          <a:xfrm>
            <a:off x="324000" y="333360"/>
            <a:ext cx="844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家庭电路中电流过大的原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8"/>
          <p:cNvSpPr/>
          <p:nvPr/>
        </p:nvSpPr>
        <p:spPr>
          <a:xfrm>
            <a:off x="1456200" y="1341360"/>
            <a:ext cx="31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用电器的总功率过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9"/>
          <p:cNvSpPr/>
          <p:nvPr/>
        </p:nvSpPr>
        <p:spPr>
          <a:xfrm>
            <a:off x="755640" y="20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器的总功率过大也会引起电流过大，能说出你的判断依据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0"/>
          <p:cNvSpPr/>
          <p:nvPr/>
        </p:nvSpPr>
        <p:spPr>
          <a:xfrm>
            <a:off x="611280" y="4464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不能用实验证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的判断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11" descr="image079"/>
          <p:cNvPicPr/>
          <p:nvPr/>
        </p:nvPicPr>
        <p:blipFill>
          <a:blip r:embed="rId1"/>
          <a:stretch/>
        </p:blipFill>
        <p:spPr>
          <a:xfrm>
            <a:off x="5830920" y="3808440"/>
            <a:ext cx="3313080" cy="3049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1:29:3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41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