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9.wmf" ContentType="image/x-wmf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674-F05A-4C00-989A-FD89658F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81A-55CB-40A2-A96E-E7644DF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4C4-1679-4768-AF5B-4C438C39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04C-C387-460D-8B08-F848761C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DA2-A7AA-43B1-BDF2-864A4A24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C341-2CA2-49F6-ADA6-00B0A46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EE70-E7F5-448C-923B-EAC82046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1FB3-49E3-48D7-A49A-FC343634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A589-AD01-4BB6-A91D-08A15D55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856-FB33-4806-A0BF-A3547CB5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9F9E-4EF1-4C1E-9E0F-057951B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760-4D9C-4B4A-9609-FB62041A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D22-AF9E-41A7-9088-CB56DAF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C32-5773-4F18-8FA0-0E69AC7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A53-6404-48E4-8340-31040695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670A-2530-4438-82F9-827ECF9E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0185-A08C-4A74-B18A-0EB3393A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9D08-4543-42D1-A980-17718A3F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8A9C-0F65-45D8-8631-BBF93F0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1254-8423-4E78-B49C-FEF20D6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E324-EA98-4731-9CBE-23C020A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362C-53FE-4797-95C4-33BB1FA7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E4A-1598-4647-9AA8-3CA4D6D0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F858-A836-4FE1-8366-C9B4AC95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CE79-06DA-4A65-A7B5-1C635FB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D15B-1D38-430E-B3A8-80F1F69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A058-9B13-47D6-92FA-070ECB05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2AD3-6616-43C7-AC42-E51A266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65BA-30F0-4E0C-8AA5-CE0F9D35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7BC6-A220-46A1-AAB3-09732BAB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85E-0264-4D0C-9195-0F421E1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A78-17EB-454A-8A1B-ED8CF95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159-300B-4445-9FF6-B75BC391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57C-A7E6-456C-A87A-5F74B1E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E5B-DC1A-495F-BEE6-F843B91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C3D-08A9-4AC5-84DE-72A8D0FC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4142-4559-4AA4-8070-603FF8939A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A8D-AD6B-4043-8303-945BBC7984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948-4424-47B4-89EA-39199E1105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332000" y="2205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今天你安全吗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2612880" y="2060640"/>
            <a:ext cx="3980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1706400" y="1557360"/>
            <a:ext cx="5715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2633760" y="1773360"/>
            <a:ext cx="3876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1068480" y="1125360"/>
            <a:ext cx="69530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1995480" y="1989000"/>
            <a:ext cx="51530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1143000" y="11253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919080" y="1413000"/>
            <a:ext cx="7305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762120" y="1413000"/>
            <a:ext cx="7619760" cy="48034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199"/>
          <p:cNvSpPr/>
          <p:nvPr/>
        </p:nvSpPr>
        <p:spPr>
          <a:xfrm>
            <a:off x="1606680" y="1077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1697040" y="126828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847880" y="2492280"/>
            <a:ext cx="577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99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，我国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万名中小学生非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常死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，国家少年儿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安康计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布的数据显示，我国少年儿童因安全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故、食物中毒、溺水等死亡的，平均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天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多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2360" y="198900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我们常说：“家是避风港，全岛。总觉得在家是最安全的。其实，安全的家不是自然就有，也不会永恒不变，他需要家庭里的每一位成员用心去维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9640" y="206064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些活动的确存在安全隐患，但是如果因此而不参加或少参加活动，我们会失去增长见识、锻炼能力的机会。所以，掌握一些避免伤害的方法是非常必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:\品德\！今天，你安全吗（二）\游泳.jpg"/>
          <p:cNvPicPr/>
          <p:nvPr/>
        </p:nvPicPr>
        <p:blipFill>
          <a:blip r:embed="rId1"/>
          <a:stretch/>
        </p:blipFill>
        <p:spPr>
          <a:xfrm>
            <a:off x="684360" y="2205000"/>
            <a:ext cx="6421320" cy="42004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5402160" y="1143000"/>
            <a:ext cx="3276720" cy="1327320"/>
          </a:xfrm>
          <a:prstGeom prst="cloudCallout">
            <a:avLst>
              <a:gd name="adj1" fmla="val -24129"/>
              <a:gd name="adj2" fmla="val 9775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的时候应当注意什么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:\品德\！今天，你安全吗（二）\削苹果.jpg"/>
          <p:cNvPicPr/>
          <p:nvPr/>
        </p:nvPicPr>
        <p:blipFill>
          <a:blip r:embed="rId1"/>
          <a:stretch/>
        </p:blipFill>
        <p:spPr>
          <a:xfrm>
            <a:off x="395280" y="1917720"/>
            <a:ext cx="6797520" cy="41958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/>
          <p:cNvSpPr/>
          <p:nvPr/>
        </p:nvSpPr>
        <p:spPr>
          <a:xfrm>
            <a:off x="5148360" y="1557360"/>
            <a:ext cx="3581280" cy="971640"/>
          </a:xfrm>
          <a:prstGeom prst="cloudCallout">
            <a:avLst>
              <a:gd name="adj1" fmla="val -36879"/>
              <a:gd name="adj2" fmla="val 9142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样防止划破手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:\品德\！今天，你安全吗（二）\玩底子.jpg"/>
          <p:cNvPicPr/>
          <p:nvPr/>
        </p:nvPicPr>
        <p:blipFill>
          <a:blip r:embed="rId1"/>
          <a:stretch/>
        </p:blipFill>
        <p:spPr>
          <a:xfrm>
            <a:off x="395280" y="2133720"/>
            <a:ext cx="6170760" cy="4184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3"/>
          <p:cNvSpPr/>
          <p:nvPr/>
        </p:nvSpPr>
        <p:spPr>
          <a:xfrm>
            <a:off x="5796000" y="1484280"/>
            <a:ext cx="3124080" cy="1141560"/>
          </a:xfrm>
          <a:prstGeom prst="cloudCallout">
            <a:avLst>
              <a:gd name="adj1" fmla="val -46037"/>
              <a:gd name="adj2" fmla="val 7463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样防止摔伤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:\品德\！今天，你安全吗（二）\爬底子.jpg"/>
          <p:cNvPicPr/>
          <p:nvPr/>
        </p:nvPicPr>
        <p:blipFill>
          <a:blip r:embed="rId1"/>
          <a:stretch/>
        </p:blipFill>
        <p:spPr>
          <a:xfrm>
            <a:off x="684360" y="1989000"/>
            <a:ext cx="5654520" cy="41896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"/>
          <p:cNvSpPr/>
          <p:nvPr/>
        </p:nvSpPr>
        <p:spPr>
          <a:xfrm>
            <a:off x="5869080" y="1413000"/>
            <a:ext cx="3124080" cy="1141200"/>
          </a:xfrm>
          <a:prstGeom prst="cloudCallout">
            <a:avLst>
              <a:gd name="adj1" fmla="val -46037"/>
              <a:gd name="adj2" fmla="val 7463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使用体育器材该注意什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900000" y="1773360"/>
            <a:ext cx="7632360" cy="4066560"/>
            <a:chOff x="900000" y="1773360"/>
            <a:chExt cx="7632360" cy="4066560"/>
          </a:xfrm>
        </p:grpSpPr>
        <p:pic>
          <p:nvPicPr>
            <p:cNvPr id="171" name="Picture 3" descr="F:\品德\PPT背景\小孩.jpg"/>
            <p:cNvPicPr/>
            <p:nvPr/>
          </p:nvPicPr>
          <p:blipFill>
            <a:blip r:embed="rId1"/>
            <a:stretch/>
          </p:blipFill>
          <p:spPr>
            <a:xfrm>
              <a:off x="6127560" y="2754720"/>
              <a:ext cx="2404800" cy="308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4"/>
            <p:cNvSpPr/>
            <p:nvPr/>
          </p:nvSpPr>
          <p:spPr>
            <a:xfrm>
              <a:off x="900000" y="1773360"/>
              <a:ext cx="5227560" cy="2313720"/>
            </a:xfrm>
            <a:prstGeom prst="cloudCallout">
              <a:avLst>
                <a:gd name="adj1" fmla="val 53925"/>
                <a:gd name="adj2" fmla="val 628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在我们身边还有哪些活动容易造成伤害？你有避免的好办法吗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1476360" y="1628640"/>
            <a:ext cx="6308280" cy="4273200"/>
            <a:chOff x="1476360" y="1628640"/>
            <a:chExt cx="6308280" cy="4273200"/>
          </a:xfrm>
        </p:grpSpPr>
        <p:pic>
          <p:nvPicPr>
            <p:cNvPr id="174" name="Picture 3" descr="F:\品德\！今天，你安全吗（二）\旅行.jpg"/>
            <p:cNvPicPr/>
            <p:nvPr/>
          </p:nvPicPr>
          <p:blipFill>
            <a:blip r:embed="rId1"/>
            <a:stretch/>
          </p:blipFill>
          <p:spPr>
            <a:xfrm>
              <a:off x="1476360" y="1628640"/>
              <a:ext cx="6308280" cy="37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4"/>
            <p:cNvSpPr/>
            <p:nvPr/>
          </p:nvSpPr>
          <p:spPr>
            <a:xfrm>
              <a:off x="3704400" y="5381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旅游时购买旅游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1298880" y="1628640"/>
            <a:ext cx="6765480" cy="4253760"/>
            <a:chOff x="1298880" y="1628640"/>
            <a:chExt cx="6765480" cy="4253760"/>
          </a:xfrm>
        </p:grpSpPr>
        <p:pic>
          <p:nvPicPr>
            <p:cNvPr id="177" name="Picture 3" descr="F:\品德\！今天，你安全吗（二）\德育.jpg"/>
            <p:cNvPicPr/>
            <p:nvPr/>
          </p:nvPicPr>
          <p:blipFill>
            <a:blip r:embed="rId1"/>
            <a:stretch/>
          </p:blipFill>
          <p:spPr>
            <a:xfrm>
              <a:off x="1298880" y="1628640"/>
              <a:ext cx="6765480" cy="37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4"/>
            <p:cNvSpPr/>
            <p:nvPr/>
          </p:nvSpPr>
          <p:spPr>
            <a:xfrm>
              <a:off x="3239640" y="536184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校为同学代买意外伤害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8199"/>
          <p:cNvSpPr/>
          <p:nvPr/>
        </p:nvSpPr>
        <p:spPr>
          <a:xfrm>
            <a:off x="1298520" y="1096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F:\品德\！今天，你安全吗（二）\27-1.jpg"/>
          <p:cNvPicPr/>
          <p:nvPr/>
        </p:nvPicPr>
        <p:blipFill>
          <a:blip r:embed="rId1"/>
          <a:stretch/>
        </p:blipFill>
        <p:spPr>
          <a:xfrm>
            <a:off x="179280" y="2565360"/>
            <a:ext cx="5262840" cy="41943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/>
          <p:cNvSpPr/>
          <p:nvPr/>
        </p:nvSpPr>
        <p:spPr>
          <a:xfrm>
            <a:off x="252360" y="1052640"/>
            <a:ext cx="2286000" cy="1314360"/>
          </a:xfrm>
          <a:prstGeom prst="cloudCallout">
            <a:avLst>
              <a:gd name="adj1" fmla="val 25194"/>
              <a:gd name="adj2" fmla="val 7279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腿摔断了，需要住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635280" y="1701720"/>
            <a:ext cx="2210040" cy="1201680"/>
          </a:xfrm>
          <a:prstGeom prst="cloudCallout">
            <a:avLst>
              <a:gd name="adj1" fmla="val -46523"/>
              <a:gd name="adj2" fmla="val 633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需要一笔住院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:\品德\！今天，你安全吗（二）\27-2.jpg"/>
          <p:cNvPicPr/>
          <p:nvPr/>
        </p:nvPicPr>
        <p:blipFill>
          <a:blip r:embed="rId2"/>
          <a:stretch/>
        </p:blipFill>
        <p:spPr>
          <a:xfrm>
            <a:off x="5796000" y="1413000"/>
            <a:ext cx="2932200" cy="1933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580000" y="5013360"/>
            <a:ext cx="3429000" cy="1440000"/>
          </a:xfrm>
          <a:prstGeom prst="cloudCallout">
            <a:avLst>
              <a:gd name="adj1" fmla="val 518"/>
              <a:gd name="adj2" fmla="val -14152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了这笔意外伤害保险金，我就不用另外掏钱交住院费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971640" y="1557360"/>
            <a:ext cx="7248600" cy="4168440"/>
            <a:chOff x="971640" y="1557360"/>
            <a:chExt cx="7248600" cy="4168440"/>
          </a:xfrm>
        </p:grpSpPr>
        <p:pic>
          <p:nvPicPr>
            <p:cNvPr id="186" name="Picture 3" descr="F:\品德\PPT背景\小孩.jpg"/>
            <p:cNvPicPr/>
            <p:nvPr/>
          </p:nvPicPr>
          <p:blipFill>
            <a:blip r:embed="rId1"/>
            <a:stretch/>
          </p:blipFill>
          <p:spPr>
            <a:xfrm>
              <a:off x="5940360" y="2421360"/>
              <a:ext cx="2279880" cy="33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4"/>
            <p:cNvSpPr/>
            <p:nvPr/>
          </p:nvSpPr>
          <p:spPr>
            <a:xfrm>
              <a:off x="971640" y="1557360"/>
              <a:ext cx="3899160" cy="2520360"/>
            </a:xfrm>
            <a:prstGeom prst="cloudCallout">
              <a:avLst>
                <a:gd name="adj1" fmla="val 72800"/>
                <a:gd name="adj2" fmla="val 31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买了保险是不是就可以不注意安全了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看看这个同学的家安全吗？</a:t>
            </a:r>
            <a:br>
              <a:rPr sz="800"/>
            </a:b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F:\品德\！今天，你安全吗（一）\大图.jpg"/>
          <p:cNvPicPr/>
          <p:nvPr/>
        </p:nvPicPr>
        <p:blipFill>
          <a:blip r:embed="rId1"/>
          <a:stretch/>
        </p:blipFill>
        <p:spPr>
          <a:xfrm>
            <a:off x="468360" y="1486080"/>
            <a:ext cx="698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B56-2D8A-4F44-81FF-A65E39E053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ShockwaveFlash1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27" descr="F:\品德\！今天，你安全吗（一）\高压锅.jpg"/>
          <p:cNvPicPr/>
          <p:nvPr/>
        </p:nvPicPr>
        <p:blipFill>
          <a:blip r:embed="rId1"/>
          <a:stretch/>
        </p:blipFill>
        <p:spPr>
          <a:xfrm>
            <a:off x="1044720" y="2421000"/>
            <a:ext cx="3095640" cy="3084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4500720" y="342900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火灾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F:\品德\！今天，你安全吗（一）\老爸.jpg"/>
          <p:cNvPicPr/>
          <p:nvPr/>
        </p:nvPicPr>
        <p:blipFill>
          <a:blip r:embed="rId1"/>
          <a:stretch/>
        </p:blipFill>
        <p:spPr>
          <a:xfrm>
            <a:off x="828720" y="2492280"/>
            <a:ext cx="2698560" cy="3076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4500720" y="2997360"/>
            <a:ext cx="330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烫伤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中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F:\品德\！今天，你安全吗（一）\奶奶.jpg"/>
          <p:cNvPicPr/>
          <p:nvPr/>
        </p:nvPicPr>
        <p:blipFill>
          <a:blip r:embed="rId1"/>
          <a:stretch/>
        </p:blipFill>
        <p:spPr>
          <a:xfrm>
            <a:off x="684360" y="2349360"/>
            <a:ext cx="2930400" cy="3076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500720" y="342900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触电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品德\！今天，你安全吗（一）\拖地.jpg"/>
          <p:cNvPicPr/>
          <p:nvPr/>
        </p:nvPicPr>
        <p:blipFill>
          <a:blip r:embed="rId1"/>
          <a:stretch/>
        </p:blipFill>
        <p:spPr>
          <a:xfrm>
            <a:off x="771480" y="2349360"/>
            <a:ext cx="2505240" cy="3144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500720" y="342900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滑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品德\！今天，你安全吗（一）\猫.jpg"/>
          <p:cNvPicPr/>
          <p:nvPr/>
        </p:nvPicPr>
        <p:blipFill>
          <a:blip r:embed="rId1"/>
          <a:stretch/>
        </p:blipFill>
        <p:spPr>
          <a:xfrm>
            <a:off x="755640" y="2205000"/>
            <a:ext cx="4032360" cy="3054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4932360" y="3502080"/>
            <a:ext cx="330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抓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075920" y="1917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我们在一天天长大，自己活动的机会也一天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增多。在我们玩的开心的时候，可别忘了，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险就像一位不需要邀请的客人，常常会在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不留心的时候来敲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1692360" y="4508640"/>
            <a:ext cx="5904000" cy="1296720"/>
          </a:xfrm>
          <a:prstGeom prst="wedgeRect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们活动中会有哪些不安全的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素？我们分成小组找找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0:5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48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