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D48-8175-45A6-A52D-CC3DD9B8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C8-B91D-4B53-A157-E87E3BC4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389-F3D0-468A-A748-1106038E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6B0-D1C8-46B3-9E2E-407E9C47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FDA7-6A03-4E24-81FF-F11BB6BA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5BE8-BA2D-4E8C-AD20-B18979A0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537-7A5A-4E3A-A356-22A91F21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BD8C-8280-46B0-857B-F91F6F7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9122-3140-49AD-8582-AD58F823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FEF-8718-4478-8E50-0D6CD50F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2F0-02FA-4B53-9C55-DDB1DDD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498-CE8E-4083-8952-E638E13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313C-7CD3-4289-ADE3-D25A967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922-A543-4710-9E3D-65B77D7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B41-73E8-4A65-A136-52A9245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90B-CD6C-4FE8-BFF6-FB8A37D9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50C-3B9A-4913-BCB1-57B4BDB3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35FE-5337-4918-A341-CB61CC8B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C751-8DF3-45AE-9E66-CAFED605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88CC-BCDA-4E08-BC78-F0CDF6C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19CF-1755-47B0-B912-CD1457F3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A644-EAA7-45DD-BDA2-95D40B8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C83-AACF-41C4-AE40-95EA622B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4F63-2C2C-473F-BA45-B9302D3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197B-4A38-416A-8ED8-19A5FD2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7919-6BA7-4BF4-9004-0B5C44F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04CD-DA1C-402B-97BC-E1F26F9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78FC-6280-4ED9-95D8-4762C79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19EF-66EE-431C-A50B-7ACC08BF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BD51-C632-45D9-897F-2783AA69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97D-2075-411A-90DE-EFA63E6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0DF-403B-4334-9524-B5D497DA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3FB-CAFC-4A46-9A32-A85339D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15F-7A64-4953-B91D-127BE51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1BE-8A9F-431B-9626-D0A406D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1EB-EB83-49EE-8DD5-B4A600B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5645160"/>
            <a:ext cx="9134640" cy="121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B4B8-29AC-44B6-9CF2-21F9C4FB4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C40-99E5-49E1-80E3-F92531B3A3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D9A3-D9FE-4B7F-8D9D-DED8A0F43C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pps4_ygys.M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矩形 5" descr=""/>
          <p:cNvPicPr/>
          <p:nvPr/>
        </p:nvPicPr>
        <p:blipFill>
          <a:blip r:embed="rId1"/>
          <a:stretch/>
        </p:blipFill>
        <p:spPr>
          <a:xfrm>
            <a:off x="733320" y="1555920"/>
            <a:ext cx="7813800" cy="70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5800" y="26352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649320" y="4941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人们出行有哪些不便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D:\pinde\03_2交通与我们的生活\群山环绕.jpg"/>
          <p:cNvPicPr/>
          <p:nvPr/>
        </p:nvPicPr>
        <p:blipFill>
          <a:blip r:embed="rId2"/>
          <a:stretch/>
        </p:blipFill>
        <p:spPr>
          <a:xfrm>
            <a:off x="2575080" y="1531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2775960" y="9032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5800" y="40644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:\pinde\03_2交通与我们的生活\群山连绵起伏.bmp"/>
          <p:cNvPicPr/>
          <p:nvPr/>
        </p:nvPicPr>
        <p:blipFill>
          <a:blip r:embed="rId2"/>
          <a:stretch/>
        </p:blipFill>
        <p:spPr>
          <a:xfrm>
            <a:off x="2727360" y="17510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649320" y="5084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人们出行有哪些不便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775960" y="1046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81120" y="3888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4041360" y="5157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D:\pinde\03_2交通与我们的生活\山区的公路.jpg"/>
          <p:cNvPicPr/>
          <p:nvPr/>
        </p:nvPicPr>
        <p:blipFill>
          <a:blip r:embed="rId2"/>
          <a:stretch/>
        </p:blipFill>
        <p:spPr>
          <a:xfrm>
            <a:off x="1979640" y="1866960"/>
            <a:ext cx="5543640" cy="3244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771280" y="10288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31880" y="46044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2822040" y="1100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9212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D:\pinde\03_2交通与我们的生活\山区的公路2.jpg"/>
          <p:cNvPicPr/>
          <p:nvPr/>
        </p:nvPicPr>
        <p:blipFill>
          <a:blip r:embed="rId2"/>
          <a:stretch/>
        </p:blipFill>
        <p:spPr>
          <a:xfrm>
            <a:off x="2468520" y="17096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3160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791800" y="9558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062240" y="508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D:\pinde\03_2交通与我们的生活\山区的公路3.jpg"/>
          <p:cNvPicPr/>
          <p:nvPr/>
        </p:nvPicPr>
        <p:blipFill>
          <a:blip r:embed="rId2"/>
          <a:stretch/>
        </p:blipFill>
        <p:spPr>
          <a:xfrm>
            <a:off x="2209680" y="1565280"/>
            <a:ext cx="5143680" cy="33940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8199"/>
          <p:cNvSpPr/>
          <p:nvPr/>
        </p:nvSpPr>
        <p:spPr>
          <a:xfrm>
            <a:off x="3124080" y="468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46044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27"/>
          <p:cNvSpPr/>
          <p:nvPr/>
        </p:nvSpPr>
        <p:spPr>
          <a:xfrm>
            <a:off x="2791800" y="11001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山区交通大家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406224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区的公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29" descr="D:\pinde\03_2交通与我们的生活\山区的公路4.jpg"/>
          <p:cNvPicPr/>
          <p:nvPr/>
        </p:nvPicPr>
        <p:blipFill>
          <a:blip r:embed="rId2"/>
          <a:stretch/>
        </p:blipFill>
        <p:spPr>
          <a:xfrm>
            <a:off x="2195640" y="178596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26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585720" y="760320"/>
            <a:ext cx="2435400" cy="606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27"/>
          <p:cNvSpPr/>
          <p:nvPr/>
        </p:nvSpPr>
        <p:spPr>
          <a:xfrm>
            <a:off x="1116000" y="220500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路修好后，山区人们生活发生了哪些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人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富，先修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句话有道理吗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028" descr="D:\小学数学\模版\a5.png"/>
          <p:cNvPicPr/>
          <p:nvPr/>
        </p:nvPicPr>
        <p:blipFill>
          <a:blip r:embed="rId2"/>
          <a:stretch/>
        </p:blipFill>
        <p:spPr>
          <a:xfrm>
            <a:off x="6526080" y="3500280"/>
            <a:ext cx="2401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25D-F773-4D6E-88A5-76E0D04FF3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D:\work\大全集\下学期送审\psd\品德与社会\04.gif"/>
          <p:cNvPicPr/>
          <p:nvPr/>
        </p:nvPicPr>
        <p:blipFill>
          <a:blip r:embed="rId1"/>
          <a:stretch/>
        </p:blipFill>
        <p:spPr>
          <a:xfrm>
            <a:off x="685800" y="358920"/>
            <a:ext cx="2446200" cy="606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965160"/>
            <a:ext cx="57909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work\大全集\下学期送审\psd\品德与社会\01.gif"/>
          <p:cNvPicPr/>
          <p:nvPr/>
        </p:nvPicPr>
        <p:blipFill>
          <a:blip r:embed="rId1"/>
          <a:stretch/>
        </p:blipFill>
        <p:spPr>
          <a:xfrm>
            <a:off x="644400" y="7462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小学数学\模版\a10.png"/>
          <p:cNvPicPr/>
          <p:nvPr/>
        </p:nvPicPr>
        <p:blipFill>
          <a:blip r:embed="rId2"/>
          <a:stretch/>
        </p:blipFill>
        <p:spPr>
          <a:xfrm>
            <a:off x="5715000" y="2438280"/>
            <a:ext cx="1368360" cy="3353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1905120" y="1981080"/>
            <a:ext cx="3276360" cy="1524240"/>
          </a:xfrm>
          <a:prstGeom prst="wedgeRoundRectCallout">
            <a:avLst>
              <a:gd name="adj1" fmla="val 77324"/>
              <a:gd name="adj2" fmla="val 26773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想一想交通给我们带来了哪些方便和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"/>
          <p:cNvSpPr/>
          <p:nvPr/>
        </p:nvSpPr>
        <p:spPr>
          <a:xfrm>
            <a:off x="1705320" y="1050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D:\pinde\03_2交通与我们的生活\公共汽车.jpg"/>
          <p:cNvPicPr/>
          <p:nvPr/>
        </p:nvPicPr>
        <p:blipFill>
          <a:blip r:embed="rId1"/>
          <a:stretch/>
        </p:blipFill>
        <p:spPr>
          <a:xfrm>
            <a:off x="890640" y="2193840"/>
            <a:ext cx="4495680" cy="2247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3713040" y="5013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给我们生活和快捷工作带来了方便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5562720" y="1523880"/>
            <a:ext cx="2971800" cy="4496040"/>
            <a:chOff x="5562720" y="1523880"/>
            <a:chExt cx="2971800" cy="4496040"/>
          </a:xfrm>
        </p:grpSpPr>
        <p:sp>
          <p:nvSpPr>
            <p:cNvPr id="134" name="AutoShape 12"/>
            <p:cNvSpPr/>
            <p:nvPr/>
          </p:nvSpPr>
          <p:spPr>
            <a:xfrm>
              <a:off x="5562720" y="1523880"/>
              <a:ext cx="2971800" cy="2362320"/>
            </a:xfrm>
            <a:prstGeom prst="cloudCallout">
              <a:avLst>
                <a:gd name="adj1" fmla="val -12180"/>
                <a:gd name="adj2" fmla="val 55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我爸爸妈妈上班、下班要乘坐公共汽车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4" descr="D:\小学数学\模版\a7.png"/>
            <p:cNvPicPr/>
            <p:nvPr/>
          </p:nvPicPr>
          <p:blipFill>
            <a:blip r:embed="rId2"/>
            <a:stretch/>
          </p:blipFill>
          <p:spPr>
            <a:xfrm>
              <a:off x="6781680" y="3794040"/>
              <a:ext cx="1190880" cy="22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5" descr="D:\work\大全集\下学期送审\psd\品德与社会\03.gif"/>
          <p:cNvPicPr/>
          <p:nvPr/>
        </p:nvPicPr>
        <p:blipFill>
          <a:blip r:embed="rId3"/>
          <a:stretch/>
        </p:blipFill>
        <p:spPr>
          <a:xfrm>
            <a:off x="297000" y="411120"/>
            <a:ext cx="242244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D:\pinde\03_2交通与我们的生活\火车站.jpg"/>
          <p:cNvPicPr/>
          <p:nvPr/>
        </p:nvPicPr>
        <p:blipFill>
          <a:blip r:embed="rId1"/>
          <a:stretch/>
        </p:blipFill>
        <p:spPr>
          <a:xfrm>
            <a:off x="3895560" y="188136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work\大全集\下学期送审\psd\品德与社会\03.gif"/>
          <p:cNvPicPr/>
          <p:nvPr/>
        </p:nvPicPr>
        <p:blipFill>
          <a:blip r:embed="rId2"/>
          <a:stretch/>
        </p:blipFill>
        <p:spPr>
          <a:xfrm>
            <a:off x="787320" y="38412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2195640" y="1023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687840" y="47736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使我们生活的范围扩大了，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拥有了更多与外部联系的机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9"/>
          <p:cNvGrpSpPr/>
          <p:nvPr/>
        </p:nvGrpSpPr>
        <p:grpSpPr>
          <a:xfrm>
            <a:off x="85680" y="1557360"/>
            <a:ext cx="4038480" cy="3962520"/>
            <a:chOff x="85680" y="1557360"/>
            <a:chExt cx="4038480" cy="3962520"/>
          </a:xfrm>
        </p:grpSpPr>
        <p:pic>
          <p:nvPicPr>
            <p:cNvPr id="142" name="Picture 16" descr="D:\小学数学\模版\a12.png"/>
            <p:cNvPicPr/>
            <p:nvPr/>
          </p:nvPicPr>
          <p:blipFill>
            <a:blip r:embed="rId3"/>
            <a:stretch/>
          </p:blipFill>
          <p:spPr>
            <a:xfrm>
              <a:off x="1500120" y="3391200"/>
              <a:ext cx="96048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2"/>
            <p:cNvSpPr/>
            <p:nvPr/>
          </p:nvSpPr>
          <p:spPr>
            <a:xfrm>
              <a:off x="85680" y="1557360"/>
              <a:ext cx="4038480" cy="1814760"/>
            </a:xfrm>
            <a:prstGeom prst="cloudCallout">
              <a:avLst>
                <a:gd name="adj1" fmla="val 2671"/>
                <a:gd name="adj2" fmla="val 683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我们村有很多人到外地打工，可见世面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503280" y="341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911600" y="9810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31760" y="442584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拉近了人们的交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近了人与人之间的距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D:\pinde\03_2交通与我们的生活\p56.jpg"/>
          <p:cNvPicPr/>
          <p:nvPr/>
        </p:nvPicPr>
        <p:blipFill>
          <a:blip r:embed="rId2"/>
          <a:stretch/>
        </p:blipFill>
        <p:spPr>
          <a:xfrm>
            <a:off x="1554120" y="2048040"/>
            <a:ext cx="3124080" cy="1996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9"/>
          <p:cNvGrpSpPr/>
          <p:nvPr/>
        </p:nvGrpSpPr>
        <p:grpSpPr>
          <a:xfrm>
            <a:off x="5364000" y="981000"/>
            <a:ext cx="3047760" cy="4446720"/>
            <a:chOff x="5364000" y="981000"/>
            <a:chExt cx="3047760" cy="4446720"/>
          </a:xfrm>
        </p:grpSpPr>
        <p:sp>
          <p:nvSpPr>
            <p:cNvPr id="149" name="AutoShape 4"/>
            <p:cNvSpPr/>
            <p:nvPr/>
          </p:nvSpPr>
          <p:spPr>
            <a:xfrm>
              <a:off x="5364000" y="981000"/>
              <a:ext cx="3047760" cy="1219320"/>
            </a:xfrm>
            <a:prstGeom prst="cloudCallout">
              <a:avLst>
                <a:gd name="adj1" fmla="val -5921"/>
                <a:gd name="adj2" fmla="val 8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　欢迎远方的客人来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8" descr="D:\小学数学\模版\a6.png"/>
            <p:cNvPicPr/>
            <p:nvPr/>
          </p:nvPicPr>
          <p:blipFill>
            <a:blip r:embed="rId3"/>
            <a:stretch/>
          </p:blipFill>
          <p:spPr>
            <a:xfrm>
              <a:off x="5844960" y="2886120"/>
              <a:ext cx="1333440" cy="2541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49440" y="6555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057760" y="12952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36160" y="5049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使我们有可能品尝到其它地方的特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D:\pinde\03_2交通与我们的生活\海鲜大酒楼.jpg"/>
          <p:cNvPicPr/>
          <p:nvPr/>
        </p:nvPicPr>
        <p:blipFill>
          <a:blip r:embed="rId2"/>
          <a:stretch/>
        </p:blipFill>
        <p:spPr>
          <a:xfrm>
            <a:off x="1547640" y="1981080"/>
            <a:ext cx="3810240" cy="29210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5205240" y="838080"/>
            <a:ext cx="2679840" cy="4232520"/>
            <a:chOff x="5205240" y="838080"/>
            <a:chExt cx="2679840" cy="4232520"/>
          </a:xfrm>
        </p:grpSpPr>
        <p:pic>
          <p:nvPicPr>
            <p:cNvPr id="156" name="Picture 8" descr="D:\小学数学\模版\a9.png"/>
            <p:cNvPicPr/>
            <p:nvPr/>
          </p:nvPicPr>
          <p:blipFill>
            <a:blip r:embed="rId3"/>
            <a:stretch/>
          </p:blipFill>
          <p:spPr>
            <a:xfrm>
              <a:off x="6881760" y="2895480"/>
              <a:ext cx="100332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5"/>
            <p:cNvSpPr/>
            <p:nvPr/>
          </p:nvSpPr>
          <p:spPr>
            <a:xfrm>
              <a:off x="5205240" y="838080"/>
              <a:ext cx="2590920" cy="1828800"/>
            </a:xfrm>
            <a:prstGeom prst="cloudCallout">
              <a:avLst>
                <a:gd name="adj1" fmla="val 28675"/>
                <a:gd name="adj2" fmla="val 7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们内地人也能吃上海鲜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360360" y="39672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768680" y="10368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188440" y="477036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交通不仅带来我们所需要的物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为我们提供了更多的选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6" descr="D:\pinde\03_2交通与我们的生活\家.jpg"/>
          <p:cNvPicPr/>
          <p:nvPr/>
        </p:nvPicPr>
        <p:blipFill>
          <a:blip r:embed="rId2"/>
          <a:stretch/>
        </p:blipFill>
        <p:spPr>
          <a:xfrm>
            <a:off x="1335240" y="1779480"/>
            <a:ext cx="3581280" cy="26863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8"/>
          <p:cNvGrpSpPr/>
          <p:nvPr/>
        </p:nvGrpSpPr>
        <p:grpSpPr>
          <a:xfrm>
            <a:off x="4992840" y="426960"/>
            <a:ext cx="3123720" cy="4587840"/>
            <a:chOff x="4992840" y="426960"/>
            <a:chExt cx="3123720" cy="4587840"/>
          </a:xfrm>
        </p:grpSpPr>
        <p:sp>
          <p:nvSpPr>
            <p:cNvPr id="163" name="AutoShape 4"/>
            <p:cNvSpPr/>
            <p:nvPr/>
          </p:nvSpPr>
          <p:spPr>
            <a:xfrm>
              <a:off x="4992840" y="426960"/>
              <a:ext cx="3123720" cy="2209680"/>
            </a:xfrm>
            <a:prstGeom prst="cloudCallout">
              <a:avLst>
                <a:gd name="adj1" fmla="val -4486"/>
                <a:gd name="adj2" fmla="val 663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发现家中用的东西，很多都是外地产品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7" descr="D:\小学数学\模版\a7.png"/>
            <p:cNvPicPr/>
            <p:nvPr/>
          </p:nvPicPr>
          <p:blipFill>
            <a:blip r:embed="rId3"/>
            <a:stretch/>
          </p:blipFill>
          <p:spPr>
            <a:xfrm>
              <a:off x="6434640" y="2789280"/>
              <a:ext cx="1251360" cy="222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文本框 8199"/>
          <p:cNvSpPr/>
          <p:nvPr/>
        </p:nvSpPr>
        <p:spPr>
          <a:xfrm>
            <a:off x="304164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25320" y="7351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034000" y="1374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谈生活 话交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D:\pinde\03_2交通与我们的生活\服饰.jpg"/>
          <p:cNvPicPr/>
          <p:nvPr/>
        </p:nvPicPr>
        <p:blipFill>
          <a:blip r:embed="rId2"/>
          <a:stretch/>
        </p:blipFill>
        <p:spPr>
          <a:xfrm>
            <a:off x="1295280" y="2136600"/>
            <a:ext cx="4191120" cy="27212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0"/>
          <p:cNvGrpSpPr/>
          <p:nvPr/>
        </p:nvGrpSpPr>
        <p:grpSpPr>
          <a:xfrm>
            <a:off x="5867280" y="765000"/>
            <a:ext cx="2361960" cy="4979880"/>
            <a:chOff x="5867280" y="765000"/>
            <a:chExt cx="2361960" cy="4979880"/>
          </a:xfrm>
        </p:grpSpPr>
        <p:sp>
          <p:nvSpPr>
            <p:cNvPr id="170" name="AutoShape 6"/>
            <p:cNvSpPr/>
            <p:nvPr/>
          </p:nvSpPr>
          <p:spPr>
            <a:xfrm>
              <a:off x="5867280" y="765000"/>
              <a:ext cx="2361960" cy="1980360"/>
            </a:xfrm>
            <a:prstGeom prst="cloudCallout">
              <a:avLst>
                <a:gd name="adj1" fmla="val -1875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我们穿的衣服很多是外地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Picture 9" descr="D:\小学数学\模版\a6.png"/>
            <p:cNvPicPr/>
            <p:nvPr/>
          </p:nvPicPr>
          <p:blipFill>
            <a:blip r:embed="rId3"/>
            <a:stretch/>
          </p:blipFill>
          <p:spPr>
            <a:xfrm>
              <a:off x="6626520" y="2992680"/>
              <a:ext cx="1402200" cy="2752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671400" y="579600"/>
            <a:ext cx="2422800" cy="639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:\小学数学\模版\a10.png"/>
          <p:cNvPicPr/>
          <p:nvPr/>
        </p:nvPicPr>
        <p:blipFill>
          <a:blip r:embed="rId2"/>
          <a:stretch/>
        </p:blipFill>
        <p:spPr>
          <a:xfrm>
            <a:off x="6218280" y="2133720"/>
            <a:ext cx="1368360" cy="3352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3"/>
          <p:cNvSpPr/>
          <p:nvPr/>
        </p:nvSpPr>
        <p:spPr>
          <a:xfrm>
            <a:off x="2560680" y="2209680"/>
            <a:ext cx="3048120" cy="1524240"/>
          </a:xfrm>
          <a:prstGeom prst="wedgeRoundRectCallout">
            <a:avLst>
              <a:gd name="adj1" fmla="val 60624"/>
              <a:gd name="adj2" fmla="val -1322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结合我们的体验，想想交通还能为我们做什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5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