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1A1-4B38-414C-B5CE-E1D9B5F6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B78-CEB3-4BA1-B8AA-F18BF39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60C-6FA8-480C-B497-D81831F4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3A8-7CB7-4DCD-B858-DF293C91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24A7-0166-417B-82BF-F2D0F344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901F-BE93-4F4F-96C1-B9397E5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8639-4F2A-4EE0-9319-C0C7F26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77E3-7CBD-41BE-AF23-620270B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35A9-0156-4B19-97D8-7F221C5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B74-08AC-4679-BF61-57A19B4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6406-5BBF-4411-B6F6-EACFF23E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FF3-B6C2-44CE-A8D6-573594A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D9EA-1C92-4B38-928F-F96D228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644-6470-4254-A4E0-E347CDA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33E3-BB8F-45EC-94BB-00F0242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6DE-A3AC-49C1-AA75-D5B5CEDD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E0AA-BFDC-44B0-94F0-1666D7D6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64F-628D-41C2-B41F-067403C3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980-14EB-4982-874D-059953C0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85C-90CA-455F-BF00-521D0B70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88-2911-4AC0-932F-478457D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F94-34F6-4013-B4BD-FE4F4B9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CAE-C993-4BDB-93EA-F4BD03C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DBB-0AF6-490D-A03F-FD2E4AA7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A459-BE22-48AB-BBF7-21C535F0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A25-D7CF-41E7-A6DE-E93FF1BFCF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83fa0df26661a44cdbf1a5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931920" y="17582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单元 一方水土养一方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621520" y="103896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教新课标四年级品德与社会下册课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977760" y="2835360"/>
            <a:ext cx="73407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家乡的美景家乡的人语文</a:t>
            </a:r>
            <a:r>
              <a:rPr b="1" lang="en-US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歌颂家乡的美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20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不说俺家乡好　　　　　新疆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蒙古人　　　　　　　　　雪域之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奇的九寨　　　　　　　浏阳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爱五指山，我爱万泉河　太湖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8"/>
          <p:cNvSpPr/>
          <p:nvPr/>
        </p:nvSpPr>
        <p:spPr>
          <a:xfrm>
            <a:off x="1244520" y="4672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755640" y="54936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演一演∶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2627280" y="2276640"/>
            <a:ext cx="2691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我是小导游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42920" y="357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乡的风景名胜、文物古迹都有着许多美丽的传说和故事，我们来做次小导游，把这些故事介绍给大家看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08f43d42351c1d951da4b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395280" y="1413000"/>
            <a:ext cx="185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∶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395280" y="3357720"/>
            <a:ext cx="7921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找找我们的家乡有哪些名胜古迹和名人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BA4C-A79B-4990-86DE-0711930A8A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65560" y="23184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149040" y="750960"/>
            <a:ext cx="8871480" cy="5948640"/>
            <a:chOff x="149040" y="750960"/>
            <a:chExt cx="8871480" cy="5948640"/>
          </a:xfrm>
        </p:grpSpPr>
        <p:grpSp>
          <p:nvGrpSpPr>
            <p:cNvPr id="123" name="Group 19"/>
            <p:cNvGrpSpPr/>
            <p:nvPr/>
          </p:nvGrpSpPr>
          <p:grpSpPr>
            <a:xfrm>
              <a:off x="149040" y="1433520"/>
              <a:ext cx="8871480" cy="5266080"/>
              <a:chOff x="149040" y="1433520"/>
              <a:chExt cx="8871480" cy="5266080"/>
            </a:xfrm>
          </p:grpSpPr>
          <p:sp>
            <p:nvSpPr>
              <p:cNvPr id="124" name="Rectangle 7"/>
              <p:cNvSpPr/>
              <p:nvPr/>
            </p:nvSpPr>
            <p:spPr>
              <a:xfrm>
                <a:off x="149040" y="1433520"/>
                <a:ext cx="8871480" cy="5266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49040" y="2213280"/>
                <a:ext cx="8871480" cy="360"/>
                <a:chOff x="149040" y="2213280"/>
                <a:chExt cx="8871480" cy="360"/>
              </a:xfrm>
            </p:grpSpPr>
            <p:sp>
              <p:nvSpPr>
                <p:cNvPr id="126" name="Line 8"/>
                <p:cNvSpPr/>
                <p:nvPr/>
              </p:nvSpPr>
              <p:spPr>
                <a:xfrm>
                  <a:off x="149040" y="22132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 txBox="1"/>
                <p:nvPr/>
              </p:nvSpPr>
              <p:spPr>
                <a:xfrm>
                  <a:off x="149040" y="22132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49040" y="3481200"/>
                <a:ext cx="8871480" cy="360"/>
                <a:chOff x="149040" y="3481200"/>
                <a:chExt cx="8871480" cy="360"/>
              </a:xfrm>
            </p:grpSpPr>
            <p:sp>
              <p:nvSpPr>
                <p:cNvPr id="129" name="Line 9"/>
                <p:cNvSpPr/>
                <p:nvPr/>
              </p:nvSpPr>
              <p:spPr>
                <a:xfrm>
                  <a:off x="149040" y="348120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149040" y="348120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49040" y="4749480"/>
                <a:ext cx="8871480" cy="360"/>
                <a:chOff x="149040" y="4749480"/>
                <a:chExt cx="8871480" cy="360"/>
              </a:xfrm>
            </p:grpSpPr>
            <p:sp>
              <p:nvSpPr>
                <p:cNvPr id="132" name="Line 10"/>
                <p:cNvSpPr/>
                <p:nvPr/>
              </p:nvSpPr>
              <p:spPr>
                <a:xfrm>
                  <a:off x="149040" y="47494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149040" y="47494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49040" y="6016680"/>
                <a:ext cx="8871480" cy="360"/>
                <a:chOff x="149040" y="6016680"/>
                <a:chExt cx="8871480" cy="360"/>
              </a:xfrm>
            </p:grpSpPr>
            <p:sp>
              <p:nvSpPr>
                <p:cNvPr id="135" name="Line 11"/>
                <p:cNvSpPr/>
                <p:nvPr/>
              </p:nvSpPr>
              <p:spPr>
                <a:xfrm>
                  <a:off x="149040" y="6016680"/>
                  <a:ext cx="887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149040" y="6016680"/>
                  <a:ext cx="887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49040" y="2213280"/>
                <a:ext cx="360" cy="4485960"/>
                <a:chOff x="2849040" y="2213280"/>
                <a:chExt cx="360" cy="4485960"/>
              </a:xfrm>
            </p:grpSpPr>
            <p:sp>
              <p:nvSpPr>
                <p:cNvPr id="138" name="Line 13"/>
                <p:cNvSpPr/>
                <p:nvPr/>
              </p:nvSpPr>
              <p:spPr>
                <a:xfrm>
                  <a:off x="2849040" y="2213280"/>
                  <a:ext cx="0" cy="448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849040" y="2213280"/>
                  <a:ext cx="360" cy="44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691640" y="1433520"/>
                <a:ext cx="360" cy="779760"/>
                <a:chOff x="1691640" y="1433520"/>
                <a:chExt cx="360" cy="779760"/>
              </a:xfrm>
            </p:grpSpPr>
            <p:sp>
              <p:nvSpPr>
                <p:cNvPr id="141" name="Line 14"/>
                <p:cNvSpPr/>
                <p:nvPr/>
              </p:nvSpPr>
              <p:spPr>
                <a:xfrm>
                  <a:off x="169164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169164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849040" y="1433520"/>
                <a:ext cx="360" cy="779760"/>
                <a:chOff x="2849040" y="1433520"/>
                <a:chExt cx="360" cy="779760"/>
              </a:xfrm>
            </p:grpSpPr>
            <p:sp>
              <p:nvSpPr>
                <p:cNvPr id="144" name="Line 15"/>
                <p:cNvSpPr/>
                <p:nvPr/>
              </p:nvSpPr>
              <p:spPr>
                <a:xfrm>
                  <a:off x="284904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284904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134960" y="1433520"/>
                <a:ext cx="360" cy="779760"/>
                <a:chOff x="4134960" y="1433520"/>
                <a:chExt cx="360" cy="779760"/>
              </a:xfrm>
            </p:grpSpPr>
            <p:sp>
              <p:nvSpPr>
                <p:cNvPr id="147" name="Line 16"/>
                <p:cNvSpPr/>
                <p:nvPr/>
              </p:nvSpPr>
              <p:spPr>
                <a:xfrm>
                  <a:off x="413496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413496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420160" y="1433520"/>
                <a:ext cx="360" cy="779760"/>
                <a:chOff x="5420160" y="1433520"/>
                <a:chExt cx="360" cy="779760"/>
              </a:xfrm>
            </p:grpSpPr>
            <p:sp>
              <p:nvSpPr>
                <p:cNvPr id="150" name="Line 17"/>
                <p:cNvSpPr/>
                <p:nvPr/>
              </p:nvSpPr>
              <p:spPr>
                <a:xfrm>
                  <a:off x="542016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542016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06080" y="1433520"/>
                <a:ext cx="360" cy="779760"/>
                <a:chOff x="6706080" y="1433520"/>
                <a:chExt cx="360" cy="779760"/>
              </a:xfrm>
            </p:grpSpPr>
            <p:sp>
              <p:nvSpPr>
                <p:cNvPr id="153" name="Line 18"/>
                <p:cNvSpPr/>
                <p:nvPr/>
              </p:nvSpPr>
              <p:spPr>
                <a:xfrm>
                  <a:off x="6706080" y="1433520"/>
                  <a:ext cx="0" cy="7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6706080" y="1433520"/>
                  <a:ext cx="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 Box 4"/>
            <p:cNvSpPr/>
            <p:nvPr/>
          </p:nvSpPr>
          <p:spPr>
            <a:xfrm>
              <a:off x="3099960" y="1433520"/>
              <a:ext cx="1826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调查　　　调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时间　　　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149040" y="2213640"/>
              <a:ext cx="27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找到的家乡民居照片（图片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207720" y="153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调查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149040" y="3481920"/>
              <a:ext cx="28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了解的家乡文化（艺术品、歌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534960" y="6094800"/>
              <a:ext cx="21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374040" y="5042520"/>
              <a:ext cx="22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喜欢吃的家乡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4"/>
            <p:cNvSpPr/>
            <p:nvPr/>
          </p:nvSpPr>
          <p:spPr>
            <a:xfrm>
              <a:off x="2862360" y="75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的调查报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324000" y="115920"/>
            <a:ext cx="30859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家乡的风光美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877080" y="1341360"/>
            <a:ext cx="45864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get?name=T1gpWABQEC1RCvBVdK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get?name=T1fFdoBTYQ1RCvBVdK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539640" y="33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额尔古纳牧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get?name=T1iwh1B4Vg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get?name=T1e6qvByd7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get?name=T1FPVBBsxI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3b1fa5144020a401038c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WordArt 7" descr=""/>
          <p:cNvPicPr/>
          <p:nvPr/>
        </p:nvPicPr>
        <p:blipFill>
          <a:blip r:embed="rId2"/>
          <a:stretch/>
        </p:blipFill>
        <p:spPr>
          <a:xfrm>
            <a:off x="130320" y="1670040"/>
            <a:ext cx="82040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ef35608cb051f50eb31bba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484360" y="692280"/>
            <a:ext cx="5832720" cy="57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家乡有哪些风景名胜？让我们把他们写出来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123"/>
          <p:cNvPicPr/>
          <p:nvPr/>
        </p:nvPicPr>
        <p:blipFill>
          <a:blip r:embed="rId3"/>
          <a:stretch/>
        </p:blipFill>
        <p:spPr>
          <a:xfrm>
            <a:off x="1476360" y="1844640"/>
            <a:ext cx="7272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>
            <a:off x="1908000" y="3213000"/>
            <a:ext cx="1657440" cy="936720"/>
          </a:xfrm>
          <a:prstGeom prst="cloudCallout">
            <a:avLst>
              <a:gd name="adj1" fmla="val -27490"/>
              <a:gd name="adj2" fmla="val 8220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家乡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"/>
          <p:cNvPicPr/>
          <p:nvPr/>
        </p:nvPicPr>
        <p:blipFill>
          <a:blip r:embed="rId4"/>
          <a:stretch/>
        </p:blipFill>
        <p:spPr>
          <a:xfrm>
            <a:off x="1547640" y="189000"/>
            <a:ext cx="93852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W020080128484351603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09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3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